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8ABF-75B0-46DD-ACE8-5C2EDC2EC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A4FF-C5BB-4398-A6E1-B61B5101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BD7A-FACA-4774-B91D-E548C16C9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BDD5-1763-4CFD-B026-381BFBF92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385F-8A28-4338-9D2E-78D558854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8562-F6AD-4E1F-A36D-09101E66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212DE-1C32-4064-8A7A-1C338680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C404-4D9C-4A36-9D10-54033DAA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5CBF-B476-4A1B-B839-233A1E8C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7319-3FE1-40E0-BE92-89D3C24C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899C-6242-44C7-AFB8-6E005C27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23E2-2961-4ED2-8A9B-2F245234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386C-F13F-400B-ADFF-DE714517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24C8-BC49-41A7-8A52-E7D1FE62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8354-3F8A-4DFF-97F1-F7C61686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0040-1CA0-4D88-B9B3-BD41B5D1D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5CDF-DF06-43D5-9F98-EEE630850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CE2B-503B-464F-BAE5-E6B416BA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F51D-2841-4A22-B8CC-011512A5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1AFE-9BF3-4331-AF6E-BBF09559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48C8-A7D4-44F2-9953-568582E1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A9AC-D0A8-4ECC-A346-941CE8B7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82ED-9860-41DA-92F1-19B3AABC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FD14-D1B5-4DAD-925E-A0C8338B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c4"/>
            </a:gs>
            <a:gs pos="100000">
              <a:srgbClr val="e2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8D12-FC8E-443B-B4C7-E2BB42259452}" type="slidenum"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c4"/>
            </a:gs>
            <a:gs pos="100000">
              <a:srgbClr val="e2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7CC2-8B80-43BF-9BF2-5A034B2BBD6C}" type="slidenum"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6.xml"/><Relationship Id="rId3" Type="http://schemas.openxmlformats.org/officeDocument/2006/relationships/slide" Target="slide21.xml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c4"/>
            </a:gs>
            <a:gs pos="100000">
              <a:srgbClr val="e2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655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295280" y="1893960"/>
            <a:ext cx="6629400" cy="252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-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第四章  串</a:t>
            </a:r>
            <a:endParaRPr b="0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c4"/>
            </a:gs>
            <a:gs pos="100000">
              <a:srgbClr val="e2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839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     </a:t>
            </a:r>
            <a:r>
              <a:rPr b="1" lang="zh-CN" sz="4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StrCompare (S, T)</a:t>
            </a:r>
            <a:br>
              <a:rPr sz="4400"/>
            </a:br>
            <a:r>
              <a:rPr b="1" lang="zh-CN" sz="4400" spc="-1" strike="noStrike">
                <a:solidFill>
                  <a:srgbClr val="c23a5e"/>
                </a:solidFill>
                <a:latin typeface="Times New Roman"/>
                <a:ea typeface="楷体_GB2312"/>
              </a:rPr>
              <a:t>初始条件：</a:t>
            </a:r>
            <a:r>
              <a:rPr b="0" lang="zh-CN" sz="40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串 </a:t>
            </a:r>
            <a:r>
              <a:rPr b="0" lang="zh-CN" sz="40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S </a:t>
            </a:r>
            <a:r>
              <a:rPr b="0" lang="zh-CN" sz="40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和 </a:t>
            </a:r>
            <a:r>
              <a:rPr b="0" lang="zh-CN" sz="40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T </a:t>
            </a:r>
            <a:r>
              <a:rPr b="0" lang="zh-CN" sz="40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存在</a:t>
            </a:r>
            <a:r>
              <a:rPr b="0" lang="zh-CN" sz="44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。</a:t>
            </a:r>
            <a:br>
              <a:rPr sz="4400"/>
            </a:br>
            <a:r>
              <a:rPr b="1" lang="zh-CN" sz="4400" spc="-1" strike="noStrike">
                <a:solidFill>
                  <a:srgbClr val="c23a5e"/>
                </a:solidFill>
                <a:latin typeface="Times New Roman"/>
                <a:ea typeface="楷体_GB2312"/>
              </a:rPr>
              <a:t>操作结果：</a:t>
            </a:r>
            <a:r>
              <a:rPr b="0" lang="zh-CN" sz="40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若</a:t>
            </a:r>
            <a:r>
              <a:rPr b="0" lang="zh-CN" sz="40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S </a:t>
            </a:r>
            <a:r>
              <a:rPr b="0" lang="zh-CN" sz="4000" spc="-1" strike="noStrike">
                <a:solidFill>
                  <a:srgbClr val="406649"/>
                </a:solidFill>
                <a:latin typeface="Symbol"/>
                <a:ea typeface="Symbol"/>
              </a:rPr>
              <a:t></a:t>
            </a:r>
            <a:r>
              <a:rPr b="0" lang="zh-CN" sz="40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 T</a:t>
            </a:r>
            <a:r>
              <a:rPr b="0" lang="zh-CN" sz="40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，则返回值 </a:t>
            </a:r>
            <a:r>
              <a:rPr b="0" lang="zh-CN" sz="4000" spc="-1" strike="noStrike">
                <a:solidFill>
                  <a:srgbClr val="406649"/>
                </a:solidFill>
                <a:latin typeface="Symbol"/>
                <a:ea typeface="Symbol"/>
              </a:rPr>
              <a:t></a:t>
            </a:r>
            <a:r>
              <a:rPr b="0" lang="zh-CN" sz="40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0</a:t>
            </a:r>
            <a:r>
              <a:rPr b="0" lang="zh-CN" sz="40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； </a:t>
            </a:r>
            <a:br>
              <a:rPr sz="4000"/>
            </a:br>
            <a:r>
              <a:rPr b="0" lang="zh-CN" sz="40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                      若</a:t>
            </a:r>
            <a:r>
              <a:rPr b="0" lang="zh-CN" sz="40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S </a:t>
            </a:r>
            <a:r>
              <a:rPr b="0" lang="zh-CN" sz="4000" spc="-1" strike="noStrike">
                <a:solidFill>
                  <a:srgbClr val="406649"/>
                </a:solidFill>
                <a:latin typeface="Symbol"/>
                <a:ea typeface="Symbol"/>
              </a:rPr>
              <a:t></a:t>
            </a:r>
            <a:r>
              <a:rPr b="0" lang="zh-CN" sz="40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 T</a:t>
            </a:r>
            <a:r>
              <a:rPr b="0" lang="zh-CN" sz="40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，则返回值 </a:t>
            </a:r>
            <a:r>
              <a:rPr b="0" lang="zh-CN" sz="4000" spc="-1" strike="noStrike">
                <a:solidFill>
                  <a:srgbClr val="406649"/>
                </a:solidFill>
                <a:latin typeface="Symbol"/>
                <a:ea typeface="Symbol"/>
              </a:rPr>
              <a:t></a:t>
            </a:r>
            <a:r>
              <a:rPr b="0" lang="zh-CN" sz="40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0</a:t>
            </a:r>
            <a:r>
              <a:rPr b="0" lang="zh-CN" sz="40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； </a:t>
            </a:r>
            <a:br>
              <a:rPr sz="4000"/>
            </a:br>
            <a:r>
              <a:rPr b="0" lang="zh-CN" sz="40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                      若</a:t>
            </a:r>
            <a:r>
              <a:rPr b="0" lang="zh-CN" sz="40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S </a:t>
            </a:r>
            <a:r>
              <a:rPr b="0" lang="zh-CN" sz="4000" spc="-1" strike="noStrike">
                <a:solidFill>
                  <a:srgbClr val="406649"/>
                </a:solidFill>
                <a:latin typeface="Symbol"/>
                <a:ea typeface="Symbol"/>
              </a:rPr>
              <a:t></a:t>
            </a:r>
            <a:r>
              <a:rPr b="0" lang="zh-CN" sz="40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 T</a:t>
            </a:r>
            <a:r>
              <a:rPr b="0" lang="zh-CN" sz="40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，则返回值 </a:t>
            </a:r>
            <a:r>
              <a:rPr b="0" lang="zh-CN" sz="4000" spc="-1" strike="noStrike">
                <a:solidFill>
                  <a:srgbClr val="406649"/>
                </a:solidFill>
                <a:latin typeface="Symbol"/>
                <a:ea typeface="Symbol"/>
              </a:rPr>
              <a:t></a:t>
            </a:r>
            <a:r>
              <a:rPr b="0" lang="zh-CN" sz="40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0</a:t>
            </a:r>
            <a:r>
              <a:rPr b="0" lang="zh-CN" sz="40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24600" y="4762440"/>
            <a:ext cx="69357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560ab"/>
                </a:solidFill>
                <a:latin typeface="Times New Roman"/>
              </a:rPr>
              <a:t>例如：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</a:rPr>
              <a:t>StrCompare(</a:t>
            </a:r>
            <a:r>
              <a:rPr b="0" lang="zh-CN" sz="36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</a:rPr>
              <a:t>data</a:t>
            </a:r>
            <a:r>
              <a:rPr b="0" lang="zh-CN" sz="36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</a:rPr>
              <a:t>, </a:t>
            </a:r>
            <a:r>
              <a:rPr b="0" lang="zh-CN" sz="36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</a:rPr>
              <a:t>state</a:t>
            </a:r>
            <a:r>
              <a:rPr b="0" lang="zh-CN" sz="36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</a:rPr>
              <a:t>) &lt; 0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</a:rPr>
              <a:t>           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</a:rPr>
              <a:t>StrCompare(</a:t>
            </a:r>
            <a:r>
              <a:rPr b="0" lang="zh-CN" sz="36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</a:rPr>
              <a:t>cat</a:t>
            </a:r>
            <a:r>
              <a:rPr b="0" lang="zh-CN" sz="36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</a:rPr>
              <a:t>, </a:t>
            </a:r>
            <a:r>
              <a:rPr b="0" lang="zh-CN" sz="36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</a:rPr>
              <a:t>case</a:t>
            </a:r>
            <a:r>
              <a:rPr b="0" lang="zh-CN" sz="36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</a:rPr>
              <a:t>) &gt; 0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156960 w 381240"/>
              <a:gd name="textAreaRight" fmla="*/ 224280 w 38124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c4"/>
            </a:gs>
            <a:gs pos="100000">
              <a:srgbClr val="e2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       </a:t>
            </a:r>
            <a:r>
              <a:rPr b="1" lang="zh-CN" sz="4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StrLength </a:t>
            </a:r>
            <a:r>
              <a:rPr b="0" lang="zh-CN" sz="4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(S)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0" lang="zh-CN" sz="4400" spc="-1" strike="noStrike">
                <a:solidFill>
                  <a:srgbClr val="c23a5e"/>
                </a:solidFill>
                <a:latin typeface="Times New Roman"/>
                <a:ea typeface="楷体_GB2312"/>
              </a:rPr>
              <a:t>初始条件：</a:t>
            </a:r>
            <a:r>
              <a:rPr b="0" lang="zh-CN" sz="44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串 </a:t>
            </a:r>
            <a:r>
              <a:rPr b="0" lang="zh-CN" sz="44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S </a:t>
            </a:r>
            <a:r>
              <a:rPr b="0" lang="zh-CN" sz="44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存在。</a:t>
            </a:r>
            <a:br>
              <a:rPr sz="4400"/>
            </a:b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0" lang="zh-CN" sz="4400" spc="-1" strike="noStrike">
                <a:solidFill>
                  <a:srgbClr val="c23a5e"/>
                </a:solidFill>
                <a:latin typeface="Times New Roman"/>
                <a:ea typeface="楷体_GB2312"/>
              </a:rPr>
              <a:t>操作结果：</a:t>
            </a:r>
            <a:r>
              <a:rPr b="0" lang="zh-CN" sz="44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返回 </a:t>
            </a:r>
            <a:r>
              <a:rPr b="0" lang="zh-CN" sz="44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S </a:t>
            </a:r>
            <a:r>
              <a:rPr b="0" lang="zh-CN" sz="44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的元素个数，</a:t>
            </a:r>
            <a:br>
              <a:rPr sz="4400"/>
            </a:br>
            <a:r>
              <a:rPr b="0" lang="zh-CN" sz="44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                       称为串的长度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156960 w 381240"/>
              <a:gd name="textAreaRight" fmla="*/ 224280 w 38124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c4"/>
            </a:gs>
            <a:gs pos="100000">
              <a:srgbClr val="e2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  </a:t>
            </a:r>
            <a:r>
              <a:rPr b="1" lang="zh-CN" sz="4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Concat </a:t>
            </a:r>
            <a:r>
              <a:rPr b="0" lang="zh-CN" sz="4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(</a:t>
            </a:r>
            <a:r>
              <a:rPr b="1" lang="zh-CN" sz="4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&amp;</a:t>
            </a:r>
            <a:r>
              <a:rPr b="0" lang="zh-CN" sz="4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T, S1, S2)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0" lang="zh-CN" sz="4400" spc="-1" strike="noStrike">
                <a:solidFill>
                  <a:srgbClr val="c23a5e"/>
                </a:solidFill>
                <a:latin typeface="Times New Roman"/>
                <a:ea typeface="楷体_GB2312"/>
              </a:rPr>
              <a:t>初始条件：</a:t>
            </a:r>
            <a:r>
              <a:rPr b="0" lang="zh-CN" sz="44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串 </a:t>
            </a:r>
            <a:r>
              <a:rPr b="0" lang="zh-CN" sz="44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S1 </a:t>
            </a:r>
            <a:r>
              <a:rPr b="0" lang="zh-CN" sz="44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和 </a:t>
            </a:r>
            <a:r>
              <a:rPr b="0" lang="zh-CN" sz="44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S2 </a:t>
            </a:r>
            <a:r>
              <a:rPr b="0" lang="zh-CN" sz="44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存在。</a:t>
            </a:r>
            <a:br>
              <a:rPr sz="4400"/>
            </a:b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0" lang="zh-CN" sz="4400" spc="-1" strike="noStrike">
                <a:solidFill>
                  <a:srgbClr val="c23a5e"/>
                </a:solidFill>
                <a:latin typeface="Times New Roman"/>
                <a:ea typeface="楷体_GB2312"/>
              </a:rPr>
              <a:t>操作结果：</a:t>
            </a:r>
            <a:r>
              <a:rPr b="0" lang="zh-CN" sz="44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用 </a:t>
            </a:r>
            <a:r>
              <a:rPr b="0" lang="zh-CN" sz="44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T </a:t>
            </a:r>
            <a:r>
              <a:rPr b="0" lang="zh-CN" sz="44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返回由 </a:t>
            </a:r>
            <a:r>
              <a:rPr b="0" lang="zh-CN" sz="44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S1 </a:t>
            </a:r>
            <a:r>
              <a:rPr b="0" lang="zh-CN" sz="44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和 </a:t>
            </a:r>
            <a:r>
              <a:rPr b="0" lang="zh-CN" sz="44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S2</a:t>
            </a:r>
            <a:br>
              <a:rPr sz="4400"/>
            </a:br>
            <a:r>
              <a:rPr b="0" lang="zh-CN" sz="44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                      </a:t>
            </a:r>
            <a:r>
              <a:rPr b="0" lang="zh-CN" sz="44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联接而成的新串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9240" y="4632480"/>
            <a:ext cx="70257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560ab"/>
                </a:solidFill>
                <a:latin typeface="Times New Roman"/>
              </a:rPr>
              <a:t>例如</a:t>
            </a:r>
            <a:r>
              <a:rPr b="0" lang="zh-CN" sz="4000" spc="-1" strike="noStrike">
                <a:solidFill>
                  <a:srgbClr val="1560ab"/>
                </a:solidFill>
                <a:latin typeface="Times New Roman"/>
              </a:rPr>
              <a:t>：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Concate( T, </a:t>
            </a:r>
            <a:r>
              <a:rPr b="0" lang="zh-CN" sz="4000" spc="-1" strike="noStrike">
                <a:solidFill>
                  <a:srgbClr val="000099"/>
                </a:solidFill>
                <a:latin typeface="Symbol"/>
                <a:ea typeface="Symbol"/>
              </a:rPr>
              <a:t>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man</a:t>
            </a:r>
            <a:r>
              <a:rPr b="0" lang="zh-CN" sz="4000" spc="-1" strike="noStrike">
                <a:solidFill>
                  <a:srgbClr val="000099"/>
                </a:solidFill>
                <a:latin typeface="Symbol"/>
                <a:ea typeface="Symbol"/>
              </a:rPr>
              <a:t>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, </a:t>
            </a:r>
            <a:r>
              <a:rPr b="0" lang="zh-CN" sz="4000" spc="-1" strike="noStrike">
                <a:solidFill>
                  <a:srgbClr val="000099"/>
                </a:solidFill>
                <a:latin typeface="Symbol"/>
                <a:ea typeface="Symbol"/>
              </a:rPr>
              <a:t>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kind</a:t>
            </a:r>
            <a:r>
              <a:rPr b="0" lang="zh-CN" sz="4000" spc="-1" strike="noStrike">
                <a:solidFill>
                  <a:srgbClr val="000099"/>
                </a:solidFill>
                <a:latin typeface="Symbol"/>
                <a:ea typeface="Symbol"/>
              </a:rPr>
              <a:t>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求得 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T = </a:t>
            </a:r>
            <a:r>
              <a:rPr b="0" lang="zh-CN" sz="4000" spc="-1" strike="noStrike">
                <a:solidFill>
                  <a:srgbClr val="000099"/>
                </a:solidFill>
                <a:latin typeface="Symbol"/>
                <a:ea typeface="Symbol"/>
              </a:rPr>
              <a:t>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mankind</a:t>
            </a:r>
            <a:r>
              <a:rPr b="0" lang="zh-CN" sz="4000" spc="-1" strike="noStrike">
                <a:solidFill>
                  <a:srgbClr val="000099"/>
                </a:solidFill>
                <a:latin typeface="Symbol"/>
                <a:ea typeface="Symbol"/>
              </a:rPr>
              <a:t>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156960 w 381240"/>
              <a:gd name="textAreaRight" fmla="*/ 224280 w 38124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c4"/>
            </a:gs>
            <a:gs pos="100000">
              <a:srgbClr val="e2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-134280" y="533520"/>
            <a:ext cx="9749160" cy="56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SubString </a:t>
            </a:r>
            <a:r>
              <a:rPr b="0" lang="zh-CN" sz="4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(</a:t>
            </a:r>
            <a:r>
              <a:rPr b="1" lang="zh-CN" sz="4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&amp;</a:t>
            </a:r>
            <a:r>
              <a:rPr b="0" lang="zh-CN" sz="4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Sub, S, pos, len)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23a5e"/>
                </a:solidFill>
                <a:latin typeface="Times New Roman"/>
                <a:ea typeface="楷体_GB2312"/>
              </a:rPr>
              <a:t>初始条件：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23a5e"/>
                </a:solidFill>
                <a:latin typeface="Times New Roman"/>
                <a:ea typeface="楷体_GB2312"/>
              </a:rPr>
              <a:t>操作结果：       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    </a:t>
            </a:r>
            <a:r>
              <a:rPr b="0" lang="zh-CN" sz="36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用 </a:t>
            </a:r>
            <a:r>
              <a:rPr b="0" lang="zh-CN" sz="36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Sub </a:t>
            </a:r>
            <a:r>
              <a:rPr b="0" lang="zh-CN" sz="36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返回串 </a:t>
            </a:r>
            <a:r>
              <a:rPr b="0" lang="zh-CN" sz="36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S </a:t>
            </a:r>
            <a:r>
              <a:rPr b="0" lang="zh-CN" sz="36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的第 </a:t>
            </a:r>
            <a:r>
              <a:rPr b="0" lang="zh-CN" sz="36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pos </a:t>
            </a:r>
            <a:r>
              <a:rPr b="0" lang="zh-CN" sz="36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个字符起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            </a:t>
            </a:r>
            <a:r>
              <a:rPr b="0" lang="zh-CN" sz="36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长度为 </a:t>
            </a:r>
            <a:r>
              <a:rPr b="0" lang="zh-CN" sz="36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len </a:t>
            </a:r>
            <a:r>
              <a:rPr b="0" lang="zh-CN" sz="36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的子串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05120" y="2419200"/>
            <a:ext cx="7010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串 </a:t>
            </a:r>
            <a:r>
              <a:rPr b="0" lang="zh-CN" sz="36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S </a:t>
            </a:r>
            <a:r>
              <a:rPr b="0" lang="zh-CN" sz="36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存在，</a:t>
            </a:r>
            <a:r>
              <a:rPr b="1" lang="zh-CN" sz="36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1≤pos≤StrLength(S)</a:t>
            </a:r>
            <a:r>
              <a:rPr b="0" lang="zh-CN" sz="36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           </a:t>
            </a:r>
            <a:r>
              <a:rPr b="0" lang="zh-CN" sz="36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且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0</a:t>
            </a:r>
            <a:r>
              <a:rPr b="1" lang="zh-CN" sz="36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≤len≤StrLength(S)-pos+1</a:t>
            </a:r>
            <a:r>
              <a:rPr b="0" lang="zh-CN" sz="36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c4"/>
            </a:gs>
            <a:gs pos="100000">
              <a:srgbClr val="e2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57120" y="914400"/>
            <a:ext cx="8288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560ab"/>
                </a:solidFill>
                <a:latin typeface="Times New Roman"/>
              </a:rPr>
              <a:t>例如：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560ab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SubString( sub, </a:t>
            </a:r>
            <a:r>
              <a:rPr b="0" lang="zh-CN" sz="4000" spc="-1" strike="noStrike">
                <a:solidFill>
                  <a:srgbClr val="000099"/>
                </a:solidFill>
                <a:latin typeface="Symbol"/>
                <a:ea typeface="Symbol"/>
              </a:rPr>
              <a:t>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commander </a:t>
            </a:r>
            <a:r>
              <a:rPr b="0" lang="zh-CN" sz="4000" spc="-1" strike="noStrike">
                <a:solidFill>
                  <a:srgbClr val="000099"/>
                </a:solidFill>
                <a:latin typeface="Symbol"/>
                <a:ea typeface="Symbol"/>
              </a:rPr>
              <a:t>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, 4, 3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58360" y="228600"/>
            <a:ext cx="434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子串为“串”中的一个字符子序列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2514600"/>
            <a:ext cx="8153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求得 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sub = </a:t>
            </a:r>
            <a:r>
              <a:rPr b="0" lang="zh-CN" sz="4000" spc="-1" strike="noStrike">
                <a:solidFill>
                  <a:srgbClr val="000099"/>
                </a:solidFill>
                <a:latin typeface="Symbol"/>
                <a:ea typeface="Symbol"/>
              </a:rPr>
              <a:t>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man </a:t>
            </a:r>
            <a:r>
              <a:rPr b="0" lang="zh-CN" sz="4000" spc="-1" strike="noStrike">
                <a:solidFill>
                  <a:srgbClr val="000099"/>
                </a:solidFill>
                <a:latin typeface="Symbol"/>
                <a:ea typeface="Symbol"/>
              </a:rPr>
              <a:t>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 ;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3352680"/>
            <a:ext cx="8458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SubString( sub, </a:t>
            </a:r>
            <a:r>
              <a:rPr b="0" lang="zh-CN" sz="4000" spc="-1" strike="noStrike">
                <a:solidFill>
                  <a:srgbClr val="000099"/>
                </a:solidFill>
                <a:latin typeface="Symbol"/>
                <a:ea typeface="Symbol"/>
              </a:rPr>
              <a:t>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commander </a:t>
            </a:r>
            <a:r>
              <a:rPr b="0" lang="zh-CN" sz="4000" spc="-1" strike="noStrike">
                <a:solidFill>
                  <a:srgbClr val="000099"/>
                </a:solidFill>
                <a:latin typeface="Symbol"/>
                <a:ea typeface="Symbol"/>
              </a:rPr>
              <a:t>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 , 1, 9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5013360"/>
            <a:ext cx="7772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SubString( sub, </a:t>
            </a:r>
            <a:r>
              <a:rPr b="0" lang="zh-CN" sz="4000" spc="-1" strike="noStrike">
                <a:solidFill>
                  <a:srgbClr val="000099"/>
                </a:solidFill>
                <a:latin typeface="Symbol"/>
                <a:ea typeface="Symbol"/>
              </a:rPr>
              <a:t>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commander </a:t>
            </a:r>
            <a:r>
              <a:rPr b="0" lang="zh-CN" sz="4000" spc="-1" strike="noStrike">
                <a:solidFill>
                  <a:srgbClr val="000099"/>
                </a:solidFill>
                <a:latin typeface="Symbol"/>
                <a:ea typeface="Symbol"/>
              </a:rPr>
              <a:t>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, 9, 1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1760" y="5851440"/>
            <a:ext cx="3194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求得 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sub = </a:t>
            </a:r>
            <a:r>
              <a:rPr b="0" lang="zh-CN" sz="4000" spc="-1" strike="noStrike">
                <a:solidFill>
                  <a:srgbClr val="000099"/>
                </a:solidFill>
                <a:latin typeface="Symbol"/>
                <a:ea typeface="Symbol"/>
              </a:rPr>
              <a:t>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r </a:t>
            </a:r>
            <a:r>
              <a:rPr b="0" lang="zh-CN" sz="4000" spc="-1" strike="noStrike">
                <a:solidFill>
                  <a:srgbClr val="000099"/>
                </a:solidFill>
                <a:latin typeface="Symbol"/>
                <a:ea typeface="Symbol"/>
              </a:rPr>
              <a:t>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1040" y="4191120"/>
            <a:ext cx="5424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求得 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sub = </a:t>
            </a:r>
            <a:r>
              <a:rPr b="0" lang="zh-CN" sz="4000" spc="-1" strike="noStrike">
                <a:solidFill>
                  <a:srgbClr val="000099"/>
                </a:solidFill>
                <a:latin typeface="Symbol"/>
                <a:ea typeface="Symbol"/>
              </a:rPr>
              <a:t>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commander </a:t>
            </a:r>
            <a:r>
              <a:rPr b="0" lang="zh-CN" sz="4000" spc="-1" strike="noStrike">
                <a:solidFill>
                  <a:srgbClr val="000099"/>
                </a:solidFill>
                <a:latin typeface="Symbol"/>
                <a:ea typeface="Symbol"/>
              </a:rPr>
              <a:t>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c4"/>
            </a:gs>
            <a:gs pos="100000">
              <a:srgbClr val="e2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44760" y="279360"/>
            <a:ext cx="726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560ab"/>
                </a:solidFill>
                <a:latin typeface="Times New Roman"/>
              </a:rPr>
              <a:t>SubString(sub, </a:t>
            </a:r>
            <a:r>
              <a:rPr b="0" lang="zh-CN" sz="4000" spc="-1" strike="noStrike">
                <a:solidFill>
                  <a:srgbClr val="1560ab"/>
                </a:solidFill>
                <a:latin typeface="Symbol"/>
                <a:ea typeface="Symbol"/>
              </a:rPr>
              <a:t></a:t>
            </a:r>
            <a:r>
              <a:rPr b="0" lang="zh-CN" sz="4000" spc="-1" strike="noStrike">
                <a:solidFill>
                  <a:srgbClr val="1560ab"/>
                </a:solidFill>
                <a:latin typeface="Times New Roman"/>
              </a:rPr>
              <a:t>commander</a:t>
            </a:r>
            <a:r>
              <a:rPr b="0" lang="zh-CN" sz="4000" spc="-1" strike="noStrike">
                <a:solidFill>
                  <a:srgbClr val="1560ab"/>
                </a:solidFill>
                <a:latin typeface="Symbol"/>
                <a:ea typeface="Symbol"/>
              </a:rPr>
              <a:t></a:t>
            </a:r>
            <a:r>
              <a:rPr b="0" lang="zh-CN" sz="4000" spc="-1" strike="noStrike">
                <a:solidFill>
                  <a:srgbClr val="1560ab"/>
                </a:solidFill>
                <a:latin typeface="Times New Roman"/>
              </a:rPr>
              <a:t>, 4, 7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560ab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1560ab"/>
                </a:solidFill>
                <a:latin typeface="Times New Roman"/>
              </a:rPr>
              <a:t>sub = ?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3320" y="1797120"/>
            <a:ext cx="7046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560ab"/>
                </a:solidFill>
                <a:latin typeface="Times New Roman"/>
              </a:rPr>
              <a:t>SubString(sub, </a:t>
            </a:r>
            <a:r>
              <a:rPr b="0" lang="zh-CN" sz="4000" spc="-1" strike="noStrike">
                <a:solidFill>
                  <a:srgbClr val="1560ab"/>
                </a:solidFill>
                <a:latin typeface="Symbol"/>
                <a:ea typeface="Symbol"/>
              </a:rPr>
              <a:t></a:t>
            </a:r>
            <a:r>
              <a:rPr b="0" lang="zh-CN" sz="4000" spc="-1" strike="noStrike">
                <a:solidFill>
                  <a:srgbClr val="1560ab"/>
                </a:solidFill>
                <a:latin typeface="Times New Roman"/>
              </a:rPr>
              <a:t>beijing</a:t>
            </a:r>
            <a:r>
              <a:rPr b="0" lang="zh-CN" sz="4000" spc="-1" strike="noStrike">
                <a:solidFill>
                  <a:srgbClr val="1560ab"/>
                </a:solidFill>
                <a:latin typeface="Symbol"/>
                <a:ea typeface="Symbol"/>
              </a:rPr>
              <a:t></a:t>
            </a:r>
            <a:r>
              <a:rPr b="0" lang="zh-CN" sz="4000" spc="-1" strike="noStrike">
                <a:solidFill>
                  <a:srgbClr val="1560ab"/>
                </a:solidFill>
                <a:latin typeface="Times New Roman"/>
              </a:rPr>
              <a:t>, 7, 2) = ?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560ab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1560ab"/>
                </a:solidFill>
                <a:latin typeface="Times New Roman"/>
              </a:rPr>
              <a:t>sub = ?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1080" y="4403880"/>
            <a:ext cx="65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560ab"/>
                </a:solidFill>
                <a:latin typeface="Times New Roman"/>
              </a:rPr>
              <a:t>SubString(</a:t>
            </a:r>
            <a:r>
              <a:rPr b="0" lang="zh-CN" sz="4000" spc="-1" strike="noStrike">
                <a:solidFill>
                  <a:srgbClr val="000099"/>
                </a:solidFill>
                <a:latin typeface="Symbol"/>
                <a:ea typeface="Symbol"/>
              </a:rPr>
              <a:t></a:t>
            </a:r>
            <a:r>
              <a:rPr b="0" lang="zh-CN" sz="4000" spc="-1" strike="noStrike">
                <a:solidFill>
                  <a:srgbClr val="1560ab"/>
                </a:solidFill>
                <a:latin typeface="Times New Roman"/>
              </a:rPr>
              <a:t>student</a:t>
            </a:r>
            <a:r>
              <a:rPr b="0" lang="zh-CN" sz="4000" spc="-1" strike="noStrike">
                <a:solidFill>
                  <a:srgbClr val="000099"/>
                </a:solidFill>
                <a:latin typeface="Symbol"/>
                <a:ea typeface="Symbol"/>
              </a:rPr>
              <a:t></a:t>
            </a:r>
            <a:r>
              <a:rPr b="0" lang="zh-CN" sz="4000" spc="-1" strike="noStrike">
                <a:solidFill>
                  <a:srgbClr val="1560ab"/>
                </a:solidFill>
                <a:latin typeface="Times New Roman"/>
              </a:rPr>
              <a:t>, 5, 0) = </a:t>
            </a:r>
            <a:r>
              <a:rPr b="0" lang="zh-CN" sz="4000" spc="-1" strike="noStrike">
                <a:solidFill>
                  <a:srgbClr val="000099"/>
                </a:solidFill>
                <a:latin typeface="Symbol"/>
                <a:ea typeface="Symbol"/>
              </a:rPr>
              <a:t>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45040" y="3352680"/>
            <a:ext cx="484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起始位置和子串长度之间存在约束关系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90560" y="5410080"/>
            <a:ext cx="430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长度为 </a:t>
            </a:r>
            <a:r>
              <a:rPr b="1" lang="zh-CN" sz="36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0 </a:t>
            </a:r>
            <a:r>
              <a:rPr b="1" lang="zh-CN" sz="36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的子串为“合法”串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33520" y="3276720"/>
            <a:ext cx="198360" cy="1857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63400" y="5334120"/>
            <a:ext cx="198720" cy="1857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156960 w 381240"/>
              <a:gd name="textAreaRight" fmla="*/ 224280 w 38124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c4"/>
            </a:gs>
            <a:gs pos="100000">
              <a:srgbClr val="e2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5335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       </a:t>
            </a:r>
            <a:r>
              <a:rPr b="1" lang="zh-CN" sz="4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Index </a:t>
            </a:r>
            <a:r>
              <a:rPr b="0" lang="zh-CN" sz="4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(S, T, pos)</a:t>
            </a:r>
            <a:br>
              <a:rPr sz="4400"/>
            </a:br>
            <a:r>
              <a:rPr b="1" lang="zh-CN" sz="4000" spc="-1" strike="noStrike">
                <a:solidFill>
                  <a:srgbClr val="c23a5e"/>
                </a:solidFill>
                <a:latin typeface="Times New Roman"/>
                <a:ea typeface="楷体_GB2312"/>
              </a:rPr>
              <a:t>初始</a:t>
            </a:r>
            <a:r>
              <a:rPr b="1" lang="zh-CN" sz="3600" spc="-1" strike="noStrike">
                <a:solidFill>
                  <a:srgbClr val="c23a5e"/>
                </a:solidFill>
                <a:latin typeface="Times New Roman"/>
                <a:ea typeface="楷体_GB2312"/>
              </a:rPr>
              <a:t>条件：</a:t>
            </a:r>
            <a:r>
              <a:rPr b="0" lang="zh-CN" sz="36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串</a:t>
            </a:r>
            <a:r>
              <a:rPr b="0" lang="zh-CN" sz="36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S</a:t>
            </a:r>
            <a:r>
              <a:rPr b="0" lang="zh-CN" sz="36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和</a:t>
            </a:r>
            <a:r>
              <a:rPr b="0" lang="zh-CN" sz="36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T</a:t>
            </a:r>
            <a:r>
              <a:rPr b="0" lang="zh-CN" sz="36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存在，</a:t>
            </a:r>
            <a:r>
              <a:rPr b="0" lang="zh-CN" sz="36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T</a:t>
            </a:r>
            <a:r>
              <a:rPr b="0" lang="zh-CN" sz="36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是非空串，</a:t>
            </a:r>
            <a:br>
              <a:rPr sz="3600"/>
            </a:br>
            <a:r>
              <a:rPr b="0" lang="zh-CN" sz="36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                      </a:t>
            </a:r>
            <a:r>
              <a:rPr b="0" lang="zh-CN" sz="36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1≤pos≤StrLength(S)</a:t>
            </a:r>
            <a:r>
              <a:rPr b="0" lang="zh-CN" sz="36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。</a:t>
            </a:r>
            <a:br>
              <a:rPr sz="3600"/>
            </a:br>
            <a:r>
              <a:rPr b="1" lang="zh-CN" sz="3600" spc="-1" strike="noStrike">
                <a:solidFill>
                  <a:srgbClr val="c23a5e"/>
                </a:solidFill>
                <a:latin typeface="Times New Roman"/>
                <a:ea typeface="楷体_GB2312"/>
              </a:rPr>
              <a:t>操作结果：</a:t>
            </a:r>
            <a:r>
              <a:rPr b="0" lang="zh-CN" sz="3600" spc="-1" strike="noStrike">
                <a:solidFill>
                  <a:srgbClr val="c23a5e"/>
                </a:solidFill>
                <a:latin typeface="Times New Roman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若主串 </a:t>
            </a:r>
            <a:r>
              <a:rPr b="0" lang="zh-CN" sz="36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S </a:t>
            </a:r>
            <a:r>
              <a:rPr b="0" lang="zh-CN" sz="36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中存在和串 </a:t>
            </a:r>
            <a:r>
              <a:rPr b="0" lang="zh-CN" sz="36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T </a:t>
            </a:r>
            <a:r>
              <a:rPr b="0" lang="zh-CN" sz="36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值相同</a:t>
            </a:r>
            <a:br>
              <a:rPr sz="3600"/>
            </a:br>
            <a:r>
              <a:rPr b="0" lang="zh-CN" sz="36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            的子串</a:t>
            </a:r>
            <a:r>
              <a:rPr b="0" lang="zh-CN" sz="36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, </a:t>
            </a:r>
            <a:r>
              <a:rPr b="0" lang="zh-CN" sz="36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则返回它在主串 </a:t>
            </a:r>
            <a:r>
              <a:rPr b="0" lang="zh-CN" sz="36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S </a:t>
            </a:r>
            <a:r>
              <a:rPr b="0" lang="zh-CN" sz="36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中第</a:t>
            </a:r>
            <a:r>
              <a:rPr b="0" lang="zh-CN" sz="36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pos</a:t>
            </a:r>
            <a:r>
              <a:rPr b="0" lang="zh-CN" sz="36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个</a:t>
            </a:r>
            <a:br>
              <a:rPr sz="3600"/>
            </a:br>
            <a:r>
              <a:rPr b="0" lang="zh-CN" sz="36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            字符之后第一次出现的位置</a:t>
            </a:r>
            <a:r>
              <a:rPr b="0" lang="zh-CN" sz="36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;</a:t>
            </a:r>
            <a:br>
              <a:rPr sz="3600"/>
            </a:br>
            <a:r>
              <a:rPr b="0" lang="zh-CN" sz="36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            </a:t>
            </a:r>
            <a:r>
              <a:rPr b="0" lang="zh-CN" sz="36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否则函数值为</a:t>
            </a:r>
            <a:r>
              <a:rPr b="0" lang="zh-CN" sz="36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0</a:t>
            </a:r>
            <a:r>
              <a:rPr b="0" lang="zh-CN" sz="36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。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c4"/>
            </a:gs>
            <a:gs pos="100000">
              <a:srgbClr val="e2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66560" y="2422440"/>
            <a:ext cx="792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560ab"/>
                </a:solidFill>
                <a:latin typeface="Times New Roman"/>
              </a:rPr>
              <a:t>假设 </a:t>
            </a:r>
            <a:r>
              <a:rPr b="0" lang="zh-CN" sz="4000" spc="-1" strike="noStrike">
                <a:solidFill>
                  <a:srgbClr val="1560ab"/>
                </a:solidFill>
                <a:latin typeface="Times New Roman"/>
              </a:rPr>
              <a:t>S = </a:t>
            </a:r>
            <a:r>
              <a:rPr b="0" lang="zh-CN" sz="4000" spc="-1" strike="noStrike">
                <a:solidFill>
                  <a:srgbClr val="000099"/>
                </a:solidFill>
                <a:latin typeface="Symbol"/>
                <a:ea typeface="Symbol"/>
              </a:rPr>
              <a:t></a:t>
            </a:r>
            <a:r>
              <a:rPr b="0" lang="zh-CN" sz="4000" spc="-1" strike="noStrike">
                <a:solidFill>
                  <a:srgbClr val="1560ab"/>
                </a:solidFill>
                <a:latin typeface="Times New Roman"/>
              </a:rPr>
              <a:t>abcaabcaaabc </a:t>
            </a:r>
            <a:r>
              <a:rPr b="0" lang="zh-CN" sz="4000" spc="-1" strike="noStrike">
                <a:solidFill>
                  <a:srgbClr val="000099"/>
                </a:solidFill>
                <a:latin typeface="Symbol"/>
                <a:ea typeface="Symbol"/>
              </a:rPr>
              <a:t></a:t>
            </a:r>
            <a:r>
              <a:rPr b="0" lang="zh-CN" sz="4000" spc="-1" strike="noStrike">
                <a:solidFill>
                  <a:srgbClr val="1560ab"/>
                </a:solidFill>
                <a:latin typeface="Times New Roman"/>
              </a:rPr>
              <a:t>,  T = </a:t>
            </a:r>
            <a:r>
              <a:rPr b="0" lang="zh-CN" sz="4000" spc="-1" strike="noStrike">
                <a:solidFill>
                  <a:srgbClr val="000099"/>
                </a:solidFill>
                <a:latin typeface="Symbol"/>
                <a:ea typeface="Symbol"/>
              </a:rPr>
              <a:t></a:t>
            </a:r>
            <a:r>
              <a:rPr b="0" lang="zh-CN" sz="4000" spc="-1" strike="noStrike">
                <a:solidFill>
                  <a:srgbClr val="1560ab"/>
                </a:solidFill>
                <a:latin typeface="Times New Roman"/>
              </a:rPr>
              <a:t>bca </a:t>
            </a:r>
            <a:r>
              <a:rPr b="0" lang="zh-CN" sz="4000" spc="-1" strike="noStrike">
                <a:solidFill>
                  <a:srgbClr val="000099"/>
                </a:solidFill>
                <a:latin typeface="Symbol"/>
                <a:ea typeface="Symbol"/>
              </a:rPr>
              <a:t>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01360" y="3413160"/>
            <a:ext cx="396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560ab"/>
                </a:solidFill>
                <a:latin typeface="Times New Roman"/>
              </a:rPr>
              <a:t>Index(S, T,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1560ab"/>
                </a:solidFill>
                <a:latin typeface="Times New Roman"/>
              </a:rPr>
              <a:t>) = 2;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01360" y="4327560"/>
            <a:ext cx="396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560ab"/>
                </a:solidFill>
                <a:latin typeface="Times New Roman"/>
              </a:rPr>
              <a:t>Index(S, T,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1560ab"/>
                </a:solidFill>
                <a:latin typeface="Times New Roman"/>
              </a:rPr>
              <a:t>) = 6;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09280" y="5241960"/>
            <a:ext cx="396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560ab"/>
                </a:solidFill>
                <a:latin typeface="Times New Roman"/>
              </a:rPr>
              <a:t>Index(S, T,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0" lang="en-US" sz="4000" spc="-1" strike="noStrike">
                <a:solidFill>
                  <a:srgbClr val="1560ab"/>
                </a:solidFill>
                <a:latin typeface="Times New Roman"/>
              </a:rPr>
              <a:t>) = 0;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441360"/>
            <a:ext cx="87631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“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子串在主串中的位置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”意指子串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中的第一个字符在主串中的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位序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156960 w 381240"/>
              <a:gd name="textAreaRight" fmla="*/ 224280 w 38124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c4"/>
            </a:gs>
            <a:gs pos="100000">
              <a:srgbClr val="e2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 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Replace </a:t>
            </a: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(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&amp;</a:t>
            </a: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S, T, V)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r>
              <a:rPr b="0" lang="zh-CN" sz="4000" spc="-1" strike="noStrike">
                <a:solidFill>
                  <a:srgbClr val="c23a5e"/>
                </a:solidFill>
                <a:latin typeface="Times New Roman"/>
                <a:ea typeface="楷体_GB2312"/>
              </a:rPr>
              <a:t>初始条件：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串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S, T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和 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V 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均已存在，  </a:t>
            </a:r>
            <a:br>
              <a:rPr sz="4000"/>
            </a:b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               且 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T 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是非空串。</a:t>
            </a:r>
            <a:br>
              <a:rPr sz="4000"/>
            </a:b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r>
              <a:rPr b="0" lang="zh-CN" sz="4000" spc="-1" strike="noStrike">
                <a:solidFill>
                  <a:srgbClr val="c23a5e"/>
                </a:solidFill>
                <a:latin typeface="Times New Roman"/>
                <a:ea typeface="楷体_GB2312"/>
              </a:rPr>
              <a:t>操作结果：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用 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V 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替换主串 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S 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中出现</a:t>
            </a:r>
            <a:br>
              <a:rPr sz="4000"/>
            </a:b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             的所有与（模式串）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T  </a:t>
            </a:r>
            <a:br>
              <a:rPr sz="4000"/>
            </a:b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             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相等的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不重叠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的子串。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c4"/>
            </a:gs>
            <a:gs pos="100000">
              <a:srgbClr val="e2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839880" y="441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例如：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47080" y="1432080"/>
            <a:ext cx="78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560ab"/>
                </a:solidFill>
                <a:latin typeface="Times New Roman"/>
              </a:rPr>
              <a:t>假设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S = </a:t>
            </a:r>
            <a:r>
              <a:rPr b="0" lang="zh-CN" sz="4000" spc="-1" strike="noStrike">
                <a:solidFill>
                  <a:srgbClr val="000099"/>
                </a:solidFill>
                <a:latin typeface="Symbol"/>
                <a:ea typeface="Symbol"/>
              </a:rPr>
              <a:t></a:t>
            </a:r>
            <a:r>
              <a:rPr b="0" lang="zh-CN" sz="4000" spc="-1" strike="noStrike">
                <a:solidFill>
                  <a:srgbClr val="1560ab"/>
                </a:solidFill>
                <a:latin typeface="Times New Roman"/>
              </a:rPr>
              <a:t>abcaabcaaabca</a:t>
            </a:r>
            <a:r>
              <a:rPr b="0" lang="zh-CN" sz="4000" spc="-1" strike="noStrike">
                <a:solidFill>
                  <a:srgbClr val="000099"/>
                </a:solidFill>
                <a:latin typeface="Symbol"/>
                <a:ea typeface="Symbol"/>
              </a:rPr>
              <a:t></a:t>
            </a:r>
            <a:r>
              <a:rPr b="0" lang="zh-CN" sz="4000" spc="-1" strike="noStrike">
                <a:solidFill>
                  <a:srgbClr val="1560ab"/>
                </a:solidFill>
                <a:latin typeface="Times New Roman"/>
              </a:rPr>
              <a:t>,  T = </a:t>
            </a:r>
            <a:r>
              <a:rPr b="0" lang="zh-CN" sz="4000" spc="-1" strike="noStrike">
                <a:solidFill>
                  <a:srgbClr val="000099"/>
                </a:solidFill>
                <a:latin typeface="Symbol"/>
                <a:ea typeface="Symbol"/>
              </a:rPr>
              <a:t>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bca </a:t>
            </a:r>
            <a:r>
              <a:rPr b="0" lang="zh-CN" sz="4000" spc="-1" strike="noStrike">
                <a:solidFill>
                  <a:srgbClr val="000099"/>
                </a:solidFill>
                <a:latin typeface="Symbol"/>
                <a:ea typeface="Symbol"/>
              </a:rPr>
              <a:t>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80680" y="2406600"/>
            <a:ext cx="500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560ab"/>
                </a:solidFill>
                <a:latin typeface="Times New Roman"/>
              </a:rPr>
              <a:t>若 </a:t>
            </a:r>
            <a:r>
              <a:rPr b="0" lang="zh-CN" sz="4000" spc="-1" strike="noStrike">
                <a:solidFill>
                  <a:srgbClr val="1560ab"/>
                </a:solidFill>
                <a:latin typeface="Times New Roman"/>
              </a:rPr>
              <a:t>V =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99"/>
                </a:solidFill>
                <a:latin typeface="Symbol"/>
                <a:ea typeface="Symbol"/>
              </a:rPr>
              <a:t>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zh-CN" sz="4000" spc="-1" strike="noStrike">
                <a:solidFill>
                  <a:srgbClr val="000099"/>
                </a:solidFill>
                <a:latin typeface="Symbol"/>
                <a:ea typeface="Symbol"/>
              </a:rPr>
              <a:t></a:t>
            </a:r>
            <a:r>
              <a:rPr b="0" lang="zh-CN" sz="4000" spc="-1" strike="noStrike">
                <a:solidFill>
                  <a:srgbClr val="1560ab"/>
                </a:solidFill>
                <a:latin typeface="Times New Roman"/>
              </a:rPr>
              <a:t>, </a:t>
            </a:r>
            <a:r>
              <a:rPr b="0" lang="zh-CN" sz="4000" spc="-1" strike="noStrike">
                <a:solidFill>
                  <a:srgbClr val="1560ab"/>
                </a:solidFill>
                <a:latin typeface="Times New Roman"/>
              </a:rPr>
              <a:t>则经置换后得到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560ab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1560ab"/>
                </a:solidFill>
                <a:latin typeface="Times New Roman"/>
              </a:rPr>
              <a:t>S = </a:t>
            </a:r>
            <a:r>
              <a:rPr b="0" lang="zh-CN" sz="4000" spc="-1" strike="noStrike">
                <a:solidFill>
                  <a:srgbClr val="000099"/>
                </a:solidFill>
                <a:latin typeface="Symbol"/>
                <a:ea typeface="Symbol"/>
              </a:rPr>
              <a:t></a:t>
            </a:r>
            <a:r>
              <a:rPr b="0" lang="zh-CN" sz="4000" spc="-1" strike="noStrike">
                <a:solidFill>
                  <a:srgbClr val="1560ab"/>
                </a:solidFill>
                <a:latin typeface="Times New Roman"/>
              </a:rPr>
              <a:t>a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4000" spc="-1" strike="noStrike">
                <a:solidFill>
                  <a:srgbClr val="1560ab"/>
                </a:solidFill>
                <a:latin typeface="Times New Roman"/>
              </a:rPr>
              <a:t>a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4000" spc="-1" strike="noStrike">
                <a:solidFill>
                  <a:srgbClr val="1560ab"/>
                </a:solidFill>
                <a:latin typeface="Times New Roman"/>
              </a:rPr>
              <a:t>aa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zh-CN" sz="4000" spc="-1" strike="noStrike">
                <a:solidFill>
                  <a:srgbClr val="000099"/>
                </a:solidFill>
                <a:latin typeface="Symbol"/>
                <a:ea typeface="Symbol"/>
              </a:rPr>
              <a:t>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83560" y="4419720"/>
            <a:ext cx="5235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560ab"/>
                </a:solidFill>
                <a:latin typeface="Times New Roman"/>
              </a:rPr>
              <a:t>若 </a:t>
            </a:r>
            <a:r>
              <a:rPr b="0" lang="zh-CN" sz="4000" spc="-1" strike="noStrike">
                <a:solidFill>
                  <a:srgbClr val="1560ab"/>
                </a:solidFill>
                <a:latin typeface="Times New Roman"/>
              </a:rPr>
              <a:t>V = </a:t>
            </a:r>
            <a:r>
              <a:rPr b="0" lang="zh-CN" sz="4000" spc="-1" strike="noStrike">
                <a:solidFill>
                  <a:srgbClr val="000099"/>
                </a:solidFill>
                <a:latin typeface="Symbol"/>
                <a:ea typeface="Symbol"/>
              </a:rPr>
              <a:t></a:t>
            </a:r>
            <a:r>
              <a:rPr b="0" lang="zh-CN" sz="4000" spc="-1" strike="noStrike">
                <a:solidFill>
                  <a:srgbClr val="9966ff"/>
                </a:solidFill>
                <a:latin typeface="Times New Roman"/>
              </a:rPr>
              <a:t>bc </a:t>
            </a:r>
            <a:r>
              <a:rPr b="0" lang="zh-CN" sz="4000" spc="-1" strike="noStrike">
                <a:solidFill>
                  <a:srgbClr val="000099"/>
                </a:solidFill>
                <a:latin typeface="Symbol"/>
                <a:ea typeface="Symbol"/>
              </a:rPr>
              <a:t></a:t>
            </a:r>
            <a:r>
              <a:rPr b="0" lang="zh-CN" sz="4000" spc="-1" strike="noStrike">
                <a:solidFill>
                  <a:srgbClr val="1560ab"/>
                </a:solidFill>
                <a:latin typeface="Times New Roman"/>
              </a:rPr>
              <a:t>, </a:t>
            </a:r>
            <a:r>
              <a:rPr b="0" lang="zh-CN" sz="4000" spc="-1" strike="noStrike">
                <a:solidFill>
                  <a:srgbClr val="1560ab"/>
                </a:solidFill>
                <a:latin typeface="Times New Roman"/>
              </a:rPr>
              <a:t>则经置换后得到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560ab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1560ab"/>
                </a:solidFill>
                <a:latin typeface="Times New Roman"/>
              </a:rPr>
              <a:t>S = </a:t>
            </a:r>
            <a:r>
              <a:rPr b="0" lang="zh-CN" sz="4000" spc="-1" strike="noStrike">
                <a:solidFill>
                  <a:srgbClr val="000099"/>
                </a:solidFill>
                <a:latin typeface="Symbol"/>
                <a:ea typeface="Symbol"/>
              </a:rPr>
              <a:t></a:t>
            </a:r>
            <a:r>
              <a:rPr b="0" lang="zh-CN" sz="4000" spc="-1" strike="noStrike">
                <a:solidFill>
                  <a:srgbClr val="1560ab"/>
                </a:solidFill>
                <a:latin typeface="Times New Roman"/>
              </a:rPr>
              <a:t>a</a:t>
            </a:r>
            <a:r>
              <a:rPr b="0" lang="zh-CN" sz="4000" spc="-1" strike="noStrike">
                <a:solidFill>
                  <a:srgbClr val="9966ff"/>
                </a:solidFill>
                <a:latin typeface="Times New Roman"/>
              </a:rPr>
              <a:t>bc</a:t>
            </a:r>
            <a:r>
              <a:rPr b="0" lang="zh-CN" sz="4000" spc="-1" strike="noStrike">
                <a:solidFill>
                  <a:srgbClr val="1560ab"/>
                </a:solidFill>
                <a:latin typeface="Times New Roman"/>
              </a:rPr>
              <a:t>a</a:t>
            </a:r>
            <a:r>
              <a:rPr b="0" lang="zh-CN" sz="4000" spc="-1" strike="noStrike">
                <a:solidFill>
                  <a:srgbClr val="9966ff"/>
                </a:solidFill>
                <a:latin typeface="Times New Roman"/>
              </a:rPr>
              <a:t>bc</a:t>
            </a:r>
            <a:r>
              <a:rPr b="0" lang="zh-CN" sz="4000" spc="-1" strike="noStrike">
                <a:solidFill>
                  <a:srgbClr val="1560ab"/>
                </a:solidFill>
                <a:latin typeface="Times New Roman"/>
              </a:rPr>
              <a:t>aa</a:t>
            </a:r>
            <a:r>
              <a:rPr b="0" lang="zh-CN" sz="4000" spc="-1" strike="noStrike">
                <a:solidFill>
                  <a:srgbClr val="9966ff"/>
                </a:solidFill>
                <a:latin typeface="Times New Roman"/>
              </a:rPr>
              <a:t>bc</a:t>
            </a:r>
            <a:r>
              <a:rPr b="0" lang="zh-CN" sz="4000" spc="-1" strike="noStrike">
                <a:solidFill>
                  <a:srgbClr val="000099"/>
                </a:solidFill>
                <a:latin typeface="Symbol"/>
                <a:ea typeface="Symbol"/>
              </a:rPr>
              <a:t>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25880" y="144792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bc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65480" y="144792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bc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08480" y="144792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bc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156960 w 381240"/>
              <a:gd name="textAreaRight" fmla="*/ 224280 w 38124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c4"/>
            </a:gs>
            <a:gs pos="100000">
              <a:srgbClr val="e2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879200" y="1523880"/>
            <a:ext cx="541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4.1  </a:t>
            </a: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串的抽象数据类型的定义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59720" y="3048120"/>
            <a:ext cx="395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578963"/>
                </a:solidFill>
                <a:latin typeface="Times New Roman"/>
                <a:ea typeface="楷体_GB2312"/>
              </a:rPr>
              <a:t>4.2  </a:t>
            </a:r>
            <a:r>
              <a:rPr b="1" lang="zh-CN" sz="4800" spc="-1" strike="noStrike">
                <a:solidFill>
                  <a:srgbClr val="578963"/>
                </a:solidFill>
                <a:latin typeface="Times New Roman"/>
                <a:ea typeface="楷体_GB2312"/>
              </a:rPr>
              <a:t>串的表示和实现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86520" y="4495680"/>
            <a:ext cx="402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4.3</a:t>
            </a:r>
            <a:r>
              <a:rPr b="1" lang="zh-CN" sz="48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	</a:t>
            </a:r>
            <a:r>
              <a:rPr b="1" lang="zh-CN" sz="48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串的模式匹配算法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c4"/>
            </a:gs>
            <a:gs pos="100000">
              <a:srgbClr val="e2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04920" y="152280"/>
            <a:ext cx="862488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StrInsert </a:t>
            </a:r>
            <a:r>
              <a:rPr b="0" lang="zh-CN" sz="4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(</a:t>
            </a:r>
            <a:r>
              <a:rPr b="1" lang="zh-CN" sz="4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&amp;</a:t>
            </a:r>
            <a:r>
              <a:rPr b="0" lang="zh-CN" sz="4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S, pos, T)</a:t>
            </a:r>
            <a:br>
              <a:rPr sz="4800"/>
            </a:br>
            <a:r>
              <a:rPr b="0" lang="zh-CN" sz="4000" spc="-1" strike="noStrike">
                <a:solidFill>
                  <a:srgbClr val="c23a5e"/>
                </a:solidFill>
                <a:latin typeface="Times New Roman"/>
                <a:ea typeface="楷体_GB2312"/>
              </a:rPr>
              <a:t>初始条件：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串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S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和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T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存在，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            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1≤pos≤StrLength(S)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＋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1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。</a:t>
            </a:r>
            <a:br>
              <a:rPr sz="4000"/>
            </a:br>
            <a:r>
              <a:rPr b="0" lang="zh-CN" sz="4000" spc="-1" strike="noStrike">
                <a:solidFill>
                  <a:srgbClr val="c23a5e"/>
                </a:solidFill>
                <a:latin typeface="Times New Roman"/>
                <a:ea typeface="楷体_GB2312"/>
              </a:rPr>
              <a:t>操作结果：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在串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S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的第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pos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个字符之前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             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插入串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T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-65520" y="4363920"/>
            <a:ext cx="865944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560ab"/>
                </a:solidFill>
                <a:latin typeface="Times New Roman"/>
                <a:ea typeface="楷体_GB2312"/>
              </a:rPr>
              <a:t>例如：</a:t>
            </a:r>
            <a:r>
              <a:rPr b="0" lang="zh-CN" sz="3600" spc="-1" strike="noStrike">
                <a:solidFill>
                  <a:srgbClr val="1560ab"/>
                </a:solidFill>
                <a:latin typeface="Times New Roman"/>
                <a:ea typeface="楷体_GB2312"/>
              </a:rPr>
              <a:t>S = </a:t>
            </a:r>
            <a:r>
              <a:rPr b="0" lang="zh-CN" sz="4000" spc="-1" strike="noStrike">
                <a:solidFill>
                  <a:srgbClr val="000099"/>
                </a:solidFill>
                <a:latin typeface="Symbol"/>
                <a:ea typeface="Symbol"/>
              </a:rPr>
              <a:t></a:t>
            </a:r>
            <a:r>
              <a:rPr b="0" lang="zh-CN" sz="3600" spc="-1" strike="noStrike">
                <a:solidFill>
                  <a:srgbClr val="1560ab"/>
                </a:solidFill>
                <a:latin typeface="Times New Roman"/>
                <a:ea typeface="楷体_GB2312"/>
              </a:rPr>
              <a:t>chater </a:t>
            </a:r>
            <a:r>
              <a:rPr b="0" lang="zh-CN" sz="4000" spc="-1" strike="noStrike">
                <a:solidFill>
                  <a:srgbClr val="000099"/>
                </a:solidFill>
                <a:latin typeface="Symbol"/>
                <a:ea typeface="Symbol"/>
              </a:rPr>
              <a:t></a:t>
            </a:r>
            <a:r>
              <a:rPr b="0" lang="zh-CN" sz="3600" spc="-1" strike="noStrike">
                <a:solidFill>
                  <a:srgbClr val="1560ab"/>
                </a:solidFill>
                <a:latin typeface="Times New Roman"/>
                <a:ea typeface="楷体_GB2312"/>
              </a:rPr>
              <a:t>，</a:t>
            </a:r>
            <a:r>
              <a:rPr b="0" lang="zh-CN" sz="3600" spc="-1" strike="noStrike">
                <a:solidFill>
                  <a:srgbClr val="1560ab"/>
                </a:solidFill>
                <a:latin typeface="Times New Roman"/>
                <a:ea typeface="楷体_GB2312"/>
              </a:rPr>
              <a:t>T = </a:t>
            </a:r>
            <a:r>
              <a:rPr b="0" lang="zh-CN" sz="4000" spc="-1" strike="noStrike">
                <a:solidFill>
                  <a:srgbClr val="000099"/>
                </a:solidFill>
                <a:latin typeface="Symbol"/>
                <a:ea typeface="Symbol"/>
              </a:rPr>
              <a:t>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rac</a:t>
            </a:r>
            <a:r>
              <a:rPr b="0" lang="zh-CN" sz="3600" spc="-1" strike="noStrike">
                <a:solidFill>
                  <a:srgbClr val="9966ff"/>
                </a:solidFill>
                <a:latin typeface="Times New Roman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000099"/>
                </a:solidFill>
                <a:latin typeface="Symbol"/>
                <a:ea typeface="Symbol"/>
              </a:rPr>
              <a:t></a:t>
            </a:r>
            <a:r>
              <a:rPr b="0" lang="zh-CN" sz="3600" spc="-1" strike="noStrike">
                <a:solidFill>
                  <a:srgbClr val="1560ab"/>
                </a:solidFill>
                <a:latin typeface="Times New Roman"/>
                <a:ea typeface="楷体_GB2312"/>
              </a:rPr>
              <a:t>，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560ab"/>
                </a:solidFill>
                <a:latin typeface="Times New Roman"/>
                <a:ea typeface="楷体_GB2312"/>
              </a:rPr>
              <a:t>          </a:t>
            </a:r>
            <a:r>
              <a:rPr b="0" lang="zh-CN" sz="3600" spc="-1" strike="noStrike">
                <a:solidFill>
                  <a:srgbClr val="1560ab"/>
                </a:solidFill>
                <a:latin typeface="Times New Roman"/>
                <a:ea typeface="楷体_GB2312"/>
              </a:rPr>
              <a:t>则执行 </a:t>
            </a:r>
            <a:r>
              <a:rPr b="0" lang="zh-CN" sz="3600" spc="-1" strike="noStrike">
                <a:solidFill>
                  <a:srgbClr val="1560ab"/>
                </a:solidFill>
                <a:latin typeface="Times New Roman"/>
                <a:ea typeface="楷体_GB2312"/>
              </a:rPr>
              <a:t>StrInsert(S, 4, T) </a:t>
            </a:r>
            <a:r>
              <a:rPr b="0" lang="zh-CN" sz="3600" spc="-1" strike="noStrike">
                <a:solidFill>
                  <a:srgbClr val="1560ab"/>
                </a:solidFill>
                <a:latin typeface="Times New Roman"/>
                <a:ea typeface="楷体_GB2312"/>
              </a:rPr>
              <a:t>之后得到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560ab"/>
                </a:solidFill>
                <a:latin typeface="Times New Roman"/>
                <a:ea typeface="楷体_GB2312"/>
              </a:rPr>
              <a:t>            </a:t>
            </a:r>
            <a:r>
              <a:rPr b="0" lang="zh-CN" sz="3600" spc="-1" strike="noStrike">
                <a:solidFill>
                  <a:srgbClr val="1560ab"/>
                </a:solidFill>
                <a:latin typeface="Times New Roman"/>
                <a:ea typeface="楷体_GB2312"/>
              </a:rPr>
              <a:t>S = </a:t>
            </a:r>
            <a:r>
              <a:rPr b="0" lang="zh-CN" sz="4000" spc="-1" strike="noStrike">
                <a:solidFill>
                  <a:srgbClr val="000099"/>
                </a:solidFill>
                <a:latin typeface="Symbol"/>
                <a:ea typeface="Symbol"/>
              </a:rPr>
              <a:t></a:t>
            </a:r>
            <a:r>
              <a:rPr b="0" lang="zh-CN" sz="3600" spc="-1" strike="noStrike">
                <a:solidFill>
                  <a:srgbClr val="1560ab"/>
                </a:solidFill>
                <a:latin typeface="Times New Roman"/>
                <a:ea typeface="楷体_GB2312"/>
              </a:rPr>
              <a:t>cha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rac</a:t>
            </a:r>
            <a:r>
              <a:rPr b="0" lang="zh-CN" sz="3600" spc="-1" strike="noStrike">
                <a:solidFill>
                  <a:srgbClr val="1560ab"/>
                </a:solidFill>
                <a:latin typeface="Times New Roman"/>
                <a:ea typeface="楷体_GB2312"/>
              </a:rPr>
              <a:t>ter </a:t>
            </a:r>
            <a:r>
              <a:rPr b="0" lang="zh-CN" sz="4000" spc="-1" strike="noStrike">
                <a:solidFill>
                  <a:srgbClr val="000099"/>
                </a:solidFill>
                <a:latin typeface="Symbol"/>
                <a:ea typeface="Symbol"/>
              </a:rPr>
              <a:t>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156960 w 381240"/>
              <a:gd name="textAreaRight" fmla="*/ 224280 w 38124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c4"/>
            </a:gs>
            <a:gs pos="100000">
              <a:srgbClr val="e2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-365400" y="690480"/>
            <a:ext cx="9884880" cy="57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StrDelete </a:t>
            </a:r>
            <a:r>
              <a:rPr b="0" lang="zh-CN" sz="4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(</a:t>
            </a:r>
            <a:r>
              <a:rPr b="1" lang="zh-CN" sz="4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&amp;</a:t>
            </a:r>
            <a:r>
              <a:rPr b="0" lang="zh-CN" sz="4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S, pos, len)</a:t>
            </a:r>
            <a:br>
              <a:rPr sz="4800"/>
            </a:br>
            <a:br>
              <a:rPr sz="4800"/>
            </a:br>
            <a:r>
              <a:rPr b="0" lang="zh-CN" sz="4000" spc="-1" strike="noStrike">
                <a:solidFill>
                  <a:srgbClr val="c23a5e"/>
                </a:solidFill>
                <a:latin typeface="Times New Roman"/>
                <a:ea typeface="楷体_GB2312"/>
              </a:rPr>
              <a:t>初始条件：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串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S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存在      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           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1≤pos≤StrLength(S)-len+1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。</a:t>
            </a:r>
            <a:br>
              <a:rPr sz="4000"/>
            </a:br>
            <a:r>
              <a:rPr b="0" lang="zh-CN" sz="4000" spc="-1" strike="noStrike">
                <a:solidFill>
                  <a:srgbClr val="c23a5e"/>
                </a:solidFill>
                <a:latin typeface="Times New Roman"/>
                <a:ea typeface="楷体_GB2312"/>
              </a:rPr>
              <a:t>操作结果：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从串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S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中删除第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pos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个字符</a:t>
            </a:r>
            <a:br>
              <a:rPr sz="4000"/>
            </a:b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            起长度为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len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的子串。 </a:t>
            </a:r>
            <a:br>
              <a:rPr sz="4000"/>
            </a:b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156960 w 381240"/>
              <a:gd name="textAreaRight" fmla="*/ 224280 w 38124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c4"/>
            </a:gs>
            <a:gs pos="100000">
              <a:srgbClr val="e2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  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ClearString </a:t>
            </a: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(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&amp;</a:t>
            </a: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S)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r>
              <a:rPr b="0" lang="zh-CN" sz="4400" spc="-1" strike="noStrike">
                <a:solidFill>
                  <a:srgbClr val="c23a5e"/>
                </a:solidFill>
                <a:latin typeface="Times New Roman"/>
                <a:ea typeface="楷体_GB2312"/>
              </a:rPr>
              <a:t>初始条件：</a:t>
            </a: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串</a:t>
            </a: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S</a:t>
            </a: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存在。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r>
              <a:rPr b="0" lang="zh-CN" sz="4400" spc="-1" strike="noStrike">
                <a:solidFill>
                  <a:srgbClr val="c23a5e"/>
                </a:solidFill>
                <a:latin typeface="Times New Roman"/>
                <a:ea typeface="楷体_GB2312"/>
              </a:rPr>
              <a:t>操作结果：</a:t>
            </a: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将</a:t>
            </a: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S</a:t>
            </a: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清为空串。</a:t>
            </a:r>
            <a:br>
              <a:rPr sz="4400"/>
            </a:b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156960 w 381240"/>
              <a:gd name="textAreaRight" fmla="*/ 224280 w 38124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c4"/>
            </a:gs>
            <a:gs pos="100000">
              <a:srgbClr val="e2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193840" y="1544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320" y="152280"/>
            <a:ext cx="89215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   </a:t>
            </a:r>
            <a:r>
              <a:rPr b="0" lang="zh-CN" sz="36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对于串的基本操作集可以有不同的定义方法，在使用高级程序设计语言中的串类型时，应</a:t>
            </a:r>
            <a:r>
              <a:rPr b="1" lang="zh-CN" sz="36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以该语言的参考手册为准</a:t>
            </a:r>
            <a:r>
              <a:rPr b="0" lang="zh-CN" sz="36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79720" y="3013200"/>
            <a:ext cx="6294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gets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(str)  </a:t>
            </a:r>
            <a:r>
              <a:rPr b="0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输入一个串；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puts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(str)</a:t>
            </a:r>
            <a:r>
              <a:rPr b="0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输出一个串；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strcat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(str1, str2)  </a:t>
            </a:r>
            <a:r>
              <a:rPr b="0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串联接函数；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strcpy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(str1, str2, k)  </a:t>
            </a:r>
            <a:r>
              <a:rPr b="0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串复制函数；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strcmp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(str1, str2)  </a:t>
            </a:r>
            <a:r>
              <a:rPr b="0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串比较函数；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strlen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(str)  </a:t>
            </a:r>
            <a:r>
              <a:rPr b="0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求串长函数；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82000" y="2254320"/>
            <a:ext cx="59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例如</a:t>
            </a:r>
            <a:r>
              <a:rPr b="0" lang="zh-CN" sz="3600" spc="-1" strike="noStrike">
                <a:solidFill>
                  <a:srgbClr val="333333"/>
                </a:solidFill>
                <a:latin typeface="宋体"/>
              </a:rPr>
              <a:t>：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C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语言函数库中提供下列串处理函数：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c4"/>
            </a:gs>
            <a:gs pos="100000">
              <a:srgbClr val="e2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095480" y="1066680"/>
            <a:ext cx="6962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71b09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871b09"/>
                </a:solidFill>
                <a:latin typeface="Times New Roman"/>
                <a:ea typeface="隶书"/>
              </a:rPr>
              <a:t>串赋值</a:t>
            </a:r>
            <a:r>
              <a:rPr b="1" lang="zh-CN" sz="3600" spc="-1" strike="noStrike">
                <a:solidFill>
                  <a:srgbClr val="871b09"/>
                </a:solidFill>
                <a:latin typeface="Times New Roman"/>
                <a:ea typeface="隶书"/>
              </a:rPr>
              <a:t>StrAssign</a:t>
            </a:r>
            <a:r>
              <a:rPr b="1" lang="zh-CN" sz="3600" spc="-1" strike="noStrike">
                <a:solidFill>
                  <a:srgbClr val="871b09"/>
                </a:solidFill>
                <a:latin typeface="Times New Roman"/>
                <a:ea typeface="隶书"/>
              </a:rPr>
              <a:t>、串复制</a:t>
            </a:r>
            <a:r>
              <a:rPr b="1" lang="zh-CN" sz="3600" spc="-1" strike="noStrike">
                <a:solidFill>
                  <a:srgbClr val="871b09"/>
                </a:solidFill>
                <a:latin typeface="Times New Roman"/>
                <a:ea typeface="隶书"/>
              </a:rPr>
              <a:t>Strcopy</a:t>
            </a:r>
            <a:r>
              <a:rPr b="1" lang="zh-CN" sz="3600" spc="-1" strike="noStrike">
                <a:solidFill>
                  <a:srgbClr val="871b09"/>
                </a:solidFill>
                <a:latin typeface="Times New Roman"/>
                <a:ea typeface="隶书"/>
              </a:rPr>
              <a:t>、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71b09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871b09"/>
                </a:solidFill>
                <a:latin typeface="Times New Roman"/>
                <a:ea typeface="隶书"/>
              </a:rPr>
              <a:t>串比较</a:t>
            </a:r>
            <a:r>
              <a:rPr b="1" lang="zh-CN" sz="3600" spc="-1" strike="noStrike">
                <a:solidFill>
                  <a:srgbClr val="871b09"/>
                </a:solidFill>
                <a:latin typeface="Times New Roman"/>
                <a:ea typeface="隶书"/>
              </a:rPr>
              <a:t>StrCompare</a:t>
            </a:r>
            <a:r>
              <a:rPr b="1" lang="zh-CN" sz="3600" spc="-1" strike="noStrike">
                <a:solidFill>
                  <a:srgbClr val="871b09"/>
                </a:solidFill>
                <a:latin typeface="Times New Roman"/>
                <a:ea typeface="隶书"/>
              </a:rPr>
              <a:t>、求串长</a:t>
            </a:r>
            <a:r>
              <a:rPr b="1" lang="zh-CN" sz="3600" spc="-1" strike="noStrike">
                <a:solidFill>
                  <a:srgbClr val="871b09"/>
                </a:solidFill>
                <a:latin typeface="Times New Roman"/>
                <a:ea typeface="隶书"/>
              </a:rPr>
              <a:t>StrLength</a:t>
            </a:r>
            <a:r>
              <a:rPr b="1" lang="zh-CN" sz="3600" spc="-1" strike="noStrike">
                <a:solidFill>
                  <a:srgbClr val="871b09"/>
                </a:solidFill>
                <a:latin typeface="Times New Roman"/>
                <a:ea typeface="隶书"/>
              </a:rPr>
              <a:t>、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71b09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871b09"/>
                </a:solidFill>
                <a:latin typeface="Times New Roman"/>
                <a:ea typeface="隶书"/>
              </a:rPr>
              <a:t>串联接</a:t>
            </a:r>
            <a:r>
              <a:rPr b="1" lang="zh-CN" sz="3600" spc="-1" strike="noStrike">
                <a:solidFill>
                  <a:srgbClr val="871b09"/>
                </a:solidFill>
                <a:latin typeface="Times New Roman"/>
                <a:ea typeface="隶书"/>
              </a:rPr>
              <a:t>Concat</a:t>
            </a:r>
            <a:r>
              <a:rPr b="1" lang="zh-CN" sz="3600" spc="-1" strike="noStrike">
                <a:solidFill>
                  <a:srgbClr val="871b09"/>
                </a:solidFill>
                <a:latin typeface="Times New Roman"/>
                <a:ea typeface="隶书"/>
              </a:rPr>
              <a:t>以及求子串</a:t>
            </a:r>
            <a:r>
              <a:rPr b="1" lang="zh-CN" sz="3600" spc="-1" strike="noStrike">
                <a:solidFill>
                  <a:srgbClr val="871b09"/>
                </a:solidFill>
                <a:latin typeface="Times New Roman"/>
                <a:ea typeface="隶书"/>
              </a:rPr>
              <a:t>SubString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71b09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871b09"/>
                </a:solidFill>
                <a:latin typeface="Times New Roman"/>
                <a:ea typeface="隶书"/>
              </a:rPr>
              <a:t>等六种操作构成串类型的最小操作子集</a:t>
            </a:r>
            <a:r>
              <a:rPr b="0" lang="zh-CN" sz="3600" spc="-1" strike="noStrike">
                <a:solidFill>
                  <a:srgbClr val="871b09"/>
                </a:solidFill>
                <a:latin typeface="Times New Roman"/>
                <a:ea typeface="隶书"/>
              </a:rPr>
              <a:t>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38960" y="411120"/>
            <a:ext cx="49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在上述抽象数据类型定义的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13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种操作中，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4038480"/>
            <a:ext cx="8229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即：这些操作不可能利用其他串操作来实现，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反之，其他串操作（除串清除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ClearString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和串销毁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DestroyString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外）可在这个最小操作子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集上实现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c4"/>
            </a:gs>
            <a:gs pos="100000">
              <a:srgbClr val="e2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228600"/>
            <a:ext cx="8991720" cy="8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例如，可利用串比较、求串长和求子串等操作实现定位函数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Index( S, T, pos )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。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880" y="2925720"/>
            <a:ext cx="797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StrCompare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(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SubString(S, i, StrLength(T))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, 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T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8001000" y="3124080"/>
            <a:ext cx="609480" cy="152640"/>
            <a:chOff x="8001000" y="3124080"/>
            <a:chExt cx="609480" cy="152640"/>
          </a:xfrm>
        </p:grpSpPr>
        <p:sp>
          <p:nvSpPr>
            <p:cNvPr id="179" name=""/>
            <p:cNvSpPr/>
            <p:nvPr/>
          </p:nvSpPr>
          <p:spPr>
            <a:xfrm>
              <a:off x="8001000" y="3124080"/>
              <a:ext cx="609480" cy="0"/>
            </a:xfrm>
            <a:prstGeom prst="line">
              <a:avLst/>
            </a:prstGeom>
            <a:ln w="28440">
              <a:solidFill>
                <a:srgbClr val="de2c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001000" y="3276720"/>
              <a:ext cx="609480" cy="0"/>
            </a:xfrm>
            <a:prstGeom prst="line">
              <a:avLst/>
            </a:prstGeom>
            <a:ln w="28440">
              <a:solidFill>
                <a:srgbClr val="c23a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593640" y="4710240"/>
            <a:ext cx="7712280" cy="520560"/>
          </a:xfrm>
          <a:prstGeom prst="rect">
            <a:avLst/>
          </a:prstGeom>
          <a:solidFill>
            <a:srgbClr val="3366ff">
              <a:alpha val="50000"/>
            </a:srgbClr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                        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 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串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93840" y="5253120"/>
            <a:ext cx="1158840" cy="520560"/>
          </a:xfrm>
          <a:prstGeom prst="rect">
            <a:avLst/>
          </a:prstGeom>
          <a:solidFill>
            <a:srgbClr val="b3e1b3">
              <a:alpha val="50000"/>
            </a:srgbClr>
          </a:solidFill>
          <a:ln w="1908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 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串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09680" y="3886200"/>
            <a:ext cx="0" cy="838080"/>
          </a:xfrm>
          <a:prstGeom prst="line">
            <a:avLst/>
          </a:prstGeom>
          <a:ln w="31680">
            <a:solidFill>
              <a:srgbClr val="ff66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09680" y="4724280"/>
            <a:ext cx="0" cy="533520"/>
          </a:xfrm>
          <a:prstGeom prst="line">
            <a:avLst/>
          </a:prstGeom>
          <a:ln w="936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4724280"/>
            <a:ext cx="0" cy="533520"/>
          </a:xfrm>
          <a:prstGeom prst="line">
            <a:avLst/>
          </a:prstGeom>
          <a:ln w="936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147080" y="5257800"/>
            <a:ext cx="1158840" cy="520560"/>
          </a:xfrm>
          <a:prstGeom prst="rect">
            <a:avLst/>
          </a:prstGeom>
          <a:solidFill>
            <a:srgbClr val="b3e1b3">
              <a:alpha val="50000"/>
            </a:srgbClr>
          </a:solidFill>
          <a:ln cap="rnd" w="19080">
            <a:solidFill>
              <a:srgbClr val="004c2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578963"/>
                </a:solidFill>
                <a:latin typeface="Times New Roman"/>
              </a:rPr>
              <a:t>T </a:t>
            </a:r>
            <a:r>
              <a:rPr b="0" lang="zh-CN" sz="2800" spc="-1" strike="noStrike">
                <a:solidFill>
                  <a:srgbClr val="578963"/>
                </a:solidFill>
                <a:latin typeface="Times New Roman"/>
                <a:ea typeface="楷体_GB2312"/>
              </a:rPr>
              <a:t>串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62920" y="3886200"/>
            <a:ext cx="0" cy="838080"/>
          </a:xfrm>
          <a:prstGeom prst="line">
            <a:avLst/>
          </a:prstGeom>
          <a:ln w="31680">
            <a:solidFill>
              <a:srgbClr val="ff9966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09680" y="4191120"/>
            <a:ext cx="4953240" cy="0"/>
          </a:xfrm>
          <a:prstGeom prst="line">
            <a:avLst/>
          </a:prstGeom>
          <a:ln w="25560">
            <a:solidFill>
              <a:srgbClr val="ff9966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11120" y="373068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08760" y="511956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09680" y="5257800"/>
            <a:ext cx="0" cy="1066680"/>
          </a:xfrm>
          <a:prstGeom prst="line">
            <a:avLst/>
          </a:prstGeom>
          <a:ln w="3168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7320" y="5195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n-m+1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5320" y="1940040"/>
            <a:ext cx="432756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71b09"/>
                </a:solidFill>
                <a:latin typeface="Times New Roman"/>
                <a:ea typeface="楷体_GB2312"/>
              </a:rPr>
              <a:t>算法的基本思想为：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038440" y="2575080"/>
            <a:ext cx="95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?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c4"/>
            </a:gs>
            <a:gs pos="100000">
              <a:srgbClr val="e2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622080" y="152280"/>
            <a:ext cx="6542280" cy="66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int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Index (String S, String T, </a:t>
            </a:r>
            <a:r>
              <a:rPr b="1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int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pos) </a:t>
            </a:r>
            <a:r>
              <a:rPr b="1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{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// T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为非空串。若主串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S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中第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pos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个字符之后存在与 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T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相等的子串，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// 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则返回第一个这样的子串在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S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中的 位置，否则返回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0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if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(pos </a:t>
            </a:r>
            <a:r>
              <a:rPr b="1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&gt;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0) </a:t>
            </a:r>
            <a:r>
              <a:rPr b="1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{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} 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// if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return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0;          </a:t>
            </a:r>
            <a:r>
              <a:rPr b="0" lang="zh-CN" sz="2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// S</a:t>
            </a:r>
            <a:r>
              <a:rPr b="0" lang="zh-CN" sz="2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中不存在与</a:t>
            </a:r>
            <a:r>
              <a:rPr b="0" lang="zh-CN" sz="2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T</a:t>
            </a:r>
            <a:r>
              <a:rPr b="0" lang="zh-CN" sz="2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相等的子串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}</a:t>
            </a:r>
            <a:r>
              <a:rPr b="0" lang="zh-CN" sz="2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// Index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1905120"/>
            <a:ext cx="8001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n = StrLength(S);  m = StrLength(T);  i = pos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2438280"/>
            <a:ext cx="41911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while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( i &lt;= n-m+1) </a:t>
            </a:r>
            <a:r>
              <a:rPr b="1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{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} 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// whi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47920" y="3124080"/>
            <a:ext cx="601956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SubString (sub, S, i, m)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if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(StrCompare(sub,T)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!=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0)   ++i 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else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return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i 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c4"/>
            </a:gs>
            <a:gs pos="100000">
              <a:srgbClr val="e2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357200" y="19224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又如串的置换函数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1800" y="1973160"/>
            <a:ext cx="7826400" cy="520560"/>
          </a:xfrm>
          <a:prstGeom prst="rect">
            <a:avLst/>
          </a:prstGeom>
          <a:solidFill>
            <a:srgbClr val="b3e1b3">
              <a:alpha val="50000"/>
            </a:srgbClr>
          </a:solidFill>
          <a:ln w="255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                                     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S 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串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89280" y="2884320"/>
            <a:ext cx="1463400" cy="520560"/>
          </a:xfrm>
          <a:prstGeom prst="rect">
            <a:avLst/>
          </a:prstGeom>
          <a:solidFill>
            <a:srgbClr val="bdd7e5">
              <a:alpha val="50000"/>
            </a:srgbClr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T 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串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105520" y="2895480"/>
            <a:ext cx="1752480" cy="520560"/>
          </a:xfrm>
          <a:prstGeom prst="rect">
            <a:avLst/>
          </a:prstGeom>
          <a:solidFill>
            <a:srgbClr val="ffcc99">
              <a:alpha val="50000"/>
            </a:srgbClr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 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串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62320" y="1981080"/>
            <a:ext cx="0" cy="533520"/>
          </a:xfrm>
          <a:prstGeom prst="line">
            <a:avLst/>
          </a:prstGeom>
          <a:ln w="936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9880" y="1981080"/>
            <a:ext cx="0" cy="533520"/>
          </a:xfrm>
          <a:prstGeom prst="line">
            <a:avLst/>
          </a:prstGeom>
          <a:ln w="936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905120" y="2514600"/>
            <a:ext cx="457200" cy="380880"/>
          </a:xfrm>
          <a:prstGeom prst="line">
            <a:avLst/>
          </a:prstGeom>
          <a:ln w="93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352680" y="2514600"/>
            <a:ext cx="457200" cy="380880"/>
          </a:xfrm>
          <a:prstGeom prst="line">
            <a:avLst/>
          </a:prstGeom>
          <a:ln cap="rnd" w="9360">
            <a:solidFill>
              <a:srgbClr val="00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62320" y="4789440"/>
            <a:ext cx="1752480" cy="520560"/>
          </a:xfrm>
          <a:prstGeom prst="rect">
            <a:avLst/>
          </a:prstGeom>
          <a:solidFill>
            <a:srgbClr val="ffcc99">
              <a:alpha val="50000"/>
            </a:srgbClr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 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串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1295280"/>
            <a:ext cx="0" cy="685800"/>
          </a:xfrm>
          <a:prstGeom prst="line">
            <a:avLst/>
          </a:prstGeom>
          <a:ln w="9360">
            <a:solidFill>
              <a:srgbClr val="99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5080" y="143820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ff"/>
                </a:solidFill>
                <a:latin typeface="Times New Roman"/>
              </a:rPr>
              <a:t>p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9880" y="1295280"/>
            <a:ext cx="0" cy="685800"/>
          </a:xfrm>
          <a:prstGeom prst="line">
            <a:avLst/>
          </a:prstGeom>
          <a:ln w="9360">
            <a:solidFill>
              <a:srgbClr val="99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95480" y="143820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ff"/>
                </a:solidFill>
                <a:latin typeface="Times New Roman"/>
              </a:rPr>
              <a:t>p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4789440"/>
            <a:ext cx="1752840" cy="520560"/>
          </a:xfrm>
          <a:prstGeom prst="rect">
            <a:avLst/>
          </a:prstGeom>
          <a:solidFill>
            <a:srgbClr val="b3e1b3">
              <a:alpha val="50000"/>
            </a:srgbClr>
          </a:solidFill>
          <a:ln w="255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sub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62320" y="1219320"/>
            <a:ext cx="0" cy="761760"/>
          </a:xfrm>
          <a:prstGeom prst="line">
            <a:avLst/>
          </a:prstGeom>
          <a:ln w="25560">
            <a:solidFill>
              <a:srgbClr val="ff66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347920" y="15145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81280" y="4221000"/>
            <a:ext cx="14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news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串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43720" y="198108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8963"/>
                </a:solidFill>
                <a:latin typeface="Times New Roman"/>
              </a:rPr>
              <a:t>sub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45920" y="1447920"/>
            <a:ext cx="106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ff"/>
                </a:solidFill>
                <a:latin typeface="Times New Roman"/>
              </a:rPr>
              <a:t>= i+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026120" y="1330200"/>
            <a:ext cx="0" cy="685800"/>
          </a:xfrm>
          <a:prstGeom prst="line">
            <a:avLst/>
          </a:prstGeom>
          <a:ln w="9360">
            <a:solidFill>
              <a:srgbClr val="9966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011720" y="147312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ff"/>
                </a:solidFill>
                <a:latin typeface="Times New Roman"/>
              </a:rPr>
              <a:t>p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010280" y="1981080"/>
            <a:ext cx="0" cy="533520"/>
          </a:xfrm>
          <a:prstGeom prst="line">
            <a:avLst/>
          </a:prstGeom>
          <a:ln w="936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16205400">
            <a:off x="7580880" y="1865520"/>
            <a:ext cx="303480" cy="1447920"/>
          </a:xfrm>
          <a:custGeom>
            <a:avLst/>
            <a:gdLst>
              <a:gd name="textAreaLeft" fmla="*/ 194040 w 303480"/>
              <a:gd name="textAreaRight" fmla="*/ 303840 w 3034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147800" y="2681280"/>
            <a:ext cx="13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n-pos+1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c4"/>
            </a:gs>
            <a:gs pos="100000">
              <a:srgbClr val="e2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56400" y="-76320"/>
            <a:ext cx="7582320" cy="69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void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replace(String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&amp;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, String T, String V) {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8080" y="1555920"/>
            <a:ext cx="8305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while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 ( pos &lt;= n-m+1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&amp;&amp;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 i) {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</a:rPr>
              <a:t>i=Index(S, T, pos)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if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 (i!=0) {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SubString(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sub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, S, pos, i-pos); //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不置换子串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Concat(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news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, news,</a:t>
            </a:r>
            <a:r>
              <a:rPr b="0" lang="zh-CN" sz="3200" spc="-1" strike="noStrike">
                <a:solidFill>
                  <a:srgbClr val="1560ab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sub, V);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pos = i+m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</a:rPr>
              <a:t>}//if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}//whi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38080" y="54864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SubString(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sub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, S, pos, n-pos+1);  //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剩余串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Concat( 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news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1560ab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sub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 )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3352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n=StrLength(S);  m=StrLength(T);  pos = 1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StrAssign(news, NullStr);  i=1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c4"/>
            </a:gs>
            <a:gs pos="100000">
              <a:srgbClr val="e2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96920" y="590400"/>
            <a:ext cx="8870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串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的逻辑结构和</a:t>
            </a:r>
            <a:r>
              <a:rPr b="0" lang="zh-CN" sz="36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线性表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极为相似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，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区别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仅在于</a:t>
            </a:r>
            <a:r>
              <a:rPr b="0" lang="zh-CN" sz="36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串的数据对象约束为字符集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36440" y="2335320"/>
            <a:ext cx="87789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串的基本操作和线性表有很大差别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560ab"/>
                </a:solidFill>
                <a:latin typeface="Times New Roman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1560ab"/>
                </a:solidFill>
                <a:latin typeface="Times New Roman"/>
                <a:ea typeface="楷体_GB2312"/>
              </a:rPr>
              <a:t>在线性表的基本操作中，大多以“单个元素”作为操作对象；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在串的基本操作中，通常以“串的整体”作为操作对象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29" name="DARTS" descr=""/>
          <p:cNvPicPr/>
          <p:nvPr/>
        </p:nvPicPr>
        <p:blipFill>
          <a:blip r:embed="rId1"/>
          <a:stretch/>
        </p:blipFill>
        <p:spPr>
          <a:xfrm>
            <a:off x="8458200" y="617220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c4"/>
            </a:gs>
            <a:gs pos="100000">
              <a:srgbClr val="e2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706040" y="228600"/>
            <a:ext cx="59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4.1  </a:t>
            </a:r>
            <a:r>
              <a:rPr b="1" lang="zh-CN" sz="44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串的抽象数据类型的定义如下</a:t>
            </a:r>
            <a:r>
              <a:rPr b="1" lang="zh-CN" sz="36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：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5880" y="1143000"/>
            <a:ext cx="30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ADT String {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7160" y="1876320"/>
            <a:ext cx="211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数据对象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：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73080" y="2635200"/>
            <a:ext cx="539604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D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＝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{ 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a</a:t>
            </a:r>
            <a:r>
              <a:rPr b="0" lang="zh-CN" sz="4000" spc="-1" strike="noStrike" baseline="-25000">
                <a:solidFill>
                  <a:srgbClr val="333333"/>
                </a:solidFill>
                <a:latin typeface="Times New Roman"/>
                <a:ea typeface="楷体_GB2312"/>
              </a:rPr>
              <a:t>i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|a</a:t>
            </a:r>
            <a:r>
              <a:rPr b="0" lang="zh-CN" sz="4000" spc="-1" strike="noStrike" baseline="-25000">
                <a:solidFill>
                  <a:srgbClr val="333333"/>
                </a:solidFill>
                <a:latin typeface="Times New Roman"/>
                <a:ea typeface="楷体_GB2312"/>
              </a:rPr>
              <a:t>i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∈CharacterSet,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 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i=1,2,...,n,       n≥0 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}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43120" y="4027320"/>
            <a:ext cx="185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数据关系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：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1480" y="4844880"/>
            <a:ext cx="637740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R</a:t>
            </a:r>
            <a:r>
              <a:rPr b="0" lang="zh-CN" sz="4000" spc="-1" strike="noStrike" baseline="-25000">
                <a:solidFill>
                  <a:srgbClr val="333333"/>
                </a:solidFill>
                <a:latin typeface="Times New Roman"/>
                <a:ea typeface="楷体_GB2312"/>
              </a:rPr>
              <a:t>1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＝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{ 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&lt; a</a:t>
            </a:r>
            <a:r>
              <a:rPr b="0" lang="zh-CN" sz="4000" spc="-1" strike="noStrike" baseline="-25000">
                <a:solidFill>
                  <a:srgbClr val="333333"/>
                </a:solidFill>
                <a:latin typeface="Times New Roman"/>
                <a:ea typeface="楷体_GB2312"/>
              </a:rPr>
              <a:t>i-1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, a</a:t>
            </a:r>
            <a:r>
              <a:rPr b="0" lang="zh-CN" sz="4000" spc="-1" strike="noStrike" baseline="-25000">
                <a:solidFill>
                  <a:srgbClr val="333333"/>
                </a:solidFill>
                <a:latin typeface="Times New Roman"/>
                <a:ea typeface="楷体_GB2312"/>
              </a:rPr>
              <a:t>i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&gt; | a</a:t>
            </a:r>
            <a:r>
              <a:rPr b="0" lang="zh-CN" sz="4000" spc="-1" strike="noStrike" baseline="-25000">
                <a:solidFill>
                  <a:srgbClr val="333333"/>
                </a:solidFill>
                <a:latin typeface="Times New Roman"/>
                <a:ea typeface="楷体_GB2312"/>
              </a:rPr>
              <a:t>i-1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, a</a:t>
            </a:r>
            <a:r>
              <a:rPr b="0" lang="zh-CN" sz="4000" spc="-1" strike="noStrike" baseline="-25000">
                <a:solidFill>
                  <a:srgbClr val="333333"/>
                </a:solidFill>
                <a:latin typeface="Times New Roman"/>
                <a:ea typeface="楷体_GB2312"/>
              </a:rPr>
              <a:t>i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∈D,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                          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i=2,...,n 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}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76920" y="1027080"/>
            <a:ext cx="3886200" cy="5814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Arial"/>
                <a:ea typeface="楷体_GB2312"/>
              </a:rPr>
              <a:t>串是有限长的字符序列，由一对双引号相括，如</a:t>
            </a:r>
            <a:r>
              <a:rPr b="1" lang="zh-CN" sz="3200" spc="-1" strike="noStrike">
                <a:solidFill>
                  <a:srgbClr val="996633"/>
                </a:solidFill>
                <a:latin typeface="Arial"/>
                <a:ea typeface="楷体_GB2312"/>
              </a:rPr>
              <a:t>: </a:t>
            </a:r>
            <a:r>
              <a:rPr b="1" lang="zh-CN" sz="3200" spc="-1" strike="noStrike">
                <a:solidFill>
                  <a:srgbClr val="996633"/>
                </a:solidFill>
                <a:latin typeface="Symbol"/>
                <a:ea typeface="Symbol"/>
              </a:rPr>
              <a:t></a:t>
            </a:r>
            <a:r>
              <a:rPr b="1" lang="zh-CN" sz="3200" spc="-1" strike="noStrike">
                <a:solidFill>
                  <a:srgbClr val="996633"/>
                </a:solidFill>
                <a:latin typeface="Arial"/>
                <a:ea typeface="楷体_GB2312"/>
              </a:rPr>
              <a:t> a string </a:t>
            </a:r>
            <a:r>
              <a:rPr b="1" lang="zh-CN" sz="3200" spc="-1" strike="noStrike">
                <a:solidFill>
                  <a:srgbClr val="996633"/>
                </a:solidFill>
                <a:latin typeface="Symbol"/>
                <a:ea typeface="Symbol"/>
              </a:rPr>
              <a:t>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c4"/>
            </a:gs>
            <a:gs pos="100000">
              <a:srgbClr val="e2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529200" y="2286000"/>
            <a:ext cx="8117640" cy="39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 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在程序设计语言中，串只是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作为输入或输出的常量出现，则只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需存储此串的串值，即字符序列即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可。但在多数非数值处理的程序中，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串也以变量的形式出现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370960" y="612720"/>
            <a:ext cx="489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4.2  </a:t>
            </a:r>
            <a:r>
              <a:rPr b="1" lang="zh-CN" sz="6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串的表示和实现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c4"/>
            </a:gs>
            <a:gs pos="100000">
              <a:srgbClr val="e2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981080" y="1143000"/>
            <a:ext cx="511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一、串的定长顺序存储表示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47760" y="2743200"/>
            <a:ext cx="49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101686"/>
                </a:solidFill>
                <a:latin typeface="Times New Roman"/>
                <a:ea typeface="楷体_GB2312"/>
              </a:rPr>
              <a:t>二、串的堆分配存储表示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78480" y="4343400"/>
            <a:ext cx="49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三、串的块链存储表示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35" name="DARTS" descr=""/>
          <p:cNvPicPr/>
          <p:nvPr/>
        </p:nvPicPr>
        <p:blipFill>
          <a:blip r:embed="rId1"/>
          <a:stretch/>
        </p:blipFill>
        <p:spPr>
          <a:xfrm>
            <a:off x="8305920" y="60199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c4"/>
            </a:gs>
            <a:gs pos="100000">
              <a:srgbClr val="e2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574920" y="2286000"/>
            <a:ext cx="834624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#define 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MAXSTRLEN  255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     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// 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用户可在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255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以内定义最大串长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typedef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unsigned char 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Sstring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                           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[MAXSTRLEN + 1];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       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// 0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号单元存放串的长度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81080" y="685800"/>
            <a:ext cx="511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一、串的定长顺序存储表示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c4"/>
            </a:gs>
            <a:gs pos="100000">
              <a:srgbClr val="e2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09480" y="3898800"/>
            <a:ext cx="81536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560ab"/>
                </a:solidFill>
                <a:latin typeface="Times New Roman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1560ab"/>
                </a:solidFill>
                <a:latin typeface="Times New Roman"/>
                <a:ea typeface="楷体_GB2312"/>
              </a:rPr>
              <a:t>按这种串的表示方法实现的串的运算时，其基本操作为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871b09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871b09"/>
                </a:solidFill>
                <a:latin typeface="Times New Roman"/>
                <a:ea typeface="楷体_GB2312"/>
              </a:rPr>
              <a:t>字符序列的复制”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1370160"/>
            <a:ext cx="829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560ab"/>
                </a:solidFill>
                <a:latin typeface="Times New Roman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1560ab"/>
                </a:solidFill>
                <a:latin typeface="Times New Roman"/>
                <a:ea typeface="楷体_GB2312"/>
              </a:rPr>
              <a:t>串</a:t>
            </a:r>
            <a:r>
              <a:rPr b="0" lang="zh-CN" sz="4000" spc="-1" strike="noStrike">
                <a:solidFill>
                  <a:srgbClr val="1560ab"/>
                </a:solidFill>
                <a:latin typeface="Times New Roman"/>
                <a:ea typeface="楷体_GB2312"/>
              </a:rPr>
              <a:t>的实际长度可在这个予定义长度的范围内随意设定，超过予定义长度的串值则被舍去，称之为</a:t>
            </a:r>
            <a:r>
              <a:rPr b="1" lang="zh-CN" sz="4000" spc="-1" strike="noStrike">
                <a:solidFill>
                  <a:srgbClr val="1560ab"/>
                </a:solidFill>
                <a:latin typeface="Times New Roman"/>
                <a:ea typeface="楷体_GB2312"/>
              </a:rPr>
              <a:t>“截断”</a:t>
            </a:r>
            <a:r>
              <a:rPr b="1" lang="zh-CN" sz="3600" spc="-1" strike="noStrike">
                <a:solidFill>
                  <a:srgbClr val="1560ab"/>
                </a:solidFill>
                <a:latin typeface="Times New Roman"/>
                <a:ea typeface="楷体_GB2312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240" y="36504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特点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38080" y="1676520"/>
            <a:ext cx="152640" cy="152280"/>
          </a:xfrm>
          <a:prstGeom prst="irregularSeal1">
            <a:avLst/>
          </a:prstGeom>
          <a:solidFill>
            <a:srgbClr val="0000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38080" y="4114800"/>
            <a:ext cx="152640" cy="152280"/>
          </a:xfrm>
          <a:prstGeom prst="irregularSeal1">
            <a:avLst/>
          </a:prstGeom>
          <a:solidFill>
            <a:srgbClr val="0000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c4"/>
            </a:gs>
            <a:gs pos="100000">
              <a:srgbClr val="e2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838080"/>
            <a:ext cx="9024840" cy="58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Status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Concat(SString S1, SString S2, SString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&amp;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T)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{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// 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用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T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返回由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S1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和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S2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联接而成的新串。若未截断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, 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则返回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TRUE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，否则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FALSE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。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return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uncu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}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// Conca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007360" y="0"/>
            <a:ext cx="539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71b09"/>
                </a:solidFill>
                <a:latin typeface="Times New Roman"/>
                <a:ea typeface="楷体_GB2312"/>
              </a:rPr>
              <a:t>例如：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串的联接算法中需分三种情况处理：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25909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T[1..S1[0]] = S1[1..S1[0]]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T[S1[0]+1..S1[0]+S2[0]] = S2[1..S2[0]]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T[0] = S1[0]+S2[0];   uncut = </a:t>
            </a:r>
            <a:r>
              <a:rPr b="1" lang="en-US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TRUE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;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}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48200" y="1930320"/>
            <a:ext cx="843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if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(S1[0]+S2[0] &lt;= MAXSTRLEN)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{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//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未截断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160" y="2863800"/>
            <a:ext cx="770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else if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(S1[0] &lt;MAXSTRSIZE)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{ //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截断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77640" y="3778200"/>
            <a:ext cx="47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else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{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//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截断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(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仅取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S1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7240" y="3505320"/>
            <a:ext cx="848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T[1..S1[0]] = S1[1..S1[0]]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T[S1[0]+1..MAXSTRLEN] =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               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S2[1..MAXSTRLEN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－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S1[0]]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T[0] = MAXSTRLEN;     uncut = 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FALSE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; 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}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4343400"/>
            <a:ext cx="874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T[0..MAXSTRLEN] = S1[0..MAXSTRLEN]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             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// T[0] == S1[0] == MAXSTRLE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uncut = </a:t>
            </a:r>
            <a:r>
              <a:rPr b="1" lang="en-US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FALSE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; 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}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8381880" y="6162840"/>
            <a:ext cx="476280" cy="4539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c4"/>
            </a:gs>
            <a:gs pos="100000">
              <a:srgbClr val="e2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630080" y="1828800"/>
            <a:ext cx="5715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typedef struct {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char *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ch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;  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   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// 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若是非空串，则按串实用长度分配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   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//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存储区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，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否则 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ch 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为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NULL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int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length;   // 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串长度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}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HString;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20720" y="457200"/>
            <a:ext cx="49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101686"/>
                </a:solidFill>
                <a:latin typeface="Times New Roman"/>
                <a:ea typeface="楷体_GB2312"/>
              </a:rPr>
              <a:t>二、串的堆分配存储表示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c4"/>
            </a:gs>
            <a:gs pos="100000">
              <a:srgbClr val="e2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28600" y="133200"/>
            <a:ext cx="845820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通常，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C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语言中提供的串类型就是以这种存储方式实现的。系统利用函数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malloc( )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和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free( )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进行串值空间的动态管理，为每一个新产生的串分配一个存储区，称串值共享的存储空间为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“堆”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C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语言中的串以一个空字符为结束符，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串长是一个隐含值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074680" y="4768920"/>
            <a:ext cx="49629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隶书"/>
              </a:rPr>
              <a:t>  </a:t>
            </a: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隶书"/>
              </a:rPr>
              <a:t>这类串操作</a:t>
            </a:r>
            <a:r>
              <a:rPr b="0" lang="zh-CN" sz="4400" spc="-1" strike="noStrike">
                <a:solidFill>
                  <a:srgbClr val="871b09"/>
                </a:solidFill>
                <a:latin typeface="Times New Roman"/>
                <a:ea typeface="隶书"/>
              </a:rPr>
              <a:t>实现的算法</a:t>
            </a: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隶书"/>
              </a:rPr>
              <a:t>为</a:t>
            </a: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隶书"/>
              </a:rPr>
              <a:t>: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隶书"/>
              </a:rPr>
              <a:t>   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隶书"/>
              </a:rPr>
              <a:t>先为新生成的串分配一个存储空间，然后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隶书"/>
              </a:rPr>
              <a:t> 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隶书"/>
              </a:rPr>
              <a:t>进行串值的复制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c4"/>
            </a:gs>
            <a:gs pos="100000">
              <a:srgbClr val="e2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76320" y="304920"/>
            <a:ext cx="9067680" cy="64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Times New Roman"/>
              </a:rPr>
              <a:t>Status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Concat(HString </a:t>
            </a:r>
            <a:r>
              <a:rPr b="1" lang="zh-CN" sz="3200" spc="-1" strike="noStrike">
                <a:solidFill>
                  <a:srgbClr val="006666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T, HString S1, HString S2) </a:t>
            </a:r>
            <a:r>
              <a:rPr b="1" lang="zh-CN" sz="3200" spc="-1" strike="noStrike">
                <a:solidFill>
                  <a:srgbClr val="006666"/>
                </a:solidFill>
                <a:latin typeface="Times New Roman"/>
              </a:rPr>
              <a:t>{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// 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  <a:ea typeface="隶书"/>
              </a:rPr>
              <a:t>用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  <a:ea typeface="隶书"/>
              </a:rPr>
              <a:t>T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  <a:ea typeface="隶书"/>
              </a:rPr>
              <a:t>返回由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  <a:ea typeface="隶书"/>
              </a:rPr>
              <a:t>S1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  <a:ea typeface="隶书"/>
              </a:rPr>
              <a:t>和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  <a:ea typeface="隶书"/>
              </a:rPr>
              <a:t>S2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  <a:ea typeface="隶书"/>
              </a:rPr>
              <a:t>联接而成的新串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6666"/>
                </a:solidFill>
                <a:latin typeface="Times New Roman"/>
              </a:rPr>
              <a:t>if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(T.ch)  d</a:t>
            </a:r>
            <a:r>
              <a:rPr b="1" lang="zh-CN" sz="3200" spc="-1" strike="noStrike">
                <a:solidFill>
                  <a:srgbClr val="006666"/>
                </a:solidFill>
                <a:latin typeface="Times New Roman"/>
              </a:rPr>
              <a:t>elete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(T.ch);        // 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释放旧空间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6666"/>
                </a:solidFill>
                <a:latin typeface="Times New Roman"/>
              </a:rPr>
              <a:t>if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(</a:t>
            </a:r>
            <a:r>
              <a:rPr b="1" lang="zh-CN" sz="3200" spc="-1" strike="noStrike">
                <a:solidFill>
                  <a:srgbClr val="006666"/>
                </a:solidFill>
                <a:latin typeface="Times New Roman"/>
              </a:rPr>
              <a:t>!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T.ch =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new char[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S1.length+S2.length]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)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6666"/>
                </a:solidFill>
                <a:latin typeface="Times New Roman"/>
              </a:rPr>
              <a:t>exit 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(OVERFLOW)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T.ch[0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..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S1.length-1] = S1.ch[0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..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S1.length-1]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T.length = S1.length + S2.length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T.ch[S1.length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..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T.length-1] = S2.ch[0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..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S2.length-1]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6666"/>
                </a:solidFill>
                <a:latin typeface="Times New Roman"/>
              </a:rPr>
              <a:t>return OK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Times New Roman"/>
              </a:rPr>
              <a:t>}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// Conc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c4"/>
            </a:gs>
            <a:gs pos="100000">
              <a:srgbClr val="e2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240" y="117360"/>
            <a:ext cx="9369360" cy="67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6666"/>
                </a:solidFill>
                <a:latin typeface="Times New Roman"/>
              </a:rPr>
              <a:t>Status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SubString(HString </a:t>
            </a:r>
            <a:r>
              <a:rPr b="1" lang="zh-CN" sz="3200" spc="-1" strike="noStrike">
                <a:solidFill>
                  <a:srgbClr val="006666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Sub, HString S,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</a:t>
            </a:r>
            <a:r>
              <a:rPr b="1" lang="zh-CN" sz="3200" spc="-1" strike="noStrike">
                <a:solidFill>
                  <a:srgbClr val="006666"/>
                </a:solidFill>
                <a:latin typeface="Times New Roman"/>
              </a:rPr>
              <a:t>int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pos, </a:t>
            </a:r>
            <a:r>
              <a:rPr b="1" lang="zh-CN" sz="3200" spc="-1" strike="noStrike">
                <a:solidFill>
                  <a:srgbClr val="006666"/>
                </a:solidFill>
                <a:latin typeface="Times New Roman"/>
              </a:rPr>
              <a:t>int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len) </a:t>
            </a:r>
            <a:r>
              <a:rPr b="1" lang="zh-CN" sz="3200" spc="-1" strike="noStrike">
                <a:solidFill>
                  <a:srgbClr val="006666"/>
                </a:solidFill>
                <a:latin typeface="Times New Roman"/>
              </a:rPr>
              <a:t>{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// 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用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Sub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返回串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S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的第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pos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个字符起长度为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len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的子串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6666"/>
                </a:solidFill>
                <a:latin typeface="Times New Roman"/>
              </a:rPr>
              <a:t>if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(pos &lt; 1  </a:t>
            </a:r>
            <a:r>
              <a:rPr b="1" lang="zh-CN" sz="3200" spc="-1" strike="noStrike">
                <a:solidFill>
                  <a:srgbClr val="006666"/>
                </a:solidFill>
                <a:latin typeface="Times New Roman"/>
              </a:rPr>
              <a:t>||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 pos &gt; S.length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                     </a:t>
            </a:r>
            <a:r>
              <a:rPr b="1" lang="zh-CN" sz="3200" spc="-1" strike="noStrike">
                <a:solidFill>
                  <a:srgbClr val="006666"/>
                </a:solidFill>
                <a:latin typeface="Times New Roman"/>
              </a:rPr>
              <a:t>||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 len &lt; 0  </a:t>
            </a:r>
            <a:r>
              <a:rPr b="1" lang="zh-CN" sz="3200" spc="-1" strike="noStrike">
                <a:solidFill>
                  <a:srgbClr val="006666"/>
                </a:solidFill>
                <a:latin typeface="Times New Roman"/>
              </a:rPr>
              <a:t>||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 len &gt; S.length-pos+1)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6666"/>
                </a:solidFill>
                <a:latin typeface="Times New Roman"/>
              </a:rPr>
              <a:t>return ERROR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6666"/>
                </a:solidFill>
                <a:latin typeface="Times New Roman"/>
              </a:rPr>
              <a:t>if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(Sub.ch)  </a:t>
            </a:r>
            <a:r>
              <a:rPr b="1" lang="zh-CN" sz="3200" spc="-1" strike="noStrike">
                <a:solidFill>
                  <a:srgbClr val="006666"/>
                </a:solidFill>
                <a:latin typeface="Times New Roman"/>
              </a:rPr>
              <a:t>delete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(Sub.ch);             // 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释放旧空间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6666"/>
                </a:solidFill>
                <a:latin typeface="Times New Roman"/>
              </a:rPr>
              <a:t>if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!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len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6666"/>
                </a:solidFill>
                <a:latin typeface="Times New Roman"/>
              </a:rPr>
              <a:t>{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Sub.ch = NULL;  Sub.length = 0;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6666"/>
                </a:solidFill>
                <a:latin typeface="Times New Roman"/>
              </a:rPr>
              <a:t>} 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// 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空子串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6666"/>
                </a:solidFill>
                <a:latin typeface="Times New Roman"/>
              </a:rPr>
              <a:t>else {                                                  } 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//</a:t>
            </a:r>
            <a:r>
              <a:rPr b="0" lang="zh-CN" sz="32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完整子串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6666"/>
                </a:solidFill>
                <a:latin typeface="Times New Roman"/>
              </a:rPr>
              <a:t>return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6666"/>
                </a:solidFill>
                <a:latin typeface="Times New Roman"/>
              </a:rPr>
              <a:t>OK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Times New Roman"/>
              </a:rPr>
              <a:t>}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// SubStri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nextslide"/>
          </p:cNvPr>
          <p:cNvSpPr/>
          <p:nvPr/>
        </p:nvSpPr>
        <p:spPr>
          <a:xfrm>
            <a:off x="1901160" y="5025960"/>
            <a:ext cx="144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…  …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8381880" y="6095880"/>
            <a:ext cx="476280" cy="454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c4"/>
            </a:gs>
            <a:gs pos="100000">
              <a:srgbClr val="e2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4440" y="1295280"/>
            <a:ext cx="892692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6666"/>
                </a:solidFill>
                <a:latin typeface="Times New Roman"/>
              </a:rPr>
              <a:t>if(!(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Sub.ch = new char[len]</a:t>
            </a:r>
            <a:r>
              <a:rPr b="0" lang="zh-CN" sz="4000" spc="-1" strike="noStrike">
                <a:solidFill>
                  <a:srgbClr val="578963"/>
                </a:solidFill>
                <a:latin typeface="Times New Roman"/>
              </a:rPr>
              <a:t>)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78963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578963"/>
                </a:solidFill>
                <a:latin typeface="Times New Roman"/>
              </a:rPr>
              <a:t>return ERROR;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Sub.ch[0..len-1] = S.ch[pos-1..pos+len-2];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Sub.length = len;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previousslide"/>
          </p:cNvPr>
          <p:cNvSpPr/>
          <p:nvPr/>
        </p:nvSpPr>
        <p:spPr>
          <a:xfrm>
            <a:off x="8229600" y="5943600"/>
            <a:ext cx="457200" cy="457200"/>
          </a:xfrm>
          <a:custGeom>
            <a:avLst/>
            <a:gdLst>
              <a:gd name="textAreaLeft" fmla="*/ 96840 w 457200"/>
              <a:gd name="textAreaRight" fmla="*/ 360360 w 457200"/>
              <a:gd name="textAreaTop" fmla="*/ 96840 h 457200"/>
              <a:gd name="textAreaBottom" fmla="*/ 3603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7025" y="4575"/>
                </a:lnTo>
                <a:lnTo>
                  <a:pt x="4575" y="457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7025" y="17025"/>
                </a:lnTo>
                <a:lnTo>
                  <a:pt x="17025" y="457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4575" y="17025"/>
                </a:lnTo>
                <a:lnTo>
                  <a:pt x="17025" y="1702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4575" y="4575"/>
                </a:lnTo>
                <a:lnTo>
                  <a:pt x="4575" y="17025"/>
                </a:lnTo>
                <a:close/>
              </a:path>
              <a:path fill="darken" w="21600" h="21600">
                <a:moveTo>
                  <a:pt x="6160" y="8610"/>
                </a:moveTo>
                <a:lnTo>
                  <a:pt x="8483" y="8610"/>
                </a:lnTo>
                <a:lnTo>
                  <a:pt x="8483" y="12143"/>
                </a:lnTo>
                <a:cubicBezTo>
                  <a:pt x="8483" y="12754"/>
                  <a:pt x="9013" y="13238"/>
                  <a:pt x="9699" y="13238"/>
                </a:cubicBezTo>
                <a:lnTo>
                  <a:pt x="10800" y="13238"/>
                </a:lnTo>
                <a:cubicBezTo>
                  <a:pt x="11486" y="13238"/>
                  <a:pt x="12016" y="12754"/>
                  <a:pt x="12016" y="12143"/>
                </a:cubicBezTo>
                <a:lnTo>
                  <a:pt x="12016" y="8610"/>
                </a:lnTo>
                <a:lnTo>
                  <a:pt x="10800" y="8610"/>
                </a:lnTo>
                <a:lnTo>
                  <a:pt x="13123" y="6287"/>
                </a:lnTo>
                <a:lnTo>
                  <a:pt x="15555" y="8610"/>
                </a:lnTo>
                <a:lnTo>
                  <a:pt x="14339" y="8610"/>
                </a:lnTo>
                <a:lnTo>
                  <a:pt x="14339" y="12143"/>
                </a:lnTo>
                <a:cubicBezTo>
                  <a:pt x="14339" y="13976"/>
                  <a:pt x="12633" y="15670"/>
                  <a:pt x="10800" y="15670"/>
                </a:cubicBezTo>
                <a:lnTo>
                  <a:pt x="9699" y="15670"/>
                </a:lnTo>
                <a:cubicBezTo>
                  <a:pt x="7866" y="15670"/>
                  <a:pt x="6160" y="13976"/>
                  <a:pt x="6160" y="12143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bd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c4"/>
            </a:gs>
            <a:gs pos="100000">
              <a:srgbClr val="e2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835560" y="0"/>
            <a:ext cx="226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1" lang="zh-CN" sz="4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基本操作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：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38080" y="24033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8520" y="1066680"/>
            <a:ext cx="500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StrAssign (&amp;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T, </a:t>
            </a: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chars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287640" y="2590920"/>
            <a:ext cx="382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StrCopy 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(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&amp;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T, S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4191120" y="18288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DestroyString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(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&amp;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S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>
            <a:hlinkClick r:id="rId3" action="ppaction://hlinksldjump"/>
          </p:cNvPr>
          <p:cNvSpPr/>
          <p:nvPr/>
        </p:nvSpPr>
        <p:spPr>
          <a:xfrm>
            <a:off x="353880" y="5562720"/>
            <a:ext cx="314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StrEmpty 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(S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>
            <a:hlinkClick r:id="rId4" action="ppaction://hlinksldjump"/>
          </p:cNvPr>
          <p:cNvSpPr/>
          <p:nvPr/>
        </p:nvSpPr>
        <p:spPr>
          <a:xfrm>
            <a:off x="309960" y="4098960"/>
            <a:ext cx="427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StrCompare 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(S, T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>
            <a:hlinkClick r:id="rId5" action="ppaction://hlinksldjump"/>
          </p:cNvPr>
          <p:cNvSpPr/>
          <p:nvPr/>
        </p:nvSpPr>
        <p:spPr>
          <a:xfrm>
            <a:off x="4191120" y="3336840"/>
            <a:ext cx="322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StrLength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(S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96160" y="4876920"/>
            <a:ext cx="458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Concat 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(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&amp;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T, S1, S2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c4"/>
            </a:gs>
            <a:gs pos="100000">
              <a:srgbClr val="e2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52280" y="152280"/>
            <a:ext cx="883944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c2b"/>
                </a:solidFill>
                <a:latin typeface="Times New Roman"/>
              </a:rPr>
              <a:t>void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</a:rPr>
              <a:t> StrInsert (Hstring&amp; S,  </a:t>
            </a:r>
            <a:r>
              <a:rPr b="1" lang="zh-CN" sz="3200" spc="-1" strike="noStrike">
                <a:solidFill>
                  <a:srgbClr val="004c2b"/>
                </a:solidFill>
                <a:latin typeface="Times New Roman"/>
              </a:rPr>
              <a:t>int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</a:rPr>
              <a:t> pos,  HString T) </a:t>
            </a:r>
            <a:r>
              <a:rPr b="1" lang="zh-CN" sz="3200" spc="-1" strike="noStrike">
                <a:solidFill>
                  <a:srgbClr val="004c2b"/>
                </a:solidFill>
                <a:latin typeface="Times New Roman"/>
              </a:rPr>
              <a:t>{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4c2b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</a:rPr>
              <a:t>// 1≤pos≤StrLength(S)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</a:rPr>
              <a:t>＋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</a:rPr>
              <a:t>。在串 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</a:rPr>
              <a:t>S 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</a:rPr>
              <a:t>的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4c2b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</a:rPr>
              <a:t>// 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</a:rPr>
              <a:t>第 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</a:rPr>
              <a:t>pos 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</a:rPr>
              <a:t>个字符之前插入串 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4c2b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</a:rPr>
              <a:t>slen=S.length;     tlen=T.length;      // </a:t>
            </a:r>
            <a:r>
              <a:rPr b="0" lang="zh-CN" sz="2400" spc="-1" strike="noStrike">
                <a:solidFill>
                  <a:srgbClr val="004c2b"/>
                </a:solidFill>
                <a:latin typeface="Times New Roman"/>
              </a:rPr>
              <a:t>取得</a:t>
            </a:r>
            <a:r>
              <a:rPr b="0" lang="zh-CN" sz="2400" spc="-1" strike="noStrike">
                <a:solidFill>
                  <a:srgbClr val="004c2b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4c2b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4c2b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4c2b"/>
                </a:solidFill>
                <a:latin typeface="Times New Roman"/>
              </a:rPr>
              <a:t>的串长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c2b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4c2b"/>
                </a:solidFill>
                <a:latin typeface="Times New Roman"/>
              </a:rPr>
              <a:t>if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</a:rPr>
              <a:t> (pos &lt; 1 </a:t>
            </a:r>
            <a:r>
              <a:rPr b="1" lang="zh-CN" sz="3200" spc="-1" strike="noStrike">
                <a:solidFill>
                  <a:srgbClr val="004c2b"/>
                </a:solidFill>
                <a:latin typeface="Times New Roman"/>
              </a:rPr>
              <a:t>||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</a:rPr>
              <a:t> pos &gt; slen+1)  return;  // </a:t>
            </a:r>
            <a:r>
              <a:rPr b="0" lang="zh-CN" sz="2400" spc="-1" strike="noStrike">
                <a:solidFill>
                  <a:srgbClr val="004c2b"/>
                </a:solidFill>
                <a:latin typeface="Times New Roman"/>
              </a:rPr>
              <a:t>插入位置不合法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4c2b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</a:rPr>
              <a:t>S1.ch = 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new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</a:rPr>
              <a:t> char[slen] ;   // S1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</a:rPr>
              <a:t>作为辅助串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4c2b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</a:rPr>
              <a:t>S1.ch[0..slen-1] = S.ch[0..slen-1];    // 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</a:rPr>
              <a:t>暂存 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4c2b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4c2b"/>
                </a:solidFill>
                <a:latin typeface="Times New Roman"/>
              </a:rPr>
              <a:t>if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</a:rPr>
              <a:t> (tlen&gt;0)     </a:t>
            </a:r>
            <a:r>
              <a:rPr b="0" lang="zh-CN" sz="2800" spc="-1" strike="noStrike">
                <a:solidFill>
                  <a:srgbClr val="004c2b"/>
                </a:solidFill>
                <a:latin typeface="Times New Roman"/>
              </a:rPr>
              <a:t>// T </a:t>
            </a:r>
            <a:r>
              <a:rPr b="0" lang="zh-CN" sz="2800" spc="-1" strike="noStrike">
                <a:solidFill>
                  <a:srgbClr val="004c2b"/>
                </a:solidFill>
                <a:latin typeface="Times New Roman"/>
              </a:rPr>
              <a:t>非空，则为</a:t>
            </a:r>
            <a:r>
              <a:rPr b="0" lang="zh-CN" sz="2800" spc="-1" strike="noStrike">
                <a:solidFill>
                  <a:srgbClr val="004c2b"/>
                </a:solidFill>
                <a:latin typeface="Times New Roman"/>
              </a:rPr>
              <a:t>S</a:t>
            </a:r>
            <a:r>
              <a:rPr b="0" lang="zh-CN" sz="2800" spc="-1" strike="noStrike">
                <a:solidFill>
                  <a:srgbClr val="004c2b"/>
                </a:solidFill>
                <a:latin typeface="Times New Roman"/>
              </a:rPr>
              <a:t>重新分配空间并插入</a:t>
            </a:r>
            <a:r>
              <a:rPr b="0" lang="zh-CN" sz="2800" spc="-1" strike="noStrike">
                <a:solidFill>
                  <a:srgbClr val="004c2b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c2b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4c2b"/>
                </a:solidFill>
                <a:latin typeface="Times New Roman"/>
              </a:rPr>
              <a:t>{                                             }                       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c2b"/>
                </a:solidFill>
                <a:latin typeface="Times New Roman"/>
              </a:rPr>
              <a:t>}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</a:rPr>
              <a:t> // StrInsert _HSq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3" name="">
            <a:hlinkClick r:id="" action="ppaction://hlinkshowjump?jump=nextslide"/>
          </p:cNvPr>
          <p:cNvSpPr/>
          <p:nvPr/>
        </p:nvSpPr>
        <p:spPr>
          <a:xfrm>
            <a:off x="1066680" y="556272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c2b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</a:rPr>
              <a:t>……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001000" y="6219720"/>
            <a:ext cx="838080" cy="4096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c4"/>
            </a:gs>
            <a:gs pos="100000">
              <a:srgbClr val="e2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04920" y="228600"/>
            <a:ext cx="8534160" cy="68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4c2b"/>
                </a:solidFill>
                <a:latin typeface="Times New Roman"/>
              </a:rPr>
              <a:t>S.ch = 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new</a:t>
            </a:r>
            <a:r>
              <a:rPr b="1" lang="zh-CN" sz="3200" spc="-1" strike="noStrike">
                <a:solidFill>
                  <a:srgbClr val="004c2b"/>
                </a:solidFill>
                <a:latin typeface="Times New Roman"/>
              </a:rPr>
              <a:t> char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</a:rPr>
              <a:t>[slen + tlen ];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4c2b"/>
                </a:solidFill>
                <a:latin typeface="Times New Roman"/>
              </a:rPr>
              <a:t>                           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</a:rPr>
              <a:t>// 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</a:rPr>
              <a:t>为 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</a:rPr>
              <a:t>S 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</a:rPr>
              <a:t>重新分配空间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c2b"/>
                </a:solidFill>
                <a:latin typeface="Times New Roman"/>
              </a:rPr>
              <a:t>for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</a:rPr>
              <a:t> ( i=0, k=0; i&lt;pos-1; i++)  S.ch[k++] = S1.ch[i];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4c2b"/>
                </a:solidFill>
                <a:latin typeface="Times New Roman"/>
              </a:rPr>
              <a:t>                          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</a:rPr>
              <a:t>// 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</a:rPr>
              <a:t>保留插入位置之前的子串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c2b"/>
                </a:solidFill>
                <a:latin typeface="Times New Roman"/>
              </a:rPr>
              <a:t>for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</a:rPr>
              <a:t> ( i=0; i&lt;tlen; i++)  S.ch[k++] = T.ch[i]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4c2b"/>
                </a:solidFill>
                <a:latin typeface="Times New Roman"/>
              </a:rPr>
              <a:t>                         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</a:rPr>
              <a:t>// 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</a:rPr>
              <a:t>插入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c2b"/>
                </a:solidFill>
                <a:latin typeface="Times New Roman"/>
              </a:rPr>
              <a:t>for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</a:rPr>
              <a:t> ( i=pos; i&lt;slen; i++ )  S.ch[k++] = S1.ch[i];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4c2b"/>
                </a:solidFill>
                <a:latin typeface="Times New Roman"/>
              </a:rPr>
              <a:t>                         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</a:rPr>
              <a:t>// 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</a:rPr>
              <a:t>复制插入位置之后的子串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4c2b"/>
                </a:solidFill>
                <a:latin typeface="Times New Roman"/>
              </a:rPr>
              <a:t>S.length = slen+tlen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delete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</a:rPr>
              <a:t>  S1.ch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" name="">
            <a:hlinkClick r:id="" action="ppaction://hlinkshowjump?jump=previousslide"/>
          </p:cNvPr>
          <p:cNvSpPr/>
          <p:nvPr/>
        </p:nvSpPr>
        <p:spPr>
          <a:xfrm>
            <a:off x="8534520" y="6248520"/>
            <a:ext cx="304560" cy="380880"/>
          </a:xfrm>
          <a:custGeom>
            <a:avLst/>
            <a:gdLst>
              <a:gd name="textAreaLeft" fmla="*/ 36360 w 304560"/>
              <a:gd name="textAreaRight" fmla="*/ 268200 w 304560"/>
              <a:gd name="textAreaTop" fmla="*/ 36360 h 380880"/>
              <a:gd name="textAreaBottom" fmla="*/ 34452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19012" y="2588"/>
                </a:lnTo>
                <a:lnTo>
                  <a:pt x="2588" y="2588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19012" y="24418"/>
                </a:lnTo>
                <a:lnTo>
                  <a:pt x="19012" y="2588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2588" y="24418"/>
                </a:lnTo>
                <a:lnTo>
                  <a:pt x="19012" y="24418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2588" y="2588"/>
                </a:lnTo>
                <a:lnTo>
                  <a:pt x="2588" y="24418"/>
                </a:lnTo>
                <a:close/>
              </a:path>
              <a:path fill="darken" w="21600" h="27006">
                <a:moveTo>
                  <a:pt x="4679" y="10614"/>
                </a:moveTo>
                <a:lnTo>
                  <a:pt x="7743" y="10614"/>
                </a:lnTo>
                <a:lnTo>
                  <a:pt x="7743" y="15275"/>
                </a:lnTo>
                <a:cubicBezTo>
                  <a:pt x="7743" y="16081"/>
                  <a:pt x="8443" y="16720"/>
                  <a:pt x="9348" y="16720"/>
                </a:cubicBezTo>
                <a:lnTo>
                  <a:pt x="10800" y="16720"/>
                </a:lnTo>
                <a:cubicBezTo>
                  <a:pt x="11705" y="16720"/>
                  <a:pt x="12404" y="16081"/>
                  <a:pt x="12404" y="15275"/>
                </a:cubicBezTo>
                <a:lnTo>
                  <a:pt x="12404" y="10614"/>
                </a:lnTo>
                <a:lnTo>
                  <a:pt x="10800" y="10614"/>
                </a:lnTo>
                <a:lnTo>
                  <a:pt x="13864" y="7549"/>
                </a:lnTo>
                <a:lnTo>
                  <a:pt x="17073" y="10614"/>
                </a:lnTo>
                <a:lnTo>
                  <a:pt x="15469" y="10614"/>
                </a:lnTo>
                <a:lnTo>
                  <a:pt x="15469" y="15275"/>
                </a:lnTo>
                <a:cubicBezTo>
                  <a:pt x="15469" y="17693"/>
                  <a:pt x="13218" y="19928"/>
                  <a:pt x="10800" y="19928"/>
                </a:cubicBezTo>
                <a:lnTo>
                  <a:pt x="9348" y="19928"/>
                </a:lnTo>
                <a:cubicBezTo>
                  <a:pt x="6930" y="19928"/>
                  <a:pt x="4679" y="17693"/>
                  <a:pt x="4679" y="15275"/>
                </a:cubicBezTo>
                <a:close/>
              </a:path>
            </a:pathLst>
          </a:custGeom>
          <a:solidFill>
            <a:srgbClr val="cde9eb"/>
          </a:solidFill>
          <a:ln w="93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c4"/>
            </a:gs>
            <a:gs pos="100000">
              <a:srgbClr val="e2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827880" y="228600"/>
            <a:ext cx="49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三、串的块链存储表示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1387440"/>
            <a:ext cx="8076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也可用链表来存储串值，由于串的数据元素是一个字符，它只有 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8 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位二进制数，因此用链表存储时，通常一个结点中存放的不是一个字符，而是一个子串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92960" y="4708440"/>
            <a:ext cx="223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存储密度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=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81280" y="5105520"/>
            <a:ext cx="441972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66160" y="44640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560ab"/>
                </a:solidFill>
                <a:latin typeface="Times New Roman"/>
                <a:ea typeface="隶书"/>
              </a:rPr>
              <a:t>数据元素所占存储位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11520" y="49975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560ab"/>
                </a:solidFill>
                <a:latin typeface="Times New Roman"/>
                <a:ea typeface="隶书"/>
              </a:rPr>
              <a:t>实际分配的存储位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c4"/>
            </a:gs>
            <a:gs pos="100000">
              <a:srgbClr val="e2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228600" y="304920"/>
            <a:ext cx="870912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#define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CHUNKSIZE  80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//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可由用户定义的块大小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typedef  struct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Chunk 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{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//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结点结构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char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ch[CUNKSIZE]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struct 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Chunk  *next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}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Chunk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typedef struct {  </a:t>
            </a:r>
            <a:r>
              <a:rPr b="0" lang="zh-CN" sz="3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// </a:t>
            </a:r>
            <a:r>
              <a:rPr b="0" lang="zh-CN" sz="3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串的链表结构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Chunk *head, *tail;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//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串的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头和尾指针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int 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curlen;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//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串的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当前长度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}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LString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c4"/>
            </a:gs>
            <a:gs pos="100000">
              <a:srgbClr val="e2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>
            <a:hlinkClick r:id="" action="ppaction://hlinkshowjump?jump=firstslide"/>
          </p:cNvPr>
          <p:cNvSpPr/>
          <p:nvPr/>
        </p:nvSpPr>
        <p:spPr>
          <a:xfrm>
            <a:off x="182520" y="2263680"/>
            <a:ext cx="8732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</a:t>
            </a:r>
            <a:r>
              <a:rPr b="0" lang="zh-CN" sz="3600" spc="-1" strike="noStrike">
                <a:solidFill>
                  <a:srgbClr val="871b09"/>
                </a:solidFill>
                <a:latin typeface="Times New Roman"/>
                <a:ea typeface="楷体_GB2312"/>
              </a:rPr>
              <a:t>例如</a:t>
            </a:r>
            <a:r>
              <a:rPr b="0" lang="zh-CN" sz="3600" spc="-1" strike="noStrike">
                <a:solidFill>
                  <a:srgbClr val="871b09"/>
                </a:solidFill>
                <a:latin typeface="Times New Roman"/>
                <a:ea typeface="楷体_GB2312"/>
              </a:rPr>
              <a:t>: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在编辑系统中，整个文本编辑区可以看成是一个串，每一行是一个子串，构成一个结点。即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: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同一行的串用定长结构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(80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个字符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),  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行和行之间用指针相联接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7924680" y="6143760"/>
            <a:ext cx="838440" cy="4093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517680" y="441360"/>
            <a:ext cx="8245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实际应用时，可以根据问题所需来设置结点的大小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c4"/>
            </a:gs>
            <a:gs pos="100000">
              <a:srgbClr val="e2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521720" y="2874960"/>
            <a:ext cx="6014520" cy="29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</a:t>
            </a: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这是串的一种重要操作，很多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软件，若有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编辑”</a:t>
            </a: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菜单项的话，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则其中必有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查找”</a:t>
            </a: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子菜单项。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270440" y="1219320"/>
            <a:ext cx="6215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4.3</a:t>
            </a:r>
            <a:r>
              <a:rPr b="1" lang="zh-CN" sz="5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	</a:t>
            </a:r>
            <a:r>
              <a:rPr b="1" lang="zh-CN" sz="5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串的模式匹配算法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077320" y="6019920"/>
            <a:ext cx="685800" cy="511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c4"/>
            </a:gs>
            <a:gs pos="100000">
              <a:srgbClr val="e2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80880" y="1981080"/>
            <a:ext cx="83059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初始条件</a:t>
            </a:r>
            <a:r>
              <a:rPr b="0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：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串 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S 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和 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T 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存在，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T 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是非空串，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                     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≤pos≤StrLength(S)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。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           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63320" y="152280"/>
            <a:ext cx="421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首先，回忆一下</a:t>
            </a:r>
            <a:r>
              <a:rPr b="0" lang="zh-CN" sz="4000" spc="-1" strike="noStrike">
                <a:solidFill>
                  <a:srgbClr val="871b09"/>
                </a:solidFill>
                <a:latin typeface="Times New Roman"/>
                <a:ea typeface="楷体_GB2312"/>
              </a:rPr>
              <a:t>串匹配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(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查找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)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的定义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58240" y="1066680"/>
            <a:ext cx="41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INDEX (S, T, pos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-124560" y="3505320"/>
            <a:ext cx="9107280" cy="30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操作结果</a:t>
            </a:r>
            <a:r>
              <a:rPr b="0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：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若主串 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S 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中存在和串 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T 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值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                 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相同的子串返回它在主串 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S 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中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                 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第 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pos 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个字符之后第一次出现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                 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的位置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; 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否则函数值为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0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c4"/>
            </a:gs>
            <a:gs pos="100000">
              <a:srgbClr val="e2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597960" y="152280"/>
            <a:ext cx="8114760" cy="66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int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Index (String S, String T, </a:t>
            </a:r>
            <a:r>
              <a:rPr b="1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int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pos) </a:t>
            </a:r>
            <a:r>
              <a:rPr b="1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{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// T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为非空串。若主串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S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中第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pos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个字符之后存在与 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T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相等的子串，则返回第一个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这样的子串在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S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中的 位置，否则返回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0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if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(pos </a:t>
            </a:r>
            <a:r>
              <a:rPr b="1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&gt;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0) </a:t>
            </a:r>
            <a:r>
              <a:rPr b="1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{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n = StrLength(S);  m = StrLength(T);  i = pos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while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( i &lt;= n-m+1) </a:t>
            </a:r>
            <a:r>
              <a:rPr b="1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{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SubString (sub, S, i, m)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if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(StrCompare(sub,T)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!=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0)   ++i 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else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return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i 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} 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// whi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} 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// if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return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0;          </a:t>
            </a:r>
            <a:r>
              <a:rPr b="0" lang="zh-CN" sz="2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// S</a:t>
            </a:r>
            <a:r>
              <a:rPr b="0" lang="zh-CN" sz="2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中不存在与</a:t>
            </a:r>
            <a:r>
              <a:rPr b="0" lang="zh-CN" sz="2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T</a:t>
            </a:r>
            <a:r>
              <a:rPr b="0" lang="zh-CN" sz="2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相等的子串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}</a:t>
            </a:r>
            <a:r>
              <a:rPr b="0" lang="zh-CN" sz="2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// Index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c4"/>
            </a:gs>
            <a:gs pos="100000">
              <a:srgbClr val="e2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496880" y="239760"/>
            <a:ext cx="5813280" cy="16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   </a:t>
            </a:r>
            <a:r>
              <a:rPr b="0" lang="zh-CN" sz="48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下面讨论以定长顺序结构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表示串时的几种算法。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" name="">
            <a:hlinkClick r:id="" action="ppaction://hlinkshowjump?jump=nextslide"/>
          </p:cNvPr>
          <p:cNvSpPr/>
          <p:nvPr/>
        </p:nvSpPr>
        <p:spPr>
          <a:xfrm>
            <a:off x="1280880" y="213372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一、简单算法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7400" y="4083120"/>
            <a:ext cx="938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三、</a:t>
            </a: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KMP(</a:t>
            </a:r>
            <a:r>
              <a:rPr b="0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D.E.Knuth,V.R.Pratt,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    </a:t>
            </a:r>
            <a:r>
              <a:rPr b="0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J.H.Morris) </a:t>
            </a: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算法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88" name="DARTS" descr=""/>
          <p:cNvPicPr/>
          <p:nvPr/>
        </p:nvPicPr>
        <p:blipFill>
          <a:blip r:embed="rId1"/>
          <a:stretch/>
        </p:blipFill>
        <p:spPr>
          <a:xfrm>
            <a:off x="8305920" y="609588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2853000" y="3124080"/>
            <a:ext cx="45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二、首尾匹配算法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c4"/>
            </a:gs>
            <a:gs pos="100000">
              <a:srgbClr val="e2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93640" y="1433520"/>
            <a:ext cx="7712280" cy="520560"/>
          </a:xfrm>
          <a:prstGeom prst="rect">
            <a:avLst/>
          </a:prstGeom>
          <a:solidFill>
            <a:srgbClr val="3366ff">
              <a:alpha val="50000"/>
            </a:srgbClr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                        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 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串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193840" y="1976400"/>
            <a:ext cx="1158840" cy="520560"/>
          </a:xfrm>
          <a:prstGeom prst="rect">
            <a:avLst/>
          </a:prstGeom>
          <a:solidFill>
            <a:srgbClr val="b3e1b3">
              <a:alpha val="50000"/>
            </a:srgbClr>
          </a:solidFill>
          <a:ln w="1908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 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串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09680" y="609480"/>
            <a:ext cx="0" cy="838440"/>
          </a:xfrm>
          <a:prstGeom prst="line">
            <a:avLst/>
          </a:prstGeom>
          <a:ln w="316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09680" y="1447920"/>
            <a:ext cx="0" cy="533160"/>
          </a:xfrm>
          <a:prstGeom prst="line">
            <a:avLst/>
          </a:prstGeom>
          <a:ln w="936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352680" y="1447920"/>
            <a:ext cx="0" cy="533160"/>
          </a:xfrm>
          <a:prstGeom prst="line">
            <a:avLst/>
          </a:prstGeom>
          <a:ln w="936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147080" y="1981080"/>
            <a:ext cx="1158840" cy="520560"/>
          </a:xfrm>
          <a:prstGeom prst="rect">
            <a:avLst/>
          </a:prstGeom>
          <a:solidFill>
            <a:srgbClr val="b3e1b3">
              <a:alpha val="50000"/>
            </a:srgbClr>
          </a:solidFill>
          <a:ln cap="rnd" w="19080">
            <a:solidFill>
              <a:srgbClr val="004c2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578963"/>
                </a:solidFill>
                <a:latin typeface="Times New Roman"/>
              </a:rPr>
              <a:t>T </a:t>
            </a:r>
            <a:r>
              <a:rPr b="0" lang="zh-CN" sz="2800" spc="-1" strike="noStrike">
                <a:solidFill>
                  <a:srgbClr val="578963"/>
                </a:solidFill>
                <a:latin typeface="Times New Roman"/>
                <a:ea typeface="楷体_GB2312"/>
              </a:rPr>
              <a:t>串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162920" y="609480"/>
            <a:ext cx="0" cy="838440"/>
          </a:xfrm>
          <a:prstGeom prst="line">
            <a:avLst/>
          </a:prstGeom>
          <a:ln w="3168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9680" y="914400"/>
            <a:ext cx="4953240" cy="0"/>
          </a:xfrm>
          <a:prstGeom prst="line">
            <a:avLst/>
          </a:prstGeom>
          <a:ln w="2556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11120" y="30492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08760" y="184320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09680" y="1981080"/>
            <a:ext cx="0" cy="1067040"/>
          </a:xfrm>
          <a:prstGeom prst="line">
            <a:avLst/>
          </a:prstGeom>
          <a:ln w="3168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97320" y="191916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n-m+1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3640" y="4408560"/>
            <a:ext cx="7712280" cy="520560"/>
          </a:xfrm>
          <a:prstGeom prst="rect">
            <a:avLst/>
          </a:prstGeom>
          <a:solidFill>
            <a:srgbClr val="3366ff">
              <a:alpha val="50000"/>
            </a:srgbClr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                        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 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串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422440" y="5024520"/>
            <a:ext cx="1158840" cy="520560"/>
          </a:xfrm>
          <a:prstGeom prst="rect">
            <a:avLst/>
          </a:prstGeom>
          <a:solidFill>
            <a:srgbClr val="b3e1b3">
              <a:alpha val="50000"/>
            </a:srgbClr>
          </a:solidFill>
          <a:ln w="19080">
            <a:solidFill>
              <a:srgbClr val="004c2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 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串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209680" y="3505320"/>
            <a:ext cx="0" cy="838080"/>
          </a:xfrm>
          <a:prstGeom prst="line">
            <a:avLst/>
          </a:prstGeom>
          <a:ln w="316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209680" y="4422600"/>
            <a:ext cx="0" cy="533520"/>
          </a:xfrm>
          <a:prstGeom prst="line">
            <a:avLst/>
          </a:prstGeom>
          <a:ln w="936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352680" y="4422600"/>
            <a:ext cx="0" cy="533520"/>
          </a:xfrm>
          <a:prstGeom prst="line">
            <a:avLst/>
          </a:prstGeom>
          <a:ln w="936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527960" y="5024520"/>
            <a:ext cx="1158840" cy="520560"/>
          </a:xfrm>
          <a:prstGeom prst="rect">
            <a:avLst/>
          </a:prstGeom>
          <a:solidFill>
            <a:srgbClr val="b3e1b3">
              <a:alpha val="50000"/>
            </a:srgbClr>
          </a:solidFill>
          <a:ln cap="rnd" w="19080">
            <a:solidFill>
              <a:srgbClr val="004c2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578963"/>
                </a:solidFill>
                <a:latin typeface="Times New Roman"/>
              </a:rPr>
              <a:t>T </a:t>
            </a:r>
            <a:r>
              <a:rPr b="0" lang="zh-CN" sz="2800" spc="-1" strike="noStrike">
                <a:solidFill>
                  <a:srgbClr val="578963"/>
                </a:solidFill>
                <a:latin typeface="Times New Roman"/>
                <a:ea typeface="楷体_GB2312"/>
              </a:rPr>
              <a:t>串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11120" y="342900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06560" y="49528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209680" y="5029200"/>
            <a:ext cx="0" cy="1066680"/>
          </a:xfrm>
          <a:prstGeom prst="line">
            <a:avLst/>
          </a:prstGeom>
          <a:ln w="31680">
            <a:solidFill>
              <a:srgbClr val="004c2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905120" y="3352680"/>
            <a:ext cx="609480" cy="2895840"/>
            <a:chOff x="1905120" y="3352680"/>
            <a:chExt cx="609480" cy="2895840"/>
          </a:xfrm>
        </p:grpSpPr>
        <p:sp>
          <p:nvSpPr>
            <p:cNvPr id="312" name=""/>
            <p:cNvSpPr/>
            <p:nvPr/>
          </p:nvSpPr>
          <p:spPr>
            <a:xfrm>
              <a:off x="1981080" y="3352680"/>
              <a:ext cx="5335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905120" y="5029200"/>
              <a:ext cx="38088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3886200" y="51055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j&gt;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2666880" y="3352680"/>
            <a:ext cx="533520" cy="2959200"/>
            <a:chOff x="2666880" y="3352680"/>
            <a:chExt cx="533520" cy="2959200"/>
          </a:xfrm>
        </p:grpSpPr>
        <p:grpSp>
          <p:nvGrpSpPr>
            <p:cNvPr id="316" name=""/>
            <p:cNvGrpSpPr/>
            <p:nvPr/>
          </p:nvGrpSpPr>
          <p:grpSpPr>
            <a:xfrm>
              <a:off x="2666880" y="3352680"/>
              <a:ext cx="533520" cy="990720"/>
              <a:chOff x="2666880" y="3352680"/>
              <a:chExt cx="533520" cy="990720"/>
            </a:xfrm>
          </p:grpSpPr>
          <p:sp>
            <p:nvSpPr>
              <p:cNvPr id="317" name=""/>
              <p:cNvSpPr/>
              <p:nvPr/>
            </p:nvSpPr>
            <p:spPr>
              <a:xfrm>
                <a:off x="2971800" y="3505320"/>
                <a:ext cx="0" cy="838080"/>
              </a:xfrm>
              <a:prstGeom prst="line">
                <a:avLst/>
              </a:prstGeom>
              <a:ln w="3168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666880" y="335268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9966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2666880" y="5029200"/>
              <a:ext cx="380880" cy="1282680"/>
              <a:chOff x="2666880" y="5029200"/>
              <a:chExt cx="380880" cy="1282680"/>
            </a:xfrm>
          </p:grpSpPr>
          <p:sp>
            <p:nvSpPr>
              <p:cNvPr id="320" name=""/>
              <p:cNvSpPr/>
              <p:nvPr/>
            </p:nvSpPr>
            <p:spPr>
              <a:xfrm>
                <a:off x="2971800" y="5029200"/>
                <a:ext cx="0" cy="1066680"/>
              </a:xfrm>
              <a:prstGeom prst="line">
                <a:avLst/>
              </a:prstGeom>
              <a:ln w="31680">
                <a:solidFill>
                  <a:srgbClr val="004c2b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66688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4c2b"/>
                    </a:solidFill>
                    <a:latin typeface="Times New Roman"/>
                  </a:rPr>
                  <a:t>j</a:t>
                </a:r>
                <a:endParaRPr b="0" lang="en-US" sz="2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2" name=""/>
          <p:cNvGrpSpPr/>
          <p:nvPr/>
        </p:nvGrpSpPr>
        <p:grpSpPr>
          <a:xfrm>
            <a:off x="2133720" y="3352680"/>
            <a:ext cx="533160" cy="2959200"/>
            <a:chOff x="2133720" y="3352680"/>
            <a:chExt cx="533160" cy="2959200"/>
          </a:xfrm>
        </p:grpSpPr>
        <p:grpSp>
          <p:nvGrpSpPr>
            <p:cNvPr id="323" name=""/>
            <p:cNvGrpSpPr/>
            <p:nvPr/>
          </p:nvGrpSpPr>
          <p:grpSpPr>
            <a:xfrm>
              <a:off x="2133720" y="3352680"/>
              <a:ext cx="533160" cy="990720"/>
              <a:chOff x="2133720" y="3352680"/>
              <a:chExt cx="533160" cy="990720"/>
            </a:xfrm>
          </p:grpSpPr>
          <p:sp>
            <p:nvSpPr>
              <p:cNvPr id="324" name=""/>
              <p:cNvSpPr/>
              <p:nvPr/>
            </p:nvSpPr>
            <p:spPr>
              <a:xfrm>
                <a:off x="2438280" y="3505320"/>
                <a:ext cx="0" cy="838080"/>
              </a:xfrm>
              <a:prstGeom prst="line">
                <a:avLst/>
              </a:prstGeom>
              <a:ln w="3168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133720" y="335268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9966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2133720" y="5029200"/>
              <a:ext cx="380520" cy="1282680"/>
              <a:chOff x="2133720" y="5029200"/>
              <a:chExt cx="380520" cy="1282680"/>
            </a:xfrm>
          </p:grpSpPr>
          <p:sp>
            <p:nvSpPr>
              <p:cNvPr id="327" name=""/>
              <p:cNvSpPr/>
              <p:nvPr/>
            </p:nvSpPr>
            <p:spPr>
              <a:xfrm>
                <a:off x="2438280" y="5029200"/>
                <a:ext cx="0" cy="1066680"/>
              </a:xfrm>
              <a:prstGeom prst="line">
                <a:avLst/>
              </a:prstGeom>
              <a:ln w="31680">
                <a:solidFill>
                  <a:srgbClr val="004c2b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133720" y="5791320"/>
                <a:ext cx="380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4c2b"/>
                    </a:solidFill>
                    <a:latin typeface="Times New Roman"/>
                  </a:rPr>
                  <a:t>j</a:t>
                </a:r>
                <a:endParaRPr b="0" lang="en-US" sz="2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9" name=""/>
          <p:cNvSpPr/>
          <p:nvPr/>
        </p:nvSpPr>
        <p:spPr>
          <a:xfrm flipH="1">
            <a:off x="2438280" y="3733920"/>
            <a:ext cx="533520" cy="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2438280" y="5791320"/>
            <a:ext cx="533520" cy="0"/>
          </a:xfrm>
          <a:prstGeom prst="line">
            <a:avLst/>
          </a:prstGeom>
          <a:ln w="19080">
            <a:solidFill>
              <a:srgbClr val="004c2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429000" y="3352680"/>
            <a:ext cx="533520" cy="2959200"/>
            <a:chOff x="3429000" y="3352680"/>
            <a:chExt cx="533520" cy="2959200"/>
          </a:xfrm>
        </p:grpSpPr>
        <p:grpSp>
          <p:nvGrpSpPr>
            <p:cNvPr id="332" name=""/>
            <p:cNvGrpSpPr/>
            <p:nvPr/>
          </p:nvGrpSpPr>
          <p:grpSpPr>
            <a:xfrm>
              <a:off x="3429000" y="3352680"/>
              <a:ext cx="533520" cy="990720"/>
              <a:chOff x="3429000" y="3352680"/>
              <a:chExt cx="533520" cy="990720"/>
            </a:xfrm>
          </p:grpSpPr>
          <p:sp>
            <p:nvSpPr>
              <p:cNvPr id="333" name=""/>
              <p:cNvSpPr/>
              <p:nvPr/>
            </p:nvSpPr>
            <p:spPr>
              <a:xfrm>
                <a:off x="3733920" y="3505320"/>
                <a:ext cx="0" cy="838080"/>
              </a:xfrm>
              <a:prstGeom prst="line">
                <a:avLst/>
              </a:prstGeom>
              <a:ln w="3168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429000" y="335268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9966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3429000" y="5029200"/>
              <a:ext cx="380880" cy="1282680"/>
              <a:chOff x="3429000" y="5029200"/>
              <a:chExt cx="380880" cy="1282680"/>
            </a:xfrm>
          </p:grpSpPr>
          <p:sp>
            <p:nvSpPr>
              <p:cNvPr id="336" name=""/>
              <p:cNvSpPr/>
              <p:nvPr/>
            </p:nvSpPr>
            <p:spPr>
              <a:xfrm>
                <a:off x="3733920" y="5029200"/>
                <a:ext cx="0" cy="1066680"/>
              </a:xfrm>
              <a:prstGeom prst="line">
                <a:avLst/>
              </a:prstGeom>
              <a:ln w="31680">
                <a:solidFill>
                  <a:srgbClr val="004c2b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4290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4c2b"/>
                    </a:solidFill>
                    <a:latin typeface="Times New Roman"/>
                  </a:rPr>
                  <a:t>j</a:t>
                </a:r>
                <a:endParaRPr b="0" lang="en-US" sz="2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8" name=""/>
          <p:cNvGrpSpPr/>
          <p:nvPr/>
        </p:nvGrpSpPr>
        <p:grpSpPr>
          <a:xfrm>
            <a:off x="7772400" y="3290760"/>
            <a:ext cx="914400" cy="2959200"/>
            <a:chOff x="7772400" y="3290760"/>
            <a:chExt cx="914400" cy="2959200"/>
          </a:xfrm>
        </p:grpSpPr>
        <p:sp>
          <p:nvSpPr>
            <p:cNvPr id="339" name=""/>
            <p:cNvSpPr/>
            <p:nvPr/>
          </p:nvSpPr>
          <p:spPr>
            <a:xfrm>
              <a:off x="8458200" y="3443400"/>
              <a:ext cx="0" cy="838080"/>
            </a:xfrm>
            <a:prstGeom prst="line">
              <a:avLst/>
            </a:prstGeom>
            <a:ln w="3168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29076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90000"/>
                  </a:solidFill>
                  <a:latin typeface="Times New Roman"/>
                </a:rPr>
                <a:t>i&gt;n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8153280" y="4967280"/>
              <a:ext cx="380880" cy="1282680"/>
              <a:chOff x="8153280" y="4967280"/>
              <a:chExt cx="380880" cy="1282680"/>
            </a:xfrm>
          </p:grpSpPr>
          <p:sp>
            <p:nvSpPr>
              <p:cNvPr id="342" name=""/>
              <p:cNvSpPr/>
              <p:nvPr/>
            </p:nvSpPr>
            <p:spPr>
              <a:xfrm>
                <a:off x="8458200" y="4967280"/>
                <a:ext cx="0" cy="1066680"/>
              </a:xfrm>
              <a:prstGeom prst="line">
                <a:avLst/>
              </a:prstGeom>
              <a:ln w="31680">
                <a:solidFill>
                  <a:srgbClr val="004c2b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153280" y="5729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4c2b"/>
                    </a:solidFill>
                    <a:latin typeface="Times New Roman"/>
                  </a:rPr>
                  <a:t>j</a:t>
                </a:r>
                <a:endParaRPr b="0" lang="en-US" sz="2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4" name=""/>
          <p:cNvGrpSpPr/>
          <p:nvPr/>
        </p:nvGrpSpPr>
        <p:grpSpPr>
          <a:xfrm>
            <a:off x="2514600" y="3429000"/>
            <a:ext cx="990720" cy="2895480"/>
            <a:chOff x="2514600" y="3429000"/>
            <a:chExt cx="990720" cy="2895480"/>
          </a:xfrm>
        </p:grpSpPr>
        <p:sp>
          <p:nvSpPr>
            <p:cNvPr id="345" name=""/>
            <p:cNvSpPr/>
            <p:nvPr/>
          </p:nvSpPr>
          <p:spPr>
            <a:xfrm>
              <a:off x="2514600" y="3429000"/>
              <a:ext cx="6858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514600" y="5029200"/>
              <a:ext cx="99072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3429000" y="3352680"/>
            <a:ext cx="1143000" cy="2895840"/>
            <a:chOff x="3429000" y="3352680"/>
            <a:chExt cx="1143000" cy="2895840"/>
          </a:xfrm>
        </p:grpSpPr>
        <p:sp>
          <p:nvSpPr>
            <p:cNvPr id="348" name=""/>
            <p:cNvSpPr/>
            <p:nvPr/>
          </p:nvSpPr>
          <p:spPr>
            <a:xfrm>
              <a:off x="3429000" y="3352680"/>
              <a:ext cx="4572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429000" y="502920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2438280" y="5029200"/>
            <a:ext cx="1158840" cy="520560"/>
          </a:xfrm>
          <a:prstGeom prst="rect">
            <a:avLst/>
          </a:prstGeom>
          <a:solidFill>
            <a:srgbClr val="b3e1b3">
              <a:alpha val="50000"/>
            </a:srgbClr>
          </a:solidFill>
          <a:ln w="19080">
            <a:solidFill>
              <a:srgbClr val="004c2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 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串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78760" y="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一、简单算法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c4"/>
            </a:gs>
            <a:gs pos="100000">
              <a:srgbClr val="e2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691200" y="304920"/>
            <a:ext cx="642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SubString 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(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&amp;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Sub, S, pos, len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646920" y="1889280"/>
            <a:ext cx="376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Index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(S, T, pos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19960" y="2651040"/>
            <a:ext cx="432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Replace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&amp;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S, T, V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1560" y="3505320"/>
            <a:ext cx="484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StrInsert 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(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&amp;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S, pos, T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>
            <a:hlinkClick r:id="rId3" action="ppaction://hlinksldjump"/>
          </p:cNvPr>
          <p:cNvSpPr/>
          <p:nvPr/>
        </p:nvSpPr>
        <p:spPr>
          <a:xfrm>
            <a:off x="3662640" y="4419720"/>
            <a:ext cx="534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StrDelete 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(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&amp;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S, pos, len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>
            <a:hlinkClick r:id="rId4" action="ppaction://hlinksldjump"/>
          </p:cNvPr>
          <p:cNvSpPr/>
          <p:nvPr/>
        </p:nvSpPr>
        <p:spPr>
          <a:xfrm>
            <a:off x="3737880" y="1219320"/>
            <a:ext cx="399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ClearString 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(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&amp;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S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1880" y="6248520"/>
            <a:ext cx="457200" cy="380880"/>
          </a:xfrm>
          <a:prstGeom prst="star5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0880" y="5257800"/>
            <a:ext cx="30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} ADT String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c4"/>
            </a:gs>
            <a:gs pos="100000">
              <a:srgbClr val="e2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>
            <a:hlinkClick r:id="" action="ppaction://hlinkshowjump?jump=previousslide"/>
          </p:cNvPr>
          <p:cNvSpPr/>
          <p:nvPr/>
        </p:nvSpPr>
        <p:spPr>
          <a:xfrm>
            <a:off x="524160" y="228600"/>
            <a:ext cx="7961040" cy="64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int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Index(SString S, SString T, int pos)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{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// 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返回子串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T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在主串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S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中第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pos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个字符之后的位置。若不存在，则函数值为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0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。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// 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其中，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T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非空，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1≤pos≤StrLength(S)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。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i = pos;   j = 1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while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(i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&lt;=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S[0]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&amp;&amp;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j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&lt;=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T[0])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{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if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(S[i] == T[j])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{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++i;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++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j;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}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// 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继续比较后继字符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else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{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i = i-j+2;   j = 1;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}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// 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指针后退重新开始匹配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}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if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(j &gt; T[0])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return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i-T[0]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else return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0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}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// Index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7924680" y="6067440"/>
            <a:ext cx="838440" cy="4096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c4"/>
            </a:gs>
            <a:gs pos="100000">
              <a:srgbClr val="e2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016640" y="1600200"/>
            <a:ext cx="7504200" cy="42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0" lang="zh-CN" sz="44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先</a:t>
            </a: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比较模式串的</a:t>
            </a:r>
            <a:r>
              <a:rPr b="1" lang="zh-CN" sz="44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第一个</a:t>
            </a: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字符，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</a:t>
            </a:r>
            <a:r>
              <a:rPr b="0" lang="zh-CN" sz="44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再</a:t>
            </a: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比较模式串的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最后一个</a:t>
            </a: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字符，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</a:t>
            </a:r>
            <a:r>
              <a:rPr b="0" lang="zh-CN" sz="44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最后</a:t>
            </a: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比较模式串中</a:t>
            </a:r>
            <a:r>
              <a:rPr b="0" lang="zh-CN" sz="44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从第二个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   </a:t>
            </a:r>
            <a:r>
              <a:rPr b="0" lang="zh-CN" sz="44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到第 </a:t>
            </a:r>
            <a:r>
              <a:rPr b="0" lang="zh-CN" sz="44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n-1</a:t>
            </a: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个字符。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053440" y="609480"/>
            <a:ext cx="387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隶书"/>
              </a:rPr>
              <a:t>二、</a:t>
            </a:r>
            <a:r>
              <a:rPr b="1" lang="zh-CN" sz="5400" spc="-1" strike="noStrike">
                <a:solidFill>
                  <a:srgbClr val="990000"/>
                </a:solidFill>
                <a:latin typeface="Times New Roman"/>
                <a:ea typeface="隶书"/>
              </a:rPr>
              <a:t>首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隶书"/>
              </a:rPr>
              <a:t>尾</a:t>
            </a:r>
            <a:r>
              <a:rPr b="1" lang="zh-CN" sz="5400" spc="-1" strike="noStrike">
                <a:solidFill>
                  <a:srgbClr val="000066"/>
                </a:solidFill>
                <a:latin typeface="Times New Roman"/>
                <a:ea typeface="隶书"/>
              </a:rPr>
              <a:t>匹配算法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c4"/>
            </a:gs>
            <a:gs pos="100000">
              <a:srgbClr val="e2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366120" y="-7920"/>
            <a:ext cx="8303760" cy="68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int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Index_FL(SString S, SString T, int pos)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{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sLength = S[0];  tLength = T[0]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i = pos;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patStartChar = T[1];  patEndChar = T[tLength]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while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(i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&lt;=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sLength – tLength + 1)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{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if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(S[i] 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!=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 patStartChar)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++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i;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//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重新查找匹配起始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else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if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(S[i+tLength-1]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!=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patEndChar)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++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i;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          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// 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模式串的“尾字符”不匹配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else {                                                 }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}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return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0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}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2469960" y="4572000"/>
            <a:ext cx="32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检查中间字符的匹配情况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7924680" y="6067440"/>
            <a:ext cx="838440" cy="4096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c4"/>
            </a:gs>
            <a:gs pos="100000">
              <a:srgbClr val="e2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765000" y="1371600"/>
            <a:ext cx="7633080" cy="41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k = 1;  j = 2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while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( j &lt; tLength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&amp;&amp;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S[i+k] == T[j]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{ ++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k;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++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j;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}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if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( j == tLength )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return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i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else  ++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i;  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    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//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重新开始下一次的匹配检测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0" name="">
            <a:hlinkClick r:id="" action="ppaction://hlinkshowjump?jump=previousslide"/>
          </p:cNvPr>
          <p:cNvSpPr/>
          <p:nvPr/>
        </p:nvSpPr>
        <p:spPr>
          <a:xfrm>
            <a:off x="8458200" y="6195960"/>
            <a:ext cx="304920" cy="2811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23423" h="21600">
                <a:moveTo>
                  <a:pt x="0" y="0"/>
                </a:moveTo>
                <a:lnTo>
                  <a:pt x="23423" y="0"/>
                </a:lnTo>
                <a:lnTo>
                  <a:pt x="23423" y="21600"/>
                </a:lnTo>
                <a:lnTo>
                  <a:pt x="0" y="21600"/>
                </a:lnTo>
                <a:close/>
              </a:path>
              <a:path fill="lightenLess" w="23423" h="21600">
                <a:moveTo>
                  <a:pt x="0" y="0"/>
                </a:moveTo>
                <a:lnTo>
                  <a:pt x="23423" y="0"/>
                </a:lnTo>
                <a:lnTo>
                  <a:pt x="22023" y="1400"/>
                </a:lnTo>
                <a:lnTo>
                  <a:pt x="1400" y="1400"/>
                </a:lnTo>
                <a:close/>
              </a:path>
              <a:path fill="darken" w="23423" h="21600">
                <a:moveTo>
                  <a:pt x="23423" y="0"/>
                </a:moveTo>
                <a:lnTo>
                  <a:pt x="23423" y="21600"/>
                </a:lnTo>
                <a:lnTo>
                  <a:pt x="22023" y="20200"/>
                </a:lnTo>
                <a:lnTo>
                  <a:pt x="22023" y="1400"/>
                </a:lnTo>
                <a:close/>
              </a:path>
              <a:path fill="darkenLess" w="23423" h="21600">
                <a:moveTo>
                  <a:pt x="23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23" y="20200"/>
                </a:lnTo>
                <a:close/>
              </a:path>
              <a:path fill="lighten" w="23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23" h="21600">
                <a:moveTo>
                  <a:pt x="4705" y="7493"/>
                </a:moveTo>
                <a:lnTo>
                  <a:pt x="8213" y="7493"/>
                </a:lnTo>
                <a:lnTo>
                  <a:pt x="8213" y="12828"/>
                </a:lnTo>
                <a:cubicBezTo>
                  <a:pt x="8213" y="13751"/>
                  <a:pt x="9013" y="14482"/>
                  <a:pt x="10049" y="14482"/>
                </a:cubicBezTo>
                <a:lnTo>
                  <a:pt x="11712" y="14482"/>
                </a:lnTo>
                <a:cubicBezTo>
                  <a:pt x="12747" y="14482"/>
                  <a:pt x="13548" y="13751"/>
                  <a:pt x="13548" y="12828"/>
                </a:cubicBezTo>
                <a:lnTo>
                  <a:pt x="13548" y="7493"/>
                </a:lnTo>
                <a:lnTo>
                  <a:pt x="11712" y="7493"/>
                </a:lnTo>
                <a:lnTo>
                  <a:pt x="15219" y="3985"/>
                </a:lnTo>
                <a:lnTo>
                  <a:pt x="18892" y="7493"/>
                </a:lnTo>
                <a:lnTo>
                  <a:pt x="17056" y="7493"/>
                </a:lnTo>
                <a:lnTo>
                  <a:pt x="17056" y="12828"/>
                </a:lnTo>
                <a:cubicBezTo>
                  <a:pt x="17056" y="15596"/>
                  <a:pt x="14479" y="18155"/>
                  <a:pt x="11712" y="18155"/>
                </a:cubicBezTo>
                <a:lnTo>
                  <a:pt x="10049" y="18155"/>
                </a:lnTo>
                <a:cubicBezTo>
                  <a:pt x="7281" y="18155"/>
                  <a:pt x="4705" y="15596"/>
                  <a:pt x="4705" y="12828"/>
                </a:cubicBezTo>
                <a:close/>
              </a:path>
            </a:pathLst>
          </a:cu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c4"/>
            </a:gs>
            <a:gs pos="100000">
              <a:srgbClr val="e2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1344240" y="1981080"/>
            <a:ext cx="631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隶书"/>
              </a:rPr>
              <a:t>KMP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隶书"/>
              </a:rPr>
              <a:t>算法的</a:t>
            </a:r>
            <a:r>
              <a:rPr b="0" lang="zh-CN" sz="4000" spc="-1" strike="noStrike">
                <a:solidFill>
                  <a:srgbClr val="cc0000"/>
                </a:solidFill>
                <a:latin typeface="Times New Roman"/>
                <a:ea typeface="隶书"/>
              </a:rPr>
              <a:t>时间复杂度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隶书"/>
              </a:rPr>
              <a:t>可以达到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隶书"/>
              </a:rPr>
              <a:t>O(m+n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-1592640" y="2895480"/>
            <a:ext cx="12142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当 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S[i] &lt;&gt; T[j] 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时，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已经得到的结果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                 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S[i-j+1..i-1] == T[1..j-1]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若已知                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T[1..k-1] == T[j-k+1..j-1]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则有              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S[i-k+1..i-1] == T[1..k-1]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9280" y="457200"/>
            <a:ext cx="9032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三、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KMP(</a:t>
            </a:r>
            <a:r>
              <a:rPr b="0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D.E.Knuth, V.R.Pratt,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            </a:t>
            </a:r>
            <a:r>
              <a:rPr b="0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J.H.Morris) 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算法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c4"/>
            </a:gs>
            <a:gs pos="100000">
              <a:srgbClr val="e2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658520" y="1066680"/>
            <a:ext cx="484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定义：</a:t>
            </a:r>
            <a:r>
              <a:rPr b="0" lang="zh-CN" sz="4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模式串的</a:t>
            </a:r>
            <a:r>
              <a:rPr b="1" i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next</a:t>
            </a:r>
            <a:r>
              <a:rPr b="0" lang="zh-CN" sz="4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函数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739800" y="2743200"/>
                <a:ext cx="7662960" cy="25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ext</m:t>
                    </m:r>
                    <m:r>
                      <m:t xml:space="preserve">[</m:t>
                    </m:r>
                    <m:r>
                      <m:t xml:space="preserve">j</m:t>
                    </m:r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                       </m:t>
                              </m:r>
                              <m:r>
                                <m:t xml:space="preserve">当j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  <m:r>
                                <m:t xml:space="preserve">时</m:t>
                              </m:r>
                            </m:e>
                          </m:mr>
                          <m:mr>
                            <m:e>
                              <m:eqAr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ax</m:t>
                                  </m:r>
                                  <m:d>
                                    <m:dPr>
                                      <m:begChr m:val="{"/>
                                      <m:endChr m:val="}"/>
                                    </m:dPr>
                                    <m:e>
                                      <m:r>
                                        <m:t xml:space="preserve">k</m:t>
                                      </m:r>
                                      <m:r>
                                        <m:t xml:space="preserve">|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&lt;</m:t>
                                      </m:r>
                                      <m:r>
                                        <m:t xml:space="preserve">k</m:t>
                                      </m:r>
                                      <m:r>
                                        <m:t xml:space="preserve">&lt;</m:t>
                                      </m:r>
                                      <m:r>
                                        <m:t xml:space="preserve">j</m:t>
                                      </m:r>
                                    </m:e>
                                    <m:e/>
                                    <m:e>
                                      <m:r>
                                        <m:t xml:space="preserve">且</m:t>
                                      </m:r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'p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  <m:r>
                                        <m:t xml:space="preserve">⋯</m:t>
                                      </m:r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k-1</m:t>
                                          </m:r>
                                        </m:sub>
                                      </m:sSub>
                                      <m:r>
                                        <m:t xml:space="preserve">'</m:t>
                                      </m:r>
                                      <m:r>
                                        <m:t xml:space="preserve">=</m:t>
                                      </m:r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'p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j-k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r>
                                        <m:t xml:space="preserve">⋯</m:t>
                                      </m:r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j-1</m:t>
                                          </m:r>
                                        </m:sub>
                                      </m:sSub>
                                      <m:r>
                                        <m:t xml:space="preserve">'</m:t>
                                      </m:r>
                                    </m:e>
                                  </m:d>
                                </m:e>
                              </m:eqAr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1                              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其它情况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c4"/>
            </a:gs>
            <a:gs pos="100000">
              <a:srgbClr val="e2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524880" y="228600"/>
            <a:ext cx="809100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int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Index_KMP(SString S, SString T,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int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pos)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{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//  1≤pos≤StrLength(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i = pos;   j = 1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while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(i &lt;= S[0]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&amp;&amp;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j &lt;= T[0])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{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if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(j = 0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||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S[i] == T[j])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{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++i;  ++j;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}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                                      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//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继续比较后继字符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else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j = next[j];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//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模式串向右移动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}//whi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if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(j &gt; T[0])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return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i-T[0];    //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匹配成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else return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0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}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// Index_KMP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c4"/>
            </a:gs>
            <a:gs pos="100000">
              <a:srgbClr val="e2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120040" y="5311800"/>
            <a:ext cx="40212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这实际上也是一个匹配的过程，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不同在于：主串和模式串是同一个串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973960" y="76320"/>
            <a:ext cx="3316320" cy="14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求 </a:t>
            </a:r>
            <a:r>
              <a:rPr b="0" i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next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函数值的过程是一个递推过程，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分析如下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2240" y="1600200"/>
            <a:ext cx="353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已知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：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next[1] = 0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；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25320" y="2406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假设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：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next[j] = k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；又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T[j] = T[k]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41680" y="3168720"/>
            <a:ext cx="42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则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：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next[j+1] = k+1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203480" y="3886200"/>
            <a:ext cx="56952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若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：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T[j] </a:t>
            </a:r>
            <a:r>
              <a:rPr b="0" lang="zh-CN" sz="3600" spc="-1" strike="noStrike">
                <a:solidFill>
                  <a:srgbClr val="333333"/>
                </a:solidFill>
                <a:latin typeface="Symbol"/>
                <a:ea typeface="Symbol"/>
              </a:rPr>
              <a:t>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T[k]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则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需往前回朔，检查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T[j] = T[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？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]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c4"/>
            </a:gs>
            <a:gs pos="100000">
              <a:srgbClr val="e2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507240" y="380880"/>
            <a:ext cx="7913520" cy="60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void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get_next(SString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&amp;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T,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int &amp;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next[] )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{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//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求模式串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T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的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next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函数值并存入数组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next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i = 1;   next[1] = 0;   j = 0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while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(i &lt; T[0])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{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if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(j == 0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||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T[i]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==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T[j]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{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++i;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++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j; next[i] = j;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}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else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j = next[j]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}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}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// get_nex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c4"/>
            </a:gs>
            <a:gs pos="100000">
              <a:srgbClr val="e2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355760" y="9540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80880" y="609480"/>
            <a:ext cx="8763120" cy="41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还有一种特殊情况需要考虑：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例如：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</a:t>
            </a:r>
            <a:r>
              <a:rPr b="0" lang="zh-CN" sz="48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S = </a:t>
            </a:r>
            <a:r>
              <a:rPr b="0" lang="zh-CN" sz="4800" spc="-1" strike="noStrike">
                <a:solidFill>
                  <a:srgbClr val="cc6600"/>
                </a:solidFill>
                <a:latin typeface="Symbol"/>
                <a:ea typeface="Symbol"/>
              </a:rPr>
              <a:t></a:t>
            </a: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aaabaaabaaabaaabaaab</a:t>
            </a:r>
            <a:r>
              <a:rPr b="0" lang="zh-CN" sz="4800" spc="-1" strike="noStrike">
                <a:solidFill>
                  <a:srgbClr val="cc6600"/>
                </a:solidFill>
                <a:latin typeface="Symbol"/>
                <a:ea typeface="Symbol"/>
              </a:rPr>
              <a:t>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      </a:t>
            </a:r>
            <a:r>
              <a:rPr b="0" lang="zh-CN" sz="48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T = </a:t>
            </a:r>
            <a:r>
              <a:rPr b="0" lang="zh-CN" sz="4800" spc="-1" strike="noStrike">
                <a:solidFill>
                  <a:srgbClr val="cc6600"/>
                </a:solidFill>
                <a:latin typeface="Symbol"/>
                <a:ea typeface="Symbol"/>
              </a:rPr>
              <a:t></a:t>
            </a: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aaaab</a:t>
            </a:r>
            <a:r>
              <a:rPr b="0" lang="zh-CN" sz="4800" spc="-1" strike="noStrike">
                <a:solidFill>
                  <a:srgbClr val="cc6600"/>
                </a:solidFill>
                <a:latin typeface="Symbol"/>
                <a:ea typeface="Symbol"/>
              </a:rPr>
              <a:t>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next[j]= 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01234</a:t>
            </a:r>
            <a:r>
              <a:rPr b="0" lang="zh-CN" sz="4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2680" y="5029200"/>
            <a:ext cx="441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nextval[j]=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0004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c4"/>
            </a:gs>
            <a:gs pos="100000">
              <a:srgbClr val="e2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11840" y="1066680"/>
            <a:ext cx="636012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      </a:t>
            </a:r>
            <a:r>
              <a:rPr b="1" lang="zh-CN" sz="4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StrAssign </a:t>
            </a:r>
            <a:r>
              <a:rPr b="0" lang="zh-CN" sz="4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(</a:t>
            </a:r>
            <a:r>
              <a:rPr b="1" lang="zh-CN" sz="4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&amp;</a:t>
            </a:r>
            <a:r>
              <a:rPr b="0" lang="zh-CN" sz="4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T, chars)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r>
              <a:rPr b="0" lang="zh-CN" sz="4000" spc="-1" strike="noStrike">
                <a:solidFill>
                  <a:srgbClr val="c23a5e"/>
                </a:solidFill>
                <a:latin typeface="Times New Roman"/>
                <a:ea typeface="楷体_GB2312"/>
              </a:rPr>
              <a:t>初始条件：</a:t>
            </a:r>
            <a:r>
              <a:rPr b="0" lang="zh-CN" sz="40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chars </a:t>
            </a:r>
            <a:r>
              <a:rPr b="0" lang="zh-CN" sz="40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是字符串常量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r>
              <a:rPr b="0" lang="zh-CN" sz="4000" spc="-1" strike="noStrike">
                <a:solidFill>
                  <a:srgbClr val="c23a5e"/>
                </a:solidFill>
                <a:latin typeface="Times New Roman"/>
                <a:ea typeface="楷体_GB2312"/>
              </a:rPr>
              <a:t>操作结果：</a:t>
            </a:r>
            <a:r>
              <a:rPr b="0" lang="zh-CN" sz="40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把 </a:t>
            </a:r>
            <a:r>
              <a:rPr b="0" lang="zh-CN" sz="40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chars </a:t>
            </a:r>
            <a:r>
              <a:rPr b="0" lang="zh-CN" sz="40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赋为 </a:t>
            </a:r>
            <a:r>
              <a:rPr b="0" lang="zh-CN" sz="40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T </a:t>
            </a:r>
            <a:r>
              <a:rPr b="0" lang="zh-CN" sz="40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的值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156960 w 381240"/>
              <a:gd name="textAreaRight" fmla="*/ 224280 w 38124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c4"/>
            </a:gs>
            <a:gs pos="100000">
              <a:srgbClr val="e2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380880" y="220680"/>
            <a:ext cx="8458200" cy="62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void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get_nextval(SString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&amp;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T,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int &amp;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nextval[])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{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i = 1;   nextval[1] = 0;   j = 0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while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(i &lt; T[0])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{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if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(j == 0 || T[i] == T[j])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{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  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++i;  ++j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if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(T[i]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!=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T[j])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nextval[i] = j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else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nextval[i] = nextval[j]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}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else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j = nextval[j]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}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}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// get_nextv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7010280" y="5867280"/>
            <a:ext cx="1752840" cy="660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c4"/>
            </a:gs>
            <a:gs pos="100000">
              <a:srgbClr val="e2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380880" y="533520"/>
            <a:ext cx="824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1. </a:t>
            </a:r>
            <a:r>
              <a:rPr b="1" lang="zh-CN" sz="40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熟悉串的七种基本操作的定义，并能利用这些基本操作来实现串的其它各种操作的方法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2. </a:t>
            </a:r>
            <a:r>
              <a:rPr b="1" lang="zh-CN" sz="40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熟练掌握在串的定长顺序存储结构上实现串的各种操作的方法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3. </a:t>
            </a:r>
            <a:r>
              <a:rPr b="1" lang="zh-CN" sz="40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了解串的堆存储结构以及在其上实现串操作的基本方法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c4"/>
            </a:gs>
            <a:gs pos="100000">
              <a:srgbClr val="e2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304920" y="754200"/>
            <a:ext cx="8550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a21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4. </a:t>
            </a:r>
            <a:r>
              <a:rPr b="1" lang="zh-CN" sz="40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理解串匹配的</a:t>
            </a:r>
            <a:r>
              <a:rPr b="1" lang="zh-CN" sz="40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KMP</a:t>
            </a:r>
            <a:r>
              <a:rPr b="1" lang="zh-CN" sz="40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算法，熟悉</a:t>
            </a:r>
            <a:r>
              <a:rPr b="1" lang="zh-CN" sz="40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NEXT</a:t>
            </a:r>
            <a:r>
              <a:rPr b="1" lang="zh-CN" sz="40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函数的定义，学会手工计算给定模式串的</a:t>
            </a:r>
            <a:r>
              <a:rPr b="1" lang="zh-CN" sz="40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NEXT</a:t>
            </a:r>
            <a:r>
              <a:rPr b="1" lang="zh-CN" sz="40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函数值和改进的</a:t>
            </a:r>
            <a:r>
              <a:rPr b="1" lang="zh-CN" sz="40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NEXT</a:t>
            </a:r>
            <a:r>
              <a:rPr b="1" lang="zh-CN" sz="40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函数值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5. </a:t>
            </a:r>
            <a:r>
              <a:rPr b="1" lang="zh-CN" sz="40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了解串操作的应用方法和特点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c4"/>
            </a:gs>
            <a:gs pos="100000">
              <a:srgbClr val="e2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2362320" y="1035000"/>
            <a:ext cx="4419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4c2b"/>
                </a:solidFill>
                <a:latin typeface="Times New Roman"/>
                <a:ea typeface="隶书"/>
              </a:rPr>
              <a:t>本章作业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371600" y="2895480"/>
            <a:ext cx="662940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004c2b"/>
                </a:solidFill>
                <a:latin typeface="Times New Roman"/>
              </a:rPr>
              <a:t>4.10,    4.13,   4.17,    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4c2b"/>
                </a:solidFill>
                <a:latin typeface="Times New Roman"/>
              </a:rPr>
              <a:t>4.23      4.29,   4.30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83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8248680" y="5695920"/>
            <a:ext cx="514440" cy="8571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c4"/>
            </a:gs>
            <a:gs pos="100000">
              <a:srgbClr val="e2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15238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0960" y="1295280"/>
            <a:ext cx="8289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                  </a:t>
            </a:r>
            <a:r>
              <a:rPr b="1" lang="zh-CN" sz="4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StrCopy </a:t>
            </a:r>
            <a:r>
              <a:rPr b="0" lang="zh-CN" sz="4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(</a:t>
            </a:r>
            <a:r>
              <a:rPr b="1" lang="zh-CN" sz="4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&amp;</a:t>
            </a:r>
            <a:r>
              <a:rPr b="0" lang="zh-CN" sz="48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T, S)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      </a:t>
            </a:r>
            <a:r>
              <a:rPr b="0" lang="zh-CN" sz="48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初始条件：</a:t>
            </a:r>
            <a:r>
              <a:rPr b="0" lang="zh-CN" sz="48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串 </a:t>
            </a:r>
            <a:r>
              <a:rPr b="0" lang="zh-CN" sz="48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S </a:t>
            </a:r>
            <a:r>
              <a:rPr b="0" lang="zh-CN" sz="48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存在。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</a:t>
            </a:r>
            <a:r>
              <a:rPr b="0" lang="zh-CN" sz="48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操作结果：</a:t>
            </a:r>
            <a:r>
              <a:rPr b="0" lang="zh-CN" sz="48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由串 </a:t>
            </a:r>
            <a:r>
              <a:rPr b="0" lang="zh-CN" sz="48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S </a:t>
            </a:r>
            <a:r>
              <a:rPr b="0" lang="zh-CN" sz="48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复制得串 </a:t>
            </a:r>
            <a:r>
              <a:rPr b="0" lang="zh-CN" sz="48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T</a:t>
            </a:r>
            <a:r>
              <a:rPr b="0" lang="zh-CN" sz="48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。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156960 w 381240"/>
              <a:gd name="textAreaRight" fmla="*/ 224280 w 38124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c4"/>
            </a:gs>
            <a:gs pos="100000">
              <a:srgbClr val="e2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628280" y="1066680"/>
            <a:ext cx="59536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DestroyString </a:t>
            </a:r>
            <a:r>
              <a:rPr b="0" lang="zh-CN" sz="5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(</a:t>
            </a:r>
            <a:r>
              <a:rPr b="1" lang="zh-CN" sz="5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&amp;</a:t>
            </a:r>
            <a:r>
              <a:rPr b="0" lang="zh-CN" sz="5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S)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r>
              <a:rPr b="0" lang="zh-CN" sz="48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初始条件：</a:t>
            </a:r>
            <a:r>
              <a:rPr b="0" lang="zh-CN" sz="48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串 </a:t>
            </a:r>
            <a:r>
              <a:rPr b="0" lang="zh-CN" sz="48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S </a:t>
            </a:r>
            <a:r>
              <a:rPr b="0" lang="zh-CN" sz="48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存在。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0" lang="zh-CN" sz="48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操作结果：</a:t>
            </a:r>
            <a:r>
              <a:rPr b="0" lang="zh-CN" sz="48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串 </a:t>
            </a:r>
            <a:r>
              <a:rPr b="0" lang="zh-CN" sz="48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S </a:t>
            </a:r>
            <a:r>
              <a:rPr b="0" lang="zh-CN" sz="48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被销毁。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156960 w 381240"/>
              <a:gd name="textAreaRight" fmla="*/ 224280 w 38124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c4"/>
            </a:gs>
            <a:gs pos="100000">
              <a:srgbClr val="e2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763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       </a:t>
            </a:r>
            <a:r>
              <a:rPr b="1" lang="zh-CN" sz="4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StrEmpty </a:t>
            </a:r>
            <a:r>
              <a:rPr b="0" lang="zh-CN" sz="4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(S)</a:t>
            </a:r>
            <a:br>
              <a:rPr sz="4400"/>
            </a:br>
            <a:br>
              <a:rPr sz="4400"/>
            </a:br>
            <a:r>
              <a:rPr b="0" lang="zh-CN" sz="4000" spc="-1" strike="noStrike">
                <a:solidFill>
                  <a:srgbClr val="c23a5e"/>
                </a:solidFill>
                <a:latin typeface="Times New Roman"/>
                <a:ea typeface="楷体_GB2312"/>
              </a:rPr>
              <a:t>初始条件：</a:t>
            </a:r>
            <a:r>
              <a:rPr b="0" lang="zh-CN" sz="40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串</a:t>
            </a:r>
            <a:r>
              <a:rPr b="0" lang="zh-CN" sz="40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S</a:t>
            </a:r>
            <a:r>
              <a:rPr b="0" lang="zh-CN" sz="40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存在。</a:t>
            </a:r>
            <a:br>
              <a:rPr sz="4000"/>
            </a:br>
            <a:r>
              <a:rPr b="0" lang="zh-CN" sz="4000" spc="-1" strike="noStrike">
                <a:solidFill>
                  <a:srgbClr val="c23a5e"/>
                </a:solidFill>
                <a:latin typeface="Times New Roman"/>
                <a:ea typeface="楷体_GB2312"/>
              </a:rPr>
              <a:t>操作结果：</a:t>
            </a:r>
            <a:r>
              <a:rPr b="0" lang="zh-CN" sz="40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若 </a:t>
            </a:r>
            <a:r>
              <a:rPr b="0" lang="zh-CN" sz="40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S </a:t>
            </a:r>
            <a:r>
              <a:rPr b="0" lang="zh-CN" sz="40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为空串，则返回 </a:t>
            </a:r>
            <a:r>
              <a:rPr b="0" lang="zh-CN" sz="40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true</a:t>
            </a:r>
            <a:r>
              <a:rPr b="0" lang="zh-CN" sz="40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，</a:t>
            </a:r>
            <a:br>
              <a:rPr sz="4000"/>
            </a:br>
            <a:r>
              <a:rPr b="0" lang="zh-CN" sz="40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                    否则返回 </a:t>
            </a:r>
            <a:r>
              <a:rPr b="0" lang="zh-CN" sz="40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false</a:t>
            </a:r>
            <a:r>
              <a:rPr b="0" lang="zh-CN" sz="4000" spc="-1" strike="noStrike">
                <a:solidFill>
                  <a:srgbClr val="406649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49680" y="5006880"/>
            <a:ext cx="11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Symbol"/>
                <a:ea typeface="Symbol"/>
              </a:rPr>
              <a:t>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Symbol"/>
                <a:ea typeface="Symbol"/>
              </a:rPr>
              <a:t>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表示空串，空串的长度为零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156960 w 381240"/>
              <a:gd name="textAreaRight" fmla="*/ 224280 w 38124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20T06:59:18Z</dcterms:created>
  <dc:creator>thcic</dc:creator>
  <dc:description/>
  <dc:language>en-US</dc:language>
  <cp:lastModifiedBy>教师培训中心</cp:lastModifiedBy>
  <dcterms:modified xsi:type="dcterms:W3CDTF">2000-10-31T04:02:38Z</dcterms:modified>
  <cp:revision>58</cp:revision>
  <dc:subject/>
  <dc:title>没有幻灯片标题</dc:title>
</cp:coreProperties>
</file>