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9E6-E6E8-466D-9849-2AABE095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135-E3F2-4180-ADE5-41D8BEE5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210-B7F9-45F0-8321-33F4825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7F3-FECE-47B4-954A-7D8BBD7B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0451-96B6-4AAF-B916-D5E8C4F0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A765-1FAE-4BC8-96A4-AF10F9FA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7AB9-A1E1-452B-9CE6-4F09060B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BD5-D0EB-4586-BD38-C05ED2F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436A-0E3F-4C8C-90D9-86B07B5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85B-55B1-4269-9855-EC76B8A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D14-526E-43BE-B817-FE47878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F74-51CA-4C92-A14E-415B0C5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8B3C-589F-4632-BAA0-5BA2FB85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D21C-B22E-4CF5-A5F4-E72E7ADC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88D-0CF3-4039-B955-7A80CA8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A0E-2B9B-482D-BDBB-C34D734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15C-1473-4E8F-BC6D-ACC0462C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A5B-1872-4090-881A-E5744DC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8C1-4377-4325-B957-D91921CA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E7B-0DDB-4D4B-9620-9AD2FE38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E9C-7B97-436B-8C73-D2A98C7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A90-A6A8-4BEC-852C-C591EA5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33F-8A7E-4A48-8AD8-AA7EBBF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686-2694-425F-A5C0-ED21657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A8B9-6A0D-4A71-92BF-71926F26474B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492-1404-4114-8903-B13AF59CB2C0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50.xml"/><Relationship Id="rId3" Type="http://schemas.openxmlformats.org/officeDocument/2006/relationships/slide" Target="slide74.xm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61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9.xml"/><Relationship Id="rId3" Type="http://schemas.openxmlformats.org/officeDocument/2006/relationships/slide" Target="slide60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1905120"/>
            <a:ext cx="8458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578963"/>
                  </a:solidFill>
                  <a:miter/>
                </a:ln>
                <a:solidFill>
                  <a:srgbClr val="004c2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第一章 绪 论</a:t>
            </a:r>
            <a:endParaRPr b="0" lang="en-US" sz="6000" spc="1" strike="noStrike">
              <a:ln w="19080">
                <a:solidFill>
                  <a:srgbClr val="578963"/>
                </a:solidFill>
                <a:miter/>
              </a:ln>
              <a:solidFill>
                <a:srgbClr val="004c2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6800" y="8380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概括地说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8288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数据结构是一门讨论“描述现实世界实体的数学模型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非数值计算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及其上的操作在计算机中如何表示和实现”的学科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105520"/>
            <a:ext cx="1149480" cy="1447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94440" y="500040"/>
            <a:ext cx="405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.2</a:t>
            </a:r>
            <a:r>
              <a:rPr b="1" lang="zh-CN" sz="6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基本概念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3694320" y="20574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、数据与数据结构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2678400" y="335268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二、数据类型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1879920" y="4483080"/>
            <a:ext cx="34725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三、抽象数据类型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181480"/>
            <a:ext cx="109080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15920" y="45720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、数据与数据结构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438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所有能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被输入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到计算机中，且能被计算机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处理的符号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数值、字符等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集合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5280" y="1523880"/>
            <a:ext cx="132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6160" y="41911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计算机操作的对象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总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029200"/>
            <a:ext cx="7924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计算机处理的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信息的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某种特定的符号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表示形式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3716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数据（集合）中的一个“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个体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在计算机中通常作为一个整体进行考虑和处理。是数据结构中讨论的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基本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单位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5040" y="457200"/>
            <a:ext cx="215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元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8480" y="472428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整数“</a:t>
            </a:r>
            <a:r>
              <a:rPr b="0" lang="zh-CN" sz="40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,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字符“</a:t>
            </a:r>
            <a:r>
              <a:rPr b="0" lang="zh-CN" sz="4000" spc="-1" strike="noStrike">
                <a:solidFill>
                  <a:srgbClr val="333333"/>
                </a:solidFill>
                <a:latin typeface="华文中宋"/>
                <a:ea typeface="华文中宋"/>
              </a:rPr>
              <a:t>N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----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不可分割的“原子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797560" y="1889280"/>
            <a:ext cx="25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其中每个款项称为一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数据项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7840" y="27432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它是数据结构中讨论的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最小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单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0" y="276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数据元素也可以由若干款项构成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7000" y="1066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如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600" y="1090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描述一个学生的数据元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8320" y="53784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称之为组合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5686560" y="430524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962600" y="4343400"/>
            <a:ext cx="1828800" cy="685800"/>
            <a:chOff x="4962600" y="4343400"/>
            <a:chExt cx="1828800" cy="685800"/>
          </a:xfrm>
        </p:grpSpPr>
        <p:sp>
          <p:nvSpPr>
            <p:cNvPr id="145" name=""/>
            <p:cNvSpPr/>
            <p:nvPr/>
          </p:nvSpPr>
          <p:spPr>
            <a:xfrm>
              <a:off x="4962600" y="4378320"/>
              <a:ext cx="1828800" cy="642600"/>
            </a:xfrm>
            <a:prstGeom prst="rect">
              <a:avLst/>
            </a:prstGeom>
            <a:noFill/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年 月 日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2080" y="434340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81560" y="434340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4440" y="3733920"/>
            <a:ext cx="8248680" cy="685800"/>
            <a:chOff x="514440" y="3733920"/>
            <a:chExt cx="8248680" cy="685800"/>
          </a:xfrm>
        </p:grpSpPr>
        <p:sp>
          <p:nvSpPr>
            <p:cNvPr id="149" name=""/>
            <p:cNvSpPr/>
            <p:nvPr/>
          </p:nvSpPr>
          <p:spPr>
            <a:xfrm>
              <a:off x="514440" y="3733920"/>
              <a:ext cx="8248680" cy="642600"/>
            </a:xfrm>
            <a:prstGeom prst="rect">
              <a:avLst/>
            </a:prstGeom>
            <a:noFill/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姓 名学 号班 号性别出生日期入学成绩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373392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373392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373392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373392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3733920"/>
              <a:ext cx="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47920" y="5410080"/>
            <a:ext cx="2133360" cy="609840"/>
          </a:xfrm>
          <a:prstGeom prst="wedgeRoundRectCallout">
            <a:avLst>
              <a:gd name="adj1" fmla="val -8037"/>
              <a:gd name="adj2" fmla="val -194009"/>
              <a:gd name="adj3" fmla="val 16667"/>
            </a:avLst>
          </a:prstGeom>
          <a:solidFill>
            <a:srgbClr val="c2f2db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原子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5516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结构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19440" y="3809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带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结构</a:t>
            </a: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的数据元素的集合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0840" y="1219320"/>
            <a:ext cx="75596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有一个特性相同的数据元素的集合，如果在数据元素之间存在一种或多种特定的关系，则称为一个数据结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19720"/>
            <a:ext cx="152640" cy="838080"/>
          </a:xfrm>
          <a:prstGeom prst="downArrow">
            <a:avLst>
              <a:gd name="adj1" fmla="val 50000"/>
              <a:gd name="adj2" fmla="val 137264"/>
            </a:avLst>
          </a:prstGeom>
          <a:solidFill>
            <a:srgbClr val="c2f2db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37360" y="5121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指的是数据元素之间存在的关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808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如，当用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三个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位的十进制数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表示一个含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2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位数的十进制数时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6280" y="2743200"/>
            <a:ext cx="82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214,6587,9345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─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1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3214)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6587)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9345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581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则在数据元素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2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3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间存在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次序”关系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1, a2</a:t>
            </a:r>
            <a:r>
              <a:rPr b="1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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2, a3</a:t>
            </a:r>
            <a:r>
              <a:rPr b="1" lang="zh-CN" sz="3600" spc="-1" strike="noStrike">
                <a:solidFill>
                  <a:srgbClr val="333333"/>
                </a:solidFill>
                <a:latin typeface="Symbol"/>
                <a:ea typeface="Symbol"/>
              </a:rPr>
              <a:t>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000" y="5410080"/>
            <a:ext cx="40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214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6587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9345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18680" y="5410080"/>
            <a:ext cx="39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6587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214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9345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200" y="19810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4280" y="60958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1         a2        a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90120" y="606420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2         a1        a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04800" y="216000"/>
            <a:ext cx="62424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又例，在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行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列的二维数组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中六个元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a1, a2, a3, a4, a5, a6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之间存在两个关系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8240" y="3048120"/>
            <a:ext cx="2210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隶书"/>
                <a:ea typeface="隶书"/>
              </a:rPr>
              <a:t>行的次序关系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992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ow = {&lt;a1,a2&gt;,&lt;a2,a3&gt;,&lt;a4,a5&gt;,&lt;a5,a6&gt;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85200" y="5638680"/>
            <a:ext cx="57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ol = {&lt;a1,a4&gt;,&lt;a2,a5&gt;,&lt;a3,a6&gt;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62720" y="1371600"/>
            <a:ext cx="2895480" cy="1523880"/>
            <a:chOff x="5562720" y="1371600"/>
            <a:chExt cx="2895480" cy="1523880"/>
          </a:xfrm>
        </p:grpSpPr>
        <p:sp>
          <p:nvSpPr>
            <p:cNvPr id="174" name=""/>
            <p:cNvSpPr/>
            <p:nvPr/>
          </p:nvSpPr>
          <p:spPr>
            <a:xfrm>
              <a:off x="5562720" y="1371600"/>
              <a:ext cx="2895480" cy="1477080"/>
            </a:xfrm>
            <a:prstGeom prst="rect">
              <a:avLst/>
            </a:prstGeom>
            <a:noFill/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zh-CN" sz="3600" spc="-1" strike="noStrike">
                  <a:solidFill>
                    <a:srgbClr val="004c2b"/>
                  </a:solidFill>
                  <a:latin typeface="Times New Roman"/>
                </a:rPr>
                <a:t>a1    a2    a3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4c2b"/>
                  </a:solidFill>
                  <a:latin typeface="Times New Roman"/>
                </a:rPr>
                <a:t>  </a:t>
              </a:r>
              <a:r>
                <a:rPr b="0" lang="zh-CN" sz="3600" spc="-1" strike="noStrike">
                  <a:solidFill>
                    <a:srgbClr val="004c2b"/>
                  </a:solidFill>
                  <a:latin typeface="Times New Roman"/>
                </a:rPr>
                <a:t>a4    a5    a6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720" y="2133720"/>
              <a:ext cx="28954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6760" y="1371600"/>
              <a:ext cx="0" cy="1447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7480" y="1371600"/>
              <a:ext cx="0" cy="1523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859320" y="4724280"/>
            <a:ext cx="2210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隶书"/>
                <a:ea typeface="隶书"/>
              </a:rPr>
              <a:t>列的次序关系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228600"/>
            <a:ext cx="86104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若在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6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个数据元素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a1, a2, a3, a4, a5, a6}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之间存在如下的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次序关系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3960" y="1905120"/>
            <a:ext cx="5897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&lt;a</a:t>
            </a:r>
            <a:r>
              <a:rPr b="0" lang="zh-CN" sz="44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, a</a:t>
            </a:r>
            <a:r>
              <a:rPr b="0" lang="zh-CN" sz="4400" spc="-1" strike="noStrike" baseline="-25000">
                <a:solidFill>
                  <a:srgbClr val="004c2b"/>
                </a:solidFill>
                <a:latin typeface="Times New Roman"/>
                <a:ea typeface="楷体_GB2312"/>
              </a:rPr>
              <a:t>i+1</a:t>
            </a:r>
            <a:r>
              <a:rPr b="0" lang="zh-CN" sz="4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gt;| i=1, 2, 3, 4, 5}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4648320"/>
            <a:ext cx="8397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数据结构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互之间存在着某种逻辑关系的数据元素的集合</a:t>
            </a: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3880" y="385452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可见，不同的“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关系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构成不同的“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结构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8400" y="289548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则构成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一维数组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的定义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19120" y="228600"/>
            <a:ext cx="8319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系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构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数据结构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可归结为以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类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50280" y="213516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隶书"/>
                <a:ea typeface="隶书"/>
              </a:rPr>
              <a:t>线性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4560" y="312588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隶书"/>
                <a:ea typeface="隶书"/>
              </a:rPr>
              <a:t>树形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26240" y="411624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隶书"/>
                <a:ea typeface="隶书"/>
              </a:rPr>
              <a:t>图状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26240" y="518328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4c2b"/>
                </a:solidFill>
                <a:latin typeface="隶书"/>
                <a:ea typeface="隶书"/>
              </a:rPr>
              <a:t>集合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结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05520" y="2468520"/>
            <a:ext cx="1600200" cy="198360"/>
            <a:chOff x="5105520" y="2468520"/>
            <a:chExt cx="1600200" cy="198360"/>
          </a:xfrm>
        </p:grpSpPr>
        <p:sp>
          <p:nvSpPr>
            <p:cNvPr id="190" name=""/>
            <p:cNvSpPr/>
            <p:nvPr/>
          </p:nvSpPr>
          <p:spPr>
            <a:xfrm>
              <a:off x="5105520" y="2468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468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468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2468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2568600"/>
              <a:ext cx="2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256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256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886280" y="3038400"/>
            <a:ext cx="1819440" cy="990720"/>
            <a:chOff x="4886280" y="3038400"/>
            <a:chExt cx="1819440" cy="990720"/>
          </a:xfrm>
        </p:grpSpPr>
        <p:sp>
          <p:nvSpPr>
            <p:cNvPr id="198" name=""/>
            <p:cNvSpPr/>
            <p:nvPr/>
          </p:nvSpPr>
          <p:spPr>
            <a:xfrm>
              <a:off x="4886280" y="343548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53200" y="303840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343548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9800" y="383076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3236760"/>
              <a:ext cx="22860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4520" y="369108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323064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53040" y="3533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019840" y="3138120"/>
              <a:ext cx="3427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3613320"/>
              <a:ext cx="3236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686560" y="3335400"/>
              <a:ext cx="33336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7760" y="3633840"/>
              <a:ext cx="29520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8520" y="333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29200" y="4259160"/>
            <a:ext cx="1295280" cy="693720"/>
            <a:chOff x="5029200" y="4259160"/>
            <a:chExt cx="1295280" cy="693720"/>
          </a:xfrm>
        </p:grpSpPr>
        <p:sp>
          <p:nvSpPr>
            <p:cNvPr id="212" name=""/>
            <p:cNvSpPr/>
            <p:nvPr/>
          </p:nvSpPr>
          <p:spPr>
            <a:xfrm>
              <a:off x="5029200" y="4754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4259160"/>
              <a:ext cx="22860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29320" y="475452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9600" y="4259160"/>
              <a:ext cx="22860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455616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95960" y="4853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76880" y="4357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2400" y="445788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62520" y="445788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847840" y="4357440"/>
              <a:ext cx="34308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14880" y="5326200"/>
            <a:ext cx="981000" cy="693720"/>
            <a:chOff x="5114880" y="5326200"/>
            <a:chExt cx="981000" cy="693720"/>
          </a:xfrm>
        </p:grpSpPr>
        <p:sp>
          <p:nvSpPr>
            <p:cNvPr id="223" name=""/>
            <p:cNvSpPr/>
            <p:nvPr/>
          </p:nvSpPr>
          <p:spPr>
            <a:xfrm>
              <a:off x="5562720" y="562320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62560" y="582156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4880" y="5637600"/>
              <a:ext cx="2286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96080" y="5821560"/>
              <a:ext cx="1998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96080" y="5524920"/>
              <a:ext cx="199800" cy="19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5760" y="5326200"/>
              <a:ext cx="20016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1631160" y="990720"/>
            <a:ext cx="542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.1   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数据结构讨论的范畴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1110960" y="2514600"/>
            <a:ext cx="33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.2   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基本概念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720080" y="4038480"/>
            <a:ext cx="501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.3   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算法和算法的量度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334120"/>
            <a:ext cx="916200" cy="121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72880"/>
            <a:ext cx="8762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数据结构包括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逻辑结构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和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物理结构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两个方面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层次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)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905120"/>
            <a:ext cx="8762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逻辑结构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对数据元素之间的逻辑关系的描述，它可以应一个数据元素的集合和定义在此集合上的若干关系来表示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419720"/>
            <a:ext cx="8762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物理结构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是逻辑结构在计算机中的表示和实现，故又称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存储结构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09000" y="533520"/>
            <a:ext cx="46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结构的形式定义描述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2920" y="1903320"/>
            <a:ext cx="28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隶书"/>
                <a:ea typeface="隶书"/>
              </a:rPr>
              <a:t>数据结构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一个二元组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124080"/>
            <a:ext cx="70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ata_Structures = (D, S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343400"/>
            <a:ext cx="784872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中</a:t>
            </a:r>
            <a:r>
              <a:rPr b="0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数据元素的有限集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是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上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关系的有限集</a:t>
            </a:r>
            <a:r>
              <a:rPr b="0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72280" y="272880"/>
            <a:ext cx="47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例如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定义 “班集体”为一个数据结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6440" y="1219320"/>
            <a:ext cx="33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ass = (D, S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7760" y="2254320"/>
            <a:ext cx="645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D = { a, b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…,b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c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…c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d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…d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74800" y="2990880"/>
            <a:ext cx="72763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S = { R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R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R1 = { &lt;a, b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,&lt;a, c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,&lt;a, d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R2 = { &lt;b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b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, &lt;c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c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, &lt;d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, d</a:t>
            </a:r>
            <a:r>
              <a:rPr b="0" lang="zh-CN" sz="36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&g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               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| j = 2, 3, …, n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6760" y="974880"/>
            <a:ext cx="35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数据的</a:t>
            </a:r>
            <a:r>
              <a:rPr b="1" lang="zh-CN" sz="5400" spc="-1" strike="noStrike">
                <a:solidFill>
                  <a:srgbClr val="004c2b"/>
                </a:solidFill>
                <a:latin typeface="隶书"/>
                <a:ea typeface="隶书"/>
              </a:rPr>
              <a:t>存储结构</a:t>
            </a:r>
            <a:r>
              <a:rPr b="1" lang="zh-CN" sz="6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—— 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逻辑结构在存储器中的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映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9320" y="365436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数据元素”的映象  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22120" y="467352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关系”的映象  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01720" y="83808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元素的映象方法：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62320"/>
            <a:ext cx="85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用二进制位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bit)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位串表示数据元素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520" y="3336840"/>
            <a:ext cx="7189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(321)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=  (501)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=  (101000001)</a:t>
            </a:r>
            <a:r>
              <a:rPr b="0" lang="zh-CN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1160" y="4267080"/>
            <a:ext cx="653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    =  (101)</a:t>
            </a:r>
            <a:r>
              <a:rPr b="0" lang="en-US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8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=  (001000001)</a:t>
            </a:r>
            <a:r>
              <a:rPr b="0" lang="en-US" sz="4000" spc="-1" strike="noStrike" baseline="-25000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22760" y="3808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系的映象方法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53000" y="457200"/>
            <a:ext cx="39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表示</a:t>
            </a:r>
            <a:r>
              <a:rPr b="0" lang="zh-CN" sz="40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x, y</a:t>
            </a:r>
            <a:r>
              <a:rPr b="0" lang="zh-CN" sz="4000" spc="-1" strike="noStrike">
                <a:solidFill>
                  <a:srgbClr val="333333"/>
                </a:solidFill>
                <a:latin typeface="Symbol"/>
                <a:ea typeface="Symbol"/>
              </a:rPr>
              <a:t>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方法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9360" y="1219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顺序映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1320" y="18730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以相对的存储位置表示后继关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575080"/>
            <a:ext cx="8458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如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令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y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存储位置和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x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存储位置之间差一个常量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360" y="4098960"/>
            <a:ext cx="8397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而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C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一个隐含值，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整个存储结构中只含数据元素本身的信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28440" y="5653080"/>
            <a:ext cx="3062880" cy="825120"/>
            <a:chOff x="2728440" y="5653080"/>
            <a:chExt cx="3062880" cy="825120"/>
          </a:xfrm>
        </p:grpSpPr>
        <p:sp>
          <p:nvSpPr>
            <p:cNvPr id="255" name=""/>
            <p:cNvSpPr/>
            <p:nvPr/>
          </p:nvSpPr>
          <p:spPr>
            <a:xfrm>
              <a:off x="2728440" y="565308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48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x    y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819520" y="5791320"/>
              <a:ext cx="2971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64771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5799240"/>
              <a:ext cx="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48320" y="5799240"/>
              <a:ext cx="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4120" y="5799240"/>
              <a:ext cx="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9880" y="5791320"/>
              <a:ext cx="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3916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链式映象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9880" y="1263600"/>
            <a:ext cx="47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以附加信息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指针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表示后继关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1337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需要用一个和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x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在一起的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附加信息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指示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y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存储位置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4800600"/>
            <a:ext cx="0" cy="6858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95800" y="5486400"/>
            <a:ext cx="24955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95800" y="5189400"/>
            <a:ext cx="0" cy="29700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590920" y="4191120"/>
            <a:ext cx="4114800" cy="990360"/>
            <a:chOff x="2590920" y="4191120"/>
            <a:chExt cx="4114800" cy="990360"/>
          </a:xfrm>
        </p:grpSpPr>
        <p:sp>
          <p:nvSpPr>
            <p:cNvPr id="269" name=""/>
            <p:cNvSpPr/>
            <p:nvPr/>
          </p:nvSpPr>
          <p:spPr>
            <a:xfrm>
              <a:off x="2830320" y="4191120"/>
              <a:ext cx="306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y     x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434340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0920" y="51814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3434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435132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43434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435132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98600" y="8222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在不同的编程环境中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14880" y="17524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存储结构可有不同的描述方法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31082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</a:rPr>
              <a:t>当用高级程序设计语言进行编程时，通常可用高级编程语言中提供的数据类型描述之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82840" y="38088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087560"/>
            <a:ext cx="800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以三个带有次序关系的整数表示一个长整数时，可利用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语言中提供的整数数组类型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8520" y="4724280"/>
            <a:ext cx="73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ypedef int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Long_int [3]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6080" y="3657600"/>
            <a:ext cx="243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义长整数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为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5791320"/>
            <a:ext cx="44604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625920" y="76320"/>
            <a:ext cx="567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ypedef struct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y; 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年号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Yea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m;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月号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Mon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d; 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日号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a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DateType;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日期类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9800" y="-76320"/>
            <a:ext cx="248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义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“日期”</a:t>
            </a: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6120" y="2666880"/>
            <a:ext cx="248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义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“学生”</a:t>
            </a: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290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ypedef struct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id[8];      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学号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name[16];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姓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ha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sex;          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性别‘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M/F’: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男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女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ateType  bdate;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出生日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Student;                   //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学生类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01800" y="457200"/>
            <a:ext cx="56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1.1</a:t>
            </a:r>
            <a:r>
              <a:rPr b="0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数据结构讨论的范畴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600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数据结构在软件开发中的地位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系统分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85040" y="358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系统设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4244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系统实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99840" y="537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隶书"/>
              </a:rPr>
              <a:t>系统维护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45000">
            <a:off x="2825640" y="2579760"/>
            <a:ext cx="763560" cy="1388880"/>
          </a:xfrm>
          <a:custGeom>
            <a:avLst/>
            <a:gdLst>
              <a:gd name="textAreaLeft" fmla="*/ 0 w 763560"/>
              <a:gd name="textAreaRight" fmla="*/ 763920 w 76356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45000">
            <a:off x="4884480" y="3496680"/>
            <a:ext cx="763560" cy="1389240"/>
          </a:xfrm>
          <a:custGeom>
            <a:avLst/>
            <a:gdLst>
              <a:gd name="textAreaLeft" fmla="*/ 0 w 763560"/>
              <a:gd name="textAreaRight" fmla="*/ 763920 w 76356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45000">
            <a:off x="6941880" y="4335120"/>
            <a:ext cx="763560" cy="1389240"/>
          </a:xfrm>
          <a:custGeom>
            <a:avLst/>
            <a:gdLst>
              <a:gd name="textAreaLeft" fmla="*/ 0 w 763560"/>
              <a:gd name="textAreaRight" fmla="*/ 763920 w 76356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6880" y="358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系统设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738520" y="60948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二、数据类型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39280" y="1963800"/>
            <a:ext cx="6093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在用高级程序语言编写的程序中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必须对程序中出现的每个变量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常量或表达式，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明确说明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它们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属的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数据类型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934280" y="349200"/>
            <a:ext cx="57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例如，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语言中提供的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基本数据类型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有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6040" y="12636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整型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i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560" y="22860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浮点型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flo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69480" y="44640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字符型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ch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58840" y="54864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逻辑型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bool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C++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语言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0560" y="3352680"/>
            <a:ext cx="29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双精度型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doub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259092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00640" y="2819520"/>
            <a:ext cx="30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实型（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C++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语言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4038480"/>
            <a:ext cx="75438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数据类型 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是一个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值的集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和定义在此集合上的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组操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总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280" y="152280"/>
            <a:ext cx="7559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不同类型的变量，其所能取的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值的范围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不同，所能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进行的操作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不同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198108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例如：整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值的范围是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-32768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~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3276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操作是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%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380880"/>
            <a:ext cx="8305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2915"/>
                </a:solidFill>
                <a:latin typeface="Times New Roman"/>
              </a:rPr>
              <a:t>各种高级程序设计语言中都拥有“整数”类型，尽管它们在不同处理器上实现的方法不同，但对程序员而言是“相同的”，因为它们的数学特性相同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038480"/>
            <a:ext cx="8076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2915"/>
                </a:solidFill>
                <a:latin typeface="Times New Roman"/>
              </a:rPr>
              <a:t>从“数学抽象”的角度看，可称它为一个“抽象数据类型” 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63868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79880" y="366840"/>
            <a:ext cx="844020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三、抽象数据类型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3b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395b3b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A</a:t>
            </a:r>
            <a:r>
              <a:rPr b="0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bstract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 D</a:t>
            </a:r>
            <a:r>
              <a:rPr b="0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ata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 T</a:t>
            </a:r>
            <a:r>
              <a:rPr b="0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ype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简称</a:t>
            </a:r>
            <a:r>
              <a:rPr b="1" lang="zh-CN" sz="4400" spc="-1" strike="noStrike">
                <a:solidFill>
                  <a:srgbClr val="395b3b"/>
                </a:solidFill>
                <a:latin typeface="Times New Roman"/>
                <a:ea typeface="楷体_GB2312"/>
              </a:rPr>
              <a:t>ADT</a:t>
            </a:r>
            <a:r>
              <a:rPr b="0" lang="zh-CN" sz="4400" spc="-1" strike="noStrike">
                <a:solidFill>
                  <a:srgbClr val="395b3b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2627280"/>
            <a:ext cx="7255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是指一个数学模型以及定义在此数学模型上的一组操作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93640" y="380880"/>
            <a:ext cx="725508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例如</a:t>
            </a:r>
            <a:r>
              <a:rPr b="1" lang="zh-CN" sz="48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整数”是一个抽象数据类型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272736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其数学特性和具体的计算机或语言无关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  “</a:t>
            </a:r>
            <a:r>
              <a:rPr b="0" lang="zh-CN" sz="4000" spc="-1" strike="noStrike">
                <a:solidFill>
                  <a:srgbClr val="30552b"/>
                </a:solidFill>
                <a:latin typeface="楷体_GB2312"/>
                <a:ea typeface="楷体_GB2312"/>
              </a:rPr>
              <a:t>抽象”的意义在于强调数据类型的数学特性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96720"/>
            <a:ext cx="8474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抽象数据类型还包括用户在设计软件系统时自己定义的数据类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378160"/>
            <a:ext cx="8550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在构造软件系统的各个相对独立的模块时，定义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一组数据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和施与这些数据之上的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一组操作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并在模块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内部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给出它们的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表示和实现细节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在模块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外部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使用的只是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抽象的数据和抽象的操作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994760" y="30492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例如，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定义抽象数据类型“</a:t>
            </a:r>
            <a:r>
              <a:rPr b="1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复数</a:t>
            </a:r>
            <a:r>
              <a:rPr b="0" lang="zh-CN" sz="4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441360" y="2209680"/>
            <a:ext cx="996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数据对象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D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e1,e2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｜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e1,e2∈RealSet  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数据关系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＝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{&lt;e1,e2&gt; | e1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复数的实数部分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| e2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复数的虚数部分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040" y="1355760"/>
            <a:ext cx="377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DT Complex 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1480" y="179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基本操作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93680" y="838080"/>
            <a:ext cx="7534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ssignComplex( &amp;Z, v1, v2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结果：构造复数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,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实部和虚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分别被赋以参数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v1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和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v2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值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8000" y="2962440"/>
            <a:ext cx="501948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estroyComplex( &amp;Z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结果：复数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被销毁。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67480" y="4560840"/>
            <a:ext cx="530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GetReal( Z, &amp;realPart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初始条件：复数已存在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结果：用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realPart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复数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实部值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29400" y="297000"/>
            <a:ext cx="55393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GetImag( Z, &amp;ImagPart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初始条件：复数已存在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结果：用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magPart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复数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虚部值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655720"/>
            <a:ext cx="8534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dd( z1,z2, &amp;sum 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初始条件：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z1, z2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复数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结果：用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m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两个复数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z1, z2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和值。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60" y="5622840"/>
            <a:ext cx="364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} ADT Complex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457200" cy="457200"/>
          </a:xfrm>
          <a:custGeom>
            <a:avLst/>
            <a:gdLst>
              <a:gd name="textAreaLeft" fmla="*/ 83880 w 457200"/>
              <a:gd name="textAreaRight" fmla="*/ 373320 w 457200"/>
              <a:gd name="textAreaTop" fmla="*/ 83880 h 457200"/>
              <a:gd name="textAreaBottom" fmla="*/ 373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640" y="3960"/>
                </a:lnTo>
                <a:lnTo>
                  <a:pt x="3960" y="396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640" y="17640"/>
                </a:lnTo>
                <a:lnTo>
                  <a:pt x="17640" y="396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960" y="17640"/>
                </a:lnTo>
                <a:lnTo>
                  <a:pt x="17640" y="1764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960" y="3960"/>
                </a:lnTo>
                <a:lnTo>
                  <a:pt x="3960" y="17640"/>
                </a:lnTo>
                <a:close/>
              </a:path>
              <a:path fill="darken" w="21600" h="21600">
                <a:moveTo>
                  <a:pt x="5702" y="8393"/>
                </a:moveTo>
                <a:lnTo>
                  <a:pt x="8254" y="8393"/>
                </a:lnTo>
                <a:lnTo>
                  <a:pt x="8254" y="12276"/>
                </a:lnTo>
                <a:cubicBezTo>
                  <a:pt x="8254" y="12947"/>
                  <a:pt x="8837" y="13479"/>
                  <a:pt x="9590" y="13479"/>
                </a:cubicBezTo>
                <a:lnTo>
                  <a:pt x="10800" y="13479"/>
                </a:lnTo>
                <a:cubicBezTo>
                  <a:pt x="11554" y="13479"/>
                  <a:pt x="12136" y="12947"/>
                  <a:pt x="12136" y="12276"/>
                </a:cubicBezTo>
                <a:lnTo>
                  <a:pt x="12136" y="8393"/>
                </a:lnTo>
                <a:lnTo>
                  <a:pt x="10800" y="8393"/>
                </a:lnTo>
                <a:lnTo>
                  <a:pt x="13352" y="5841"/>
                </a:lnTo>
                <a:lnTo>
                  <a:pt x="16025" y="8393"/>
                </a:lnTo>
                <a:lnTo>
                  <a:pt x="14689" y="8393"/>
                </a:lnTo>
                <a:lnTo>
                  <a:pt x="14689" y="12276"/>
                </a:lnTo>
                <a:cubicBezTo>
                  <a:pt x="14689" y="14290"/>
                  <a:pt x="12814" y="16152"/>
                  <a:pt x="10800" y="16152"/>
                </a:cubicBezTo>
                <a:lnTo>
                  <a:pt x="9590" y="16152"/>
                </a:lnTo>
                <a:cubicBezTo>
                  <a:pt x="7576" y="16152"/>
                  <a:pt x="5702" y="14290"/>
                  <a:pt x="5702" y="12276"/>
                </a:cubicBezTo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0960" y="533520"/>
            <a:ext cx="861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iklaus Wirth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lgorithm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+ Data Structures =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286000"/>
            <a:ext cx="2361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程序设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据结构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2514600"/>
            <a:ext cx="399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为计算机处理问题编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333333"/>
                </a:solidFill>
                <a:latin typeface="隶书"/>
                <a:ea typeface="隶书"/>
              </a:rPr>
              <a:t>一组指令集</a:t>
            </a:r>
            <a:r>
              <a:rPr b="0" lang="zh-CN" sz="4000" spc="-1" strike="noStrike">
                <a:solidFill>
                  <a:srgbClr val="333333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48680" y="43275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处理问题的策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8680" y="5318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问题的数学模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647800" y="380880"/>
                <a:ext cx="37530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1127160" y="1752480"/>
            <a:ext cx="7178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# includ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&lt;iostream.h&gt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# includ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"complex.h"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void 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8001000" y="5791320"/>
            <a:ext cx="304920" cy="53316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1830600" y="4572000"/>
            <a:ext cx="189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57200" y="262080"/>
            <a:ext cx="83059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omplex z1,z2,z3,z4,z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loat RealPart,ImagPar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nitComple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z1,8.0,6.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nitComple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z2,4.0,3.0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Ad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z1,z2,z3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Multip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z1,z2,z4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Divis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(z4,z3,z))   {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GetRea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(z, RealPart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GetIm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(z, ImagPart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/i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8001000" y="6019920"/>
            <a:ext cx="457200" cy="457200"/>
          </a:xfrm>
          <a:custGeom>
            <a:avLst/>
            <a:gdLst>
              <a:gd name="textAreaLeft" fmla="*/ 75960 w 457200"/>
              <a:gd name="textAreaRight" fmla="*/ 381240 w 457200"/>
              <a:gd name="textAreaTop" fmla="*/ 75960 h 457200"/>
              <a:gd name="textAreaBottom" fmla="*/ 3812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000" y="3600"/>
                </a:lnTo>
                <a:lnTo>
                  <a:pt x="3600" y="36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000" y="18000"/>
                </a:lnTo>
                <a:lnTo>
                  <a:pt x="18000" y="36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18000" y="180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  <a:path fill="darken" w="21600" h="21600">
                <a:moveTo>
                  <a:pt x="5433" y="8267"/>
                </a:moveTo>
                <a:lnTo>
                  <a:pt x="8120" y="8267"/>
                </a:lnTo>
                <a:lnTo>
                  <a:pt x="8120" y="12353"/>
                </a:lnTo>
                <a:cubicBezTo>
                  <a:pt x="8120" y="13060"/>
                  <a:pt x="8733" y="13620"/>
                  <a:pt x="9527" y="13620"/>
                </a:cubicBezTo>
                <a:lnTo>
                  <a:pt x="10800" y="13620"/>
                </a:lnTo>
                <a:cubicBezTo>
                  <a:pt x="11593" y="13620"/>
                  <a:pt x="12207" y="13060"/>
                  <a:pt x="12207" y="12353"/>
                </a:cubicBezTo>
                <a:lnTo>
                  <a:pt x="12207" y="8267"/>
                </a:lnTo>
                <a:lnTo>
                  <a:pt x="10800" y="8267"/>
                </a:lnTo>
                <a:lnTo>
                  <a:pt x="13487" y="5580"/>
                </a:lnTo>
                <a:lnTo>
                  <a:pt x="16300" y="8267"/>
                </a:lnTo>
                <a:lnTo>
                  <a:pt x="14893" y="8267"/>
                </a:lnTo>
                <a:lnTo>
                  <a:pt x="14893" y="12353"/>
                </a:lnTo>
                <a:cubicBezTo>
                  <a:pt x="14893" y="14473"/>
                  <a:pt x="12920" y="16433"/>
                  <a:pt x="10800" y="16433"/>
                </a:cubicBezTo>
                <a:lnTo>
                  <a:pt x="9527" y="16433"/>
                </a:lnTo>
                <a:cubicBezTo>
                  <a:pt x="7407" y="16433"/>
                  <a:pt x="5433" y="14473"/>
                  <a:pt x="5433" y="12353"/>
                </a:cubicBezTo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64800" y="228600"/>
            <a:ext cx="40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DT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有两个重要特征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25560" y="1203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数据抽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8560" y="1158840"/>
            <a:ext cx="8016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用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DT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描述程序处理的实体时，强调的是其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本质的特征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其所能完成的功能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以及它和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外部用户的接口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（即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外界使用它的方法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51120" y="4175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数据封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4038480"/>
            <a:ext cx="78487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将实体的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外部特性和其内部实现细节分离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，并且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对外部用户隐藏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其内部实现细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155680" y="59832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象数据类型的描述方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2209680"/>
            <a:ext cx="9601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抽象数据类型可用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）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三元组表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其中，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是数据对象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是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上的关系集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P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是对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D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的基本操作集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020680" y="112680"/>
            <a:ext cx="3854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DT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抽象数据类型名 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数据对象：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〈数据对象的定义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数据关系：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〈数据关系的定义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基本操作：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〈基本操作的定义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} ADT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抽象数据类型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6840" y="377820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其中基本操作的定义格式为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24680" y="4495680"/>
            <a:ext cx="332604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基本操作名</a:t>
            </a:r>
            <a:r>
              <a:rPr b="0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（参数表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初始条件：</a:t>
            </a:r>
            <a:r>
              <a:rPr b="0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〈初始条件描述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操作结果</a:t>
            </a:r>
            <a:r>
              <a:rPr b="0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：〈操作结果描述〉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44640" y="227160"/>
            <a:ext cx="57182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赋值参数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只为操作提供输入值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引用参数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打头，除可提供输入值外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还将返回操作结果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9960" y="2351160"/>
            <a:ext cx="8363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初始条件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描述了操作执行之前数据结构和参数应满足的条件，若不满足，则操作失败，并返回相应出错信息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0720" y="4522680"/>
            <a:ext cx="8236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操作结果 </a:t>
            </a:r>
            <a:r>
              <a:rPr b="0" lang="zh-CN" sz="36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说明了操作正常完成之后，数据结构的变化状况和应返回的结果。若初始条件为空，则省略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229600" y="60958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e9c3"/>
          </a:solidFill>
          <a:ln w="93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31360" y="5335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象数据类型的表示和实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4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抽象数据类型需要通过</a:t>
            </a:r>
            <a:r>
              <a:rPr b="1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固有数据类型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高级编程语言中已实现的数据类型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来实现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14040" y="4768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例如，对以上定义的复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02080" y="838080"/>
            <a:ext cx="364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typedef  struct 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floa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realpar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floa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imagpar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omplex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74040" y="247680"/>
            <a:ext cx="29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// -----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存储结构的定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0360" y="3327480"/>
            <a:ext cx="39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// -----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基本操作的函数原型说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9960" y="41338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ssign( complex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Z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loa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realval,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loat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imagval )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构造复数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,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实部和虚部分别被赋以参数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realval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和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imagval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37640" y="609480"/>
            <a:ext cx="50907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floa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GetReal( cpmplex Z )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复数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实部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4400" y="2093760"/>
            <a:ext cx="5063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floa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Getimag( cpmplex Z )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复数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Z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虚部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3565440"/>
            <a:ext cx="8534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oid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dd( complex z1, complex z2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omplex  &amp;sum )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m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两个复数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z1, z2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和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0560" y="533520"/>
            <a:ext cx="29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// -----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</a:rPr>
              <a:t>基本操作的实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432080"/>
            <a:ext cx="8534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void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add( complex z1, complex z2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                                        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complex 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&amp;</a:t>
            </a:r>
            <a:r>
              <a:rPr b="0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sum ) </a:t>
            </a:r>
            <a:r>
              <a:rPr b="1" lang="zh-CN" sz="32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//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m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两个复数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z1, z2 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m.realpart = z1.realpart + z2.realpar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sum.imagpart = z1.imagpart + z2.imagpart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}</a:t>
            </a: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3520" y="5638680"/>
            <a:ext cx="21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{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其它省略 </a:t>
            </a:r>
            <a:r>
              <a:rPr b="0" lang="zh-CN" sz="3600" spc="-1" strike="noStrike">
                <a:solidFill>
                  <a:srgbClr val="004c2b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638680"/>
            <a:ext cx="52236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结构静力分析计算    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78800" y="954000"/>
            <a:ext cx="499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如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数值计算的程序设计问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5160" y="3124080"/>
            <a:ext cx="36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─━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线性代数方程组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8769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─━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环流模式方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球面坐标系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9200" y="42670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全球天气预报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85920" y="39672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1.3 </a:t>
            </a:r>
            <a:r>
              <a:rPr b="1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算法和算法的衡量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1103400" y="17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、算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2878200" y="2879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二、算法设计的原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>
            <a:off x="4160160" y="4022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三、算法效率的衡量方法和准则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>
            <a:hlinkClick r:id="rId3" action="ppaction://hlinksldjump"/>
          </p:cNvPr>
          <p:cNvSpPr/>
          <p:nvPr/>
        </p:nvSpPr>
        <p:spPr>
          <a:xfrm>
            <a:off x="3390840" y="5165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四、算法的存储空间需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26360" y="4724280"/>
            <a:ext cx="151272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" y="1098720"/>
            <a:ext cx="820404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为了解决某类问题而规定的一个有限长的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操作序列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一个算法必须满足以下</a:t>
            </a: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五</a:t>
            </a: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个重要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特性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95560" y="4067280"/>
            <a:ext cx="688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穷性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定性  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行性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输入 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输出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7972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、算法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369720"/>
            <a:ext cx="8578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穷性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对于任意一组合法输入值，在执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穷步骤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后一定能结束，即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中的每个步骤都能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限时间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内完成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2666880"/>
            <a:ext cx="87631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定性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对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种情况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下所应执行的操作，在算法中都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切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规定，使算法的执行者或阅读者都能明确其含义及如何执行。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并且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任何条件下，算法都只有一条执行路径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4000" y="380880"/>
            <a:ext cx="8515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行性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算法中的所有操作都必须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足够基本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都可以通过已经实现的基本操作运算有限次实现之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9680" y="2914560"/>
            <a:ext cx="8582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输入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作为算法加工对象的量值，通常体现为算法中的一组变量。有些输入量需要在算法执行过程中输入，而有的算法表面上可以没有输入，实际上已被嵌入算法之中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3520" y="1203480"/>
            <a:ext cx="822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输出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它是一组与“输入”与确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定关系的量值，是算法进行信息加工后得到的结果，这种确定关系即为算法的功能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67320 w 380880"/>
              <a:gd name="textAreaRight" fmla="*/ 313560 w 380880"/>
              <a:gd name="textAreaTop" fmla="*/ 67320 h 380880"/>
              <a:gd name="textAreaBottom" fmla="*/ 313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75" y="3825"/>
                </a:lnTo>
                <a:lnTo>
                  <a:pt x="3825" y="38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75" y="17775"/>
                </a:lnTo>
                <a:lnTo>
                  <a:pt x="17775" y="38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7775" y="177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21600" h="21600">
                <a:moveTo>
                  <a:pt x="5601" y="5601"/>
                </a:moveTo>
                <a:lnTo>
                  <a:pt x="15999" y="10800"/>
                </a:lnTo>
                <a:lnTo>
                  <a:pt x="5601" y="1599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5880" y="30636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二、算法设计的原则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2880" y="129528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设计算法时，通常应考虑达到以下目标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1956600" y="2227320"/>
            <a:ext cx="17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性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1801800" y="3218040"/>
            <a:ext cx="208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.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读性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1977120" y="4208400"/>
            <a:ext cx="17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健壮性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>
            <a:hlinkClick r:id="rId3" action="ppaction://hlinksldjump"/>
          </p:cNvPr>
          <p:cNvSpPr/>
          <p:nvPr/>
        </p:nvSpPr>
        <p:spPr>
          <a:xfrm>
            <a:off x="2684520" y="5199120"/>
            <a:ext cx="39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效率与低存储量需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>
            <a:hlinkClick r:id="rId4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67320 w 380880"/>
              <a:gd name="textAreaRight" fmla="*/ 313560 w 380880"/>
              <a:gd name="textAreaTop" fmla="*/ 67320 h 380880"/>
              <a:gd name="textAreaBottom" fmla="*/ 313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75" y="3825"/>
                </a:lnTo>
                <a:lnTo>
                  <a:pt x="3825" y="38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75" y="17775"/>
                </a:lnTo>
                <a:lnTo>
                  <a:pt x="17775" y="38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7775" y="177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21600" h="21600">
                <a:moveTo>
                  <a:pt x="5601" y="5601"/>
                </a:moveTo>
                <a:lnTo>
                  <a:pt x="15999" y="10800"/>
                </a:lnTo>
                <a:lnTo>
                  <a:pt x="5601" y="1599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33200" y="29376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性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9907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首先，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应当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满足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以特定的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“规格说明”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方式给出的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需求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2760" y="2362320"/>
            <a:ext cx="855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次，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对算法是否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的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理解可以有以下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四个层次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3854520"/>
            <a:ext cx="69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程序中不含语法错误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74880" y="4753080"/>
            <a:ext cx="7635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程序对于几组输入数据能够得出满足要求的结果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" y="380880"/>
            <a:ext cx="8686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程序对于精心选择的、典型、苛刻且带有刁难性的几组输入数据能够得出满足要求的结果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8440" y="4403880"/>
            <a:ext cx="827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通常以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c 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层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意义的正确性作为衡量一个算法是否合格的标准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040" y="2711520"/>
            <a:ext cx="8778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程序对于一切合法的输入数据都能得出满足要求的结果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8381880" y="6095880"/>
            <a:ext cx="381240" cy="381240"/>
          </a:xfrm>
          <a:custGeom>
            <a:avLst/>
            <a:gdLst>
              <a:gd name="textAreaLeft" fmla="*/ 95400 w 381240"/>
              <a:gd name="textAreaRight" fmla="*/ 28620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21880" y="65412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读性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905120"/>
            <a:ext cx="86104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主要是为了人的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阅读与交流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次才是为计算机执行。因此算法应该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易于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的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解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；另一方面，晦涩难读的程序易于隐藏较多错误而难以调试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214000" y="2728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健壮性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219320"/>
            <a:ext cx="83059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当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输入的数据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法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时，算法应当恰当地作出反映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行相应处理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而不是产生莫名奇妙的输出结果。并且，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处理出错的方法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不应是中断程序的执行，而应是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返回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一个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表示错误或错误性质的值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以便在更高的抽象层次上进行处理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69480 w 380880"/>
              <a:gd name="textAreaRight" fmla="*/ 311400 w 380880"/>
              <a:gd name="textAreaTop" fmla="*/ 69480 h 380880"/>
              <a:gd name="textAreaBottom" fmla="*/ 311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662" y="3938"/>
                </a:lnTo>
                <a:lnTo>
                  <a:pt x="3938" y="393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662" y="17662"/>
                </a:lnTo>
                <a:lnTo>
                  <a:pt x="17662" y="393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17662" y="1766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21600" h="21600">
                <a:moveTo>
                  <a:pt x="5685" y="10800"/>
                </a:moveTo>
                <a:lnTo>
                  <a:pt x="15915" y="5685"/>
                </a:lnTo>
                <a:lnTo>
                  <a:pt x="15915" y="15915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533520"/>
            <a:ext cx="841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隶书"/>
                <a:ea typeface="隶书"/>
              </a:rPr>
              <a:t>非数值计算的程序设计问题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7920" y="2270160"/>
            <a:ext cx="58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一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求一组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(n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个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整数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中的最大值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81280"/>
            <a:ext cx="20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型：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6920" y="3625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基本操作是“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比较两个数的大小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0120" y="48531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取决于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整数值的范围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7560" y="730080"/>
            <a:ext cx="52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4</a:t>
            </a: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效率与低存储量需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23680" y="2060640"/>
            <a:ext cx="542304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通常，效率指的是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执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间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；存储量指的是算法执行过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中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需的最大存储空间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两者都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问题的规模有关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26960" y="87480"/>
            <a:ext cx="39844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三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、算法效率的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衡量方法和准则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83800" y="2270160"/>
            <a:ext cx="487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通常有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两种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衡量算法效率的方法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02520" y="2895480"/>
            <a:ext cx="34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9900cc"/>
                </a:solidFill>
                <a:latin typeface="隶书"/>
                <a:ea typeface="隶书"/>
              </a:rPr>
              <a:t>事后统计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95800" y="5424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隶书"/>
                <a:ea typeface="隶书"/>
              </a:rPr>
              <a:t>事前分析估算法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0080" y="3778200"/>
            <a:ext cx="26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缺点：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必须执行程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其它因素掩盖算法本质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35840" y="7621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和算法执行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时间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相关的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因素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8640" y="190512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用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策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60560" y="27432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的规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71160" y="358128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编写程序的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语言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73520" y="441972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编译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程序产生的机器代码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质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17120" y="533412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．计算机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执行指令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速度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62120" y="136836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一个特定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算法的“运行工作量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大小，只依赖于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问题的规模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通常用整数量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表示），或者说，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它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是问题规模的函数</a:t>
            </a:r>
            <a:r>
              <a:rPr b="0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97000" y="237960"/>
            <a:ext cx="8618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假如，随着问题规模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n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增长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算法执行时间的增长率和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f(n)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的增长率相同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则可记作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42280" y="304812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 (n) = O(f(n)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69000" y="4648320"/>
            <a:ext cx="671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称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T (n) 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算法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渐近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复杂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43280" y="1600200"/>
            <a:ext cx="528300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何估算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的时间复杂度？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82160" y="339840"/>
            <a:ext cx="6325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=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控制结构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+ 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原操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固有数据类型的操作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28600" y="1676520"/>
            <a:ext cx="7753320" cy="2057400"/>
            <a:chOff x="228600" y="1676520"/>
            <a:chExt cx="7753320" cy="2057400"/>
          </a:xfrm>
        </p:grpSpPr>
        <p:sp>
          <p:nvSpPr>
            <p:cNvPr id="413" name=""/>
            <p:cNvSpPr/>
            <p:nvPr/>
          </p:nvSpPr>
          <p:spPr>
            <a:xfrm>
              <a:off x="1609560" y="1676520"/>
              <a:ext cx="6372360" cy="19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99"/>
                  </a:solidFill>
                  <a:latin typeface="楷体_GB2312"/>
                  <a:ea typeface="楷体_GB2312"/>
                </a:rPr>
                <a:t>算法的执行时间</a:t>
              </a:r>
              <a:r>
                <a:rPr b="0" lang="zh-CN" sz="40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5400" spc="-1" strike="noStrike">
                  <a:solidFill>
                    <a:srgbClr val="333333"/>
                  </a:solidFill>
                  <a:latin typeface="楷体_GB2312"/>
                  <a:ea typeface="楷体_GB2312"/>
                </a:rPr>
                <a:t>=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原操作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i)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的执行次数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原操作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i)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的执行时间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414" name=""/>
            <p:cNvGraphicFramePr/>
            <p:nvPr/>
          </p:nvGraphicFramePr>
          <p:xfrm>
            <a:off x="228600" y="2971800"/>
            <a:ext cx="674640" cy="762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971800"/>
                      <a:ext cx="6746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6" name=""/>
          <p:cNvSpPr/>
          <p:nvPr/>
        </p:nvSpPr>
        <p:spPr>
          <a:xfrm>
            <a:off x="457200" y="41148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 u="sng">
                <a:solidFill>
                  <a:srgbClr val="004c2b"/>
                </a:solidFill>
                <a:uFillTx/>
                <a:latin typeface="楷体_GB2312"/>
                <a:ea typeface="楷体_GB2312"/>
              </a:rPr>
              <a:t>算法的执行时间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与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4c2b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4c2b"/>
                </a:solidFill>
                <a:uFillTx/>
                <a:latin typeface="楷体_GB2312"/>
                <a:ea typeface="楷体_GB2312"/>
              </a:rPr>
              <a:t>原操作执行次数之和</a:t>
            </a:r>
            <a:r>
              <a:rPr b="1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成正比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928800"/>
            <a:ext cx="83818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从算法中选取一种对于所研究的问题来说是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操作</a:t>
            </a:r>
            <a:r>
              <a:rPr b="1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的原操作，以该基本操作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算法中重复执行的次数</a:t>
            </a:r>
            <a:r>
              <a:rPr b="0" lang="zh-CN" sz="4000" spc="-1" strike="noStrike">
                <a:solidFill>
                  <a:srgbClr val="000080"/>
                </a:solidFill>
                <a:latin typeface="楷体_GB2312"/>
                <a:ea typeface="楷体_GB2312"/>
              </a:rPr>
              <a:t> 作为算法运行时间的衡量准则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55520" y="277920"/>
            <a:ext cx="637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矩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乘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3760" y="304920"/>
            <a:ext cx="701316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void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mult(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a[],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b[],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int&amp;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c[] 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二维数组存储矩阵元素，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c 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a 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b 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乘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i=1; i&lt;=n; ++i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j=1; j&lt;=n; ++j)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[i,j] = 0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(k=1; k&lt;=n;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++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k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c[i,j] += 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a[i,k]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b[k,j]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f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//mul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40920" y="5165640"/>
            <a:ext cx="31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基本操作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乘法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操作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9200" y="5940360"/>
            <a:ext cx="33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时间复杂度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O(n</a:t>
            </a:r>
            <a:r>
              <a:rPr b="1" lang="zh-CN" sz="4000" spc="-1" strike="noStrike" baseline="30000">
                <a:solidFill>
                  <a:srgbClr val="6600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46960" y="17136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择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排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0920" y="60480"/>
            <a:ext cx="713916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void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select_sort(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int&amp;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a[],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n)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将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中整数序列重新排列成自小至大有序的整数序列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// select_sor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1040" y="4784760"/>
            <a:ext cx="40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基本操作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比较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数据元素</a:t>
            </a:r>
            <a:r>
              <a:rPr b="0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操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4440" y="600408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时间复杂度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O(n</a:t>
            </a:r>
            <a:r>
              <a:rPr b="1" lang="zh-CN" sz="40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02600" y="1887480"/>
            <a:ext cx="56959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j = i;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//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选择第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i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最小元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( k = i+1;  k &lt; n;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++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k 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if 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(a[k]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 a[j] )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j = k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31560" y="1219320"/>
            <a:ext cx="5895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for 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( i = 0;  i&lt; n-1; 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++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i ) </a:t>
            </a: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{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( j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!=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i )  a[j]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←→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[i]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8960" y="129528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二：</a:t>
            </a:r>
            <a:r>
              <a:rPr b="0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旅馆客房的管理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7840" y="3276720"/>
            <a:ext cx="152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：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型：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5960" y="3276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先进后出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18000" y="4479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队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36880" y="15228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00" y="150840"/>
            <a:ext cx="82184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void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bubble_sort(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nt&amp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a[],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n)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//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将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中整数序列重新排列成自小至大有序的整数序列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(i=n-1, </a:t>
            </a:r>
            <a:r>
              <a:rPr b="0" lang="zh-CN" sz="3200" spc="-1" strike="noStrike">
                <a:solidFill>
                  <a:srgbClr val="578963"/>
                </a:solidFill>
                <a:latin typeface="Times New Roman"/>
              </a:rPr>
              <a:t>change=TRU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;  i&gt;1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&amp;&amp; </a:t>
            </a:r>
            <a:r>
              <a:rPr b="0" lang="zh-CN" sz="3200" spc="-1" strike="noStrike">
                <a:solidFill>
                  <a:srgbClr val="578963"/>
                </a:solidFill>
                <a:latin typeface="Times New Roman"/>
              </a:rPr>
              <a:t>chang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;  --i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// bubble_s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02960" y="5257800"/>
            <a:ext cx="31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基本操作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赋值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操作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57080" y="592776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时间复杂度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O(n</a:t>
            </a:r>
            <a:r>
              <a:rPr b="1" lang="zh-CN" sz="4000" spc="-1" strike="noStrike" baseline="30000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67320 w 380880"/>
              <a:gd name="textAreaRight" fmla="*/ 313560 w 380880"/>
              <a:gd name="textAreaTop" fmla="*/ 67320 h 381240"/>
              <a:gd name="textAreaBottom" fmla="*/ 31392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17775" y="3825"/>
                </a:lnTo>
                <a:lnTo>
                  <a:pt x="3825" y="3825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17775" y="17795"/>
                </a:lnTo>
                <a:lnTo>
                  <a:pt x="17775" y="3825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3825" y="17795"/>
                </a:lnTo>
                <a:lnTo>
                  <a:pt x="17775" y="17795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95"/>
                </a:lnTo>
                <a:close/>
              </a:path>
              <a:path fill="darken" w="21600" h="21620">
                <a:moveTo>
                  <a:pt x="5601" y="5611"/>
                </a:moveTo>
                <a:lnTo>
                  <a:pt x="15999" y="10810"/>
                </a:lnTo>
                <a:lnTo>
                  <a:pt x="5601" y="1600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47760" y="1828800"/>
            <a:ext cx="76993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{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578963"/>
                </a:solidFill>
                <a:latin typeface="Times New Roman"/>
              </a:rPr>
              <a:t>change = FALSE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// change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为元素进行交换标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for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(j=0;  j&lt;i;  ++j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if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(a[j] &gt; a[j+1]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{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a[j]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←→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 a[j+1];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78963"/>
                </a:solidFill>
                <a:latin typeface="Times New Roman"/>
              </a:rPr>
              <a:t>change = TRUE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;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}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//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一趟起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371760" y="304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四、算法的存储空间需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85360" y="1309680"/>
            <a:ext cx="47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算法的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空间复杂度定义为</a:t>
            </a:r>
            <a:r>
              <a:rPr b="1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46560" y="3505320"/>
            <a:ext cx="6136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表示随着问题规模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n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增大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算法运行所需存储量的增长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与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g(n) </a:t>
            </a:r>
            <a:r>
              <a:rPr b="1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的增长率相同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52040" y="2362320"/>
            <a:ext cx="38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(n) = O(g(n)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67720" y="53352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算法的存储量</a:t>
            </a:r>
            <a:r>
              <a:rPr b="0" lang="zh-CN" sz="6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包括</a:t>
            </a:r>
            <a:r>
              <a:rPr b="0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: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53880" y="205740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．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输入数据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所占空间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97160" y="3352680"/>
            <a:ext cx="480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．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程序本身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所占空间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；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92560" y="4702320"/>
            <a:ext cx="46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3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．</a:t>
            </a:r>
            <a:r>
              <a:rPr b="1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辅助变量</a:t>
            </a:r>
            <a:r>
              <a:rPr b="0" lang="zh-CN" sz="54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所占空间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83720" y="198360"/>
            <a:ext cx="723384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若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输入数据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所占空间只取决与问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本身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和算法无关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，则只需要分析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除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输入和程序之外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辅助变量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额外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间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9160" y="3249720"/>
            <a:ext cx="756900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若所需额外空间相对于输入数据量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来说是常数，则称此算法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原地工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4920" y="4835520"/>
            <a:ext cx="6483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若所需存储量依赖于特定的输入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则通常按最坏情况考虑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67320 w 380880"/>
              <a:gd name="textAreaRight" fmla="*/ 313560 w 380880"/>
              <a:gd name="textAreaTop" fmla="*/ 67320 h 380880"/>
              <a:gd name="textAreaBottom" fmla="*/ 3135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775" y="3825"/>
                </a:lnTo>
                <a:lnTo>
                  <a:pt x="3825" y="38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775" y="17775"/>
                </a:lnTo>
                <a:lnTo>
                  <a:pt x="17775" y="38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7775" y="177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21600" h="21600">
                <a:moveTo>
                  <a:pt x="5601" y="5601"/>
                </a:moveTo>
                <a:lnTo>
                  <a:pt x="15999" y="10800"/>
                </a:lnTo>
                <a:lnTo>
                  <a:pt x="5601" y="15999"/>
                </a:lnTo>
                <a:close/>
              </a:path>
            </a:pathLst>
          </a:custGeom>
          <a:solidFill>
            <a:srgbClr val="578963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14479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熟悉各名词、术语的含义，掌握基本概念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09400" y="3276720"/>
            <a:ext cx="12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2.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理解算法五个要素的确切含义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40040" y="2286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隶书"/>
              </a:rPr>
              <a:t>本章学习要点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343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4c2b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掌握计算语句频度和估算算法时间复杂度的方法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981080" y="2651040"/>
            <a:ext cx="56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.1    1.4     1.8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c2b"/>
                </a:solidFill>
                <a:latin typeface="Times New Roman"/>
                <a:ea typeface="楷体_GB2312"/>
              </a:rPr>
              <a:t>1.6    1.19   1.20</a:t>
            </a:r>
            <a:r>
              <a:rPr b="1" lang="zh-CN" sz="5400" spc="-1" strike="noStrike">
                <a:solidFill>
                  <a:srgbClr val="004c2b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93120" y="457200"/>
            <a:ext cx="287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4c2b"/>
                </a:solidFill>
                <a:latin typeface="Times New Roman"/>
                <a:ea typeface="隶书"/>
              </a:rPr>
              <a:t>本章作业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4c2b"/>
                </a:solidFill>
                <a:latin typeface="Times New Roman"/>
                <a:ea typeface="隶书"/>
              </a:rPr>
              <a:t>(</a:t>
            </a:r>
            <a:r>
              <a:rPr b="1" lang="zh-CN" sz="7200" spc="-1" strike="noStrike">
                <a:solidFill>
                  <a:srgbClr val="004c2b"/>
                </a:solidFill>
                <a:latin typeface="Times New Roman"/>
                <a:ea typeface="隶书"/>
              </a:rPr>
              <a:t>思考题</a:t>
            </a:r>
            <a:r>
              <a:rPr b="1" lang="zh-CN" sz="7200" spc="-1" strike="noStrike">
                <a:solidFill>
                  <a:srgbClr val="004c2b"/>
                </a:solidFill>
                <a:latin typeface="Times New Roman"/>
                <a:ea typeface="隶书"/>
              </a:rPr>
              <a:t>)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5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001000" y="5486400"/>
            <a:ext cx="673200" cy="99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50720" y="9144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例三：铺设城市的煤气管道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8280" y="2666880"/>
            <a:ext cx="178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法：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型：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514600"/>
            <a:ext cx="4648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如何规划使得总投资花费最少</a:t>
            </a:r>
            <a:r>
              <a:rPr b="0" lang="zh-CN" sz="4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4520" y="4997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9ef"/>
            </a:gs>
            <a:gs pos="100000">
              <a:srgbClr val="99e9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97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01:22:55Z</dcterms:created>
  <dc:creator>thcic</dc:creator>
  <dc:description/>
  <dc:language>en-US</dc:language>
  <cp:lastModifiedBy>jiangpeng</cp:lastModifiedBy>
  <dcterms:modified xsi:type="dcterms:W3CDTF">2000-07-19T02:04:30Z</dcterms:modified>
  <cp:revision>46</cp:revision>
  <dc:subject/>
  <dc:title>没有幻灯片标题</dc:title>
</cp:coreProperties>
</file>