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9D4-452C-4180-9D5B-FEC085CF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7FF-96C4-4BC1-AAF7-945F7DE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3D8-EBB1-44D1-BA0C-6B05C209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411-7FDD-4BBB-B532-685649D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EE4-0D8B-4D14-9FF0-8FBA882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304-B92D-48C9-AA0A-4C12049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A8B-FCE9-439C-80EE-2C55DA81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12A-6F27-4233-883E-1AA3D1E7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A90-309C-4AEC-A596-A6756D2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801-1350-4CB8-88FC-FAA1B1D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394-F082-42DA-99F5-7FF9484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8A4-4FFF-4C07-9577-B6BB6F0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6F20-B6A3-4490-A0A8-3D31D1ED2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6.xml"/><Relationship Id="rId4" Type="http://schemas.openxmlformats.org/officeDocument/2006/relationships/slide" Target="slide42.xml"/><Relationship Id="rId5" Type="http://schemas.openxmlformats.org/officeDocument/2006/relationships/slide" Target="slide48.xm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219320"/>
            <a:ext cx="80769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第五章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数组和广义表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82960" y="395280"/>
            <a:ext cx="505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5.2  </a:t>
            </a:r>
            <a:r>
              <a:rPr b="1" lang="zh-CN" sz="48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数组的顺序表示和实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8360" y="1360440"/>
            <a:ext cx="51361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类型特点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引用型操作，没有加工型操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组是多维的结构，而存储空间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一维的结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4332240"/>
            <a:ext cx="7391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有两种顺序映象的方式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行序为主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下标优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列序为主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下标优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9320" y="1050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例如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547524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称为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基地址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或基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14800" y="5354640"/>
            <a:ext cx="0" cy="914400"/>
          </a:xfrm>
          <a:prstGeom prst="line">
            <a:avLst/>
          </a:prstGeom>
          <a:ln w="28440">
            <a:solidFill>
              <a:srgbClr val="9933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29480" y="2286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以“行序为主序”的存储映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960" y="3814920"/>
            <a:ext cx="778644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维数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任一元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,j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存储位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C(i,j) =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LOC(0,0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+ (b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)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81760" y="213840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7800" y="213840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5360" y="213840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7800" y="274788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1760" y="274788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5360" y="274788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2160" y="213372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8200" y="213372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5760" y="2133720"/>
            <a:ext cx="656280" cy="648720"/>
          </a:xfrm>
          <a:prstGeom prst="rect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9720" y="213372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3680" y="213372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7640" y="2133720"/>
            <a:ext cx="656280" cy="6487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329000">
            <a:off x="4056120" y="2611080"/>
            <a:ext cx="460440" cy="723960"/>
          </a:xfrm>
          <a:custGeom>
            <a:avLst/>
            <a:gdLst>
              <a:gd name="textAreaLeft" fmla="*/ 294120 w 460440"/>
              <a:gd name="textAreaRight" fmla="*/ 460800 w 460440"/>
              <a:gd name="textAreaTop" fmla="*/ 28080 h 723960"/>
              <a:gd name="textAreaBottom" fmla="*/ 69588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8"/>
                  <a:pt x="10800" y="2676"/>
                </a:cubicBezTo>
                <a:lnTo>
                  <a:pt x="10800" y="8330"/>
                </a:lnTo>
                <a:cubicBezTo>
                  <a:pt x="10800" y="9668"/>
                  <a:pt x="5400" y="11006"/>
                  <a:pt x="0" y="11006"/>
                </a:cubicBezTo>
                <a:cubicBezTo>
                  <a:pt x="5400" y="11006"/>
                  <a:pt x="10800" y="12344"/>
                  <a:pt x="10800" y="13682"/>
                </a:cubicBezTo>
                <a:lnTo>
                  <a:pt x="10800" y="18924"/>
                </a:lnTo>
                <a:cubicBezTo>
                  <a:pt x="10800" y="202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971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41400" y="4708440"/>
            <a:ext cx="7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1040" y="457200"/>
            <a:ext cx="852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推广到一般情况，可得到 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维数组数据元素存储位置的映象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9400" y="4324320"/>
            <a:ext cx="436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称为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维数组的映象函数。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数组元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存储位置是其下标的线性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2360" y="3225960"/>
            <a:ext cx="704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b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×c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1 &lt; i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240" y="2254320"/>
            <a:ext cx="798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C(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..., 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LOC(0,0,...,0) + ∑ c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391520" y="26510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4880" y="2057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6116760"/>
            <a:ext cx="360360" cy="360360"/>
          </a:xfrm>
          <a:custGeom>
            <a:avLst/>
            <a:gdLst>
              <a:gd name="textAreaLeft" fmla="*/ 68040 w 360360"/>
              <a:gd name="textAreaRight" fmla="*/ 292320 w 360360"/>
              <a:gd name="textAreaTop" fmla="*/ 68040 h 360360"/>
              <a:gd name="textAreaBottom" fmla="*/ 292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08" y="4092"/>
                </a:lnTo>
                <a:lnTo>
                  <a:pt x="4092" y="409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08" y="17508"/>
                </a:lnTo>
                <a:lnTo>
                  <a:pt x="17508" y="409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92" y="17508"/>
                </a:lnTo>
                <a:lnTo>
                  <a:pt x="17508" y="1750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92" y="4092"/>
                </a:lnTo>
                <a:lnTo>
                  <a:pt x="4092" y="17508"/>
                </a:lnTo>
                <a:close/>
              </a:path>
              <a:path fill="darken" w="21600" h="21600">
                <a:moveTo>
                  <a:pt x="8303" y="10800"/>
                </a:moveTo>
                <a:lnTo>
                  <a:pt x="15800" y="5800"/>
                </a:lnTo>
                <a:lnTo>
                  <a:pt x="15800" y="15800"/>
                </a:lnTo>
                <a:close/>
              </a:path>
              <a:path fill="darken" w="21600" h="21600">
                <a:moveTo>
                  <a:pt x="5800" y="5800"/>
                </a:moveTo>
                <a:lnTo>
                  <a:pt x="6986" y="5800"/>
                </a:lnTo>
                <a:lnTo>
                  <a:pt x="6986" y="15800"/>
                </a:lnTo>
                <a:lnTo>
                  <a:pt x="5800" y="15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2036880"/>
            <a:ext cx="838188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设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m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行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矩阵含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t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个非零元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稀疏因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常认为 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矩阵为稀疏矩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3279600"/>
                <a:ext cx="19051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620800" y="328680"/>
            <a:ext cx="41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5.3 </a:t>
            </a:r>
            <a:r>
              <a:rPr b="1" lang="zh-CN" sz="4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稀疏矩阵的压缩存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3360" y="12794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何谓稀疏矩阵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6560" y="746280"/>
            <a:ext cx="6751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常规方法，即以二维数组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阶的稀疏矩阵时产生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90320" y="2879640"/>
            <a:ext cx="431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)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零值元素占了很大空间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6480" y="3962520"/>
            <a:ext cx="636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2)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计算中进行了很多和零值的运算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遇除法，还需判别除数是否为零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69240" y="1066680"/>
            <a:ext cx="477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)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尽可能少存或不存零值元素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920" y="152280"/>
            <a:ext cx="345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解决问题的原则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2280" y="1905120"/>
            <a:ext cx="538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2)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尽可能减少没有实际意义的运算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640" y="2819520"/>
            <a:ext cx="817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3)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操作方便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即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能尽可能快地找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与下标值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(i, j)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对应的元素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能尽可能快地找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同一行或同一列的非零值元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41160" y="990720"/>
            <a:ext cx="6093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)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特殊矩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非零元在矩阵中的分布有一定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矩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角矩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080" y="4251240"/>
            <a:ext cx="8218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2)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机稀疏矩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非零元在矩阵中随机出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29920" y="228600"/>
            <a:ext cx="28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隶书"/>
              </a:rPr>
              <a:t>有两类稀疏矩阵</a:t>
            </a:r>
            <a:r>
              <a:rPr b="0" lang="zh-CN" sz="4400" spc="-1" strike="noStrike">
                <a:solidFill>
                  <a:srgbClr val="9933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25640" y="547560"/>
            <a:ext cx="52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随机稀疏矩阵的压缩存储方法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212280" y="18129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三元组顺序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07680" y="3184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行逻辑联接的顺序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91240" y="4648320"/>
            <a:ext cx="21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 十字链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26440" y="6116760"/>
            <a:ext cx="360360" cy="360360"/>
          </a:xfrm>
          <a:custGeom>
            <a:avLst/>
            <a:gdLst>
              <a:gd name="textAreaLeft" fmla="*/ 68040 w 360360"/>
              <a:gd name="textAreaRight" fmla="*/ 292320 w 360360"/>
              <a:gd name="textAreaTop" fmla="*/ 68040 h 360360"/>
              <a:gd name="textAreaBottom" fmla="*/ 292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08" y="4092"/>
                </a:lnTo>
                <a:lnTo>
                  <a:pt x="4092" y="409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08" y="17508"/>
                </a:lnTo>
                <a:lnTo>
                  <a:pt x="17508" y="409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92" y="17508"/>
                </a:lnTo>
                <a:lnTo>
                  <a:pt x="17508" y="1750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92" y="4092"/>
                </a:lnTo>
                <a:lnTo>
                  <a:pt x="4092" y="17508"/>
                </a:lnTo>
                <a:close/>
              </a:path>
              <a:path fill="darken" w="21600" h="21600">
                <a:moveTo>
                  <a:pt x="8303" y="10800"/>
                </a:moveTo>
                <a:lnTo>
                  <a:pt x="15800" y="5800"/>
                </a:lnTo>
                <a:lnTo>
                  <a:pt x="15800" y="15800"/>
                </a:lnTo>
                <a:close/>
              </a:path>
              <a:path fill="darken" w="21600" h="21600">
                <a:moveTo>
                  <a:pt x="5800" y="5800"/>
                </a:moveTo>
                <a:lnTo>
                  <a:pt x="6986" y="5800"/>
                </a:lnTo>
                <a:lnTo>
                  <a:pt x="6986" y="15800"/>
                </a:lnTo>
                <a:lnTo>
                  <a:pt x="5800" y="15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5400" y="838080"/>
            <a:ext cx="64627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#defi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MAXSIZE  12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ypedef struct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i, j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/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非零元的行下标和列下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ElemType  e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非零元的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riple;  //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三元组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21920" y="1364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三元组顺序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8480" y="3962520"/>
            <a:ext cx="61502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ypedef union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Triple  data[MAXSIZE + 1]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mu, nu, tu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SMatrix;  //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稀疏矩阵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95760" y="822240"/>
            <a:ext cx="261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如何求转置矩阵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7680" y="22748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1360" y="2540160"/>
                <a:ext cx="391968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29200" y="2133720"/>
                <a:ext cx="223848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495680" y="3124080"/>
            <a:ext cx="1295640" cy="609840"/>
          </a:xfrm>
          <a:custGeom>
            <a:avLst/>
            <a:gdLst>
              <a:gd name="textAreaLeft" fmla="*/ 282600 w 1295640"/>
              <a:gd name="textAreaRight" fmla="*/ 1013040 w 1295640"/>
              <a:gd name="textAreaTop" fmla="*/ 129960 h 609840"/>
              <a:gd name="textAreaBottom" fmla="*/ 479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613"/>
                </a:moveTo>
                <a:lnTo>
                  <a:pt x="13371" y="4613"/>
                </a:lnTo>
                <a:lnTo>
                  <a:pt x="13371" y="0"/>
                </a:lnTo>
                <a:lnTo>
                  <a:pt x="21600" y="10800"/>
                </a:lnTo>
                <a:lnTo>
                  <a:pt x="13371" y="21600"/>
                </a:lnTo>
                <a:lnTo>
                  <a:pt x="13371" y="16987"/>
                </a:lnTo>
                <a:lnTo>
                  <a:pt x="0" y="16987"/>
                </a:lnTo>
                <a:lnTo>
                  <a:pt x="4714" y="10800"/>
                </a:lnTo>
                <a:lnTo>
                  <a:pt x="0" y="4613"/>
                </a:lnTo>
                <a:close/>
              </a:path>
            </a:pathLst>
          </a:custGeom>
          <a:gradFill rotWithShape="0">
            <a:gsLst>
              <a:gs pos="0">
                <a:srgbClr val="311052"/>
              </a:gs>
              <a:gs pos="100000">
                <a:srgbClr val="9933ff"/>
              </a:gs>
            </a:gsLst>
            <a:lin ang="10800000"/>
          </a:gra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85960" y="380880"/>
            <a:ext cx="36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1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组的类型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2160" y="2514600"/>
            <a:ext cx="53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5.3 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稀疏矩阵的压缩存储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09240" y="1447920"/>
            <a:ext cx="46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2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组的顺序表示和实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893600" y="3505320"/>
            <a:ext cx="397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5.4 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广义表的类型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1866240" y="4572000"/>
            <a:ext cx="40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5.5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广义表的表示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2117160" y="5638680"/>
            <a:ext cx="46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5.6 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广义表操作的递归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01000" y="32767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29040" y="914400"/>
            <a:ext cx="444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常规的二维数组表示时的算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0280" y="5013360"/>
            <a:ext cx="6073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其时间复杂度为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: O(mu</a:t>
            </a:r>
            <a:r>
              <a:rPr b="1" lang="zh-CN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×</a:t>
            </a:r>
            <a:r>
              <a:rPr b="1" lang="zh-CN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n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000" y="2160720"/>
            <a:ext cx="7547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col=1; col&lt;=nu; ++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row=1; row&lt;=mu; ++ro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[col][row] = M[row][col]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23560" y="6094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用“三元组”表示时如何实现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1960" y="1852560"/>
            <a:ext cx="1863360" cy="764280"/>
          </a:xfrm>
          <a:prstGeom prst="rect">
            <a:avLst/>
          </a:prstGeom>
          <a:solidFill>
            <a:srgbClr val="ff99cc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1  2 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67000" y="2641680"/>
            <a:ext cx="1885680" cy="76428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1  5  -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7000" y="3429000"/>
            <a:ext cx="1885680" cy="764280"/>
          </a:xfrm>
          <a:prstGeom prst="rect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2  2 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8160" y="4191120"/>
            <a:ext cx="1863360" cy="764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3  1  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8160" y="4952880"/>
            <a:ext cx="1863360" cy="764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3  4 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92960" y="2590920"/>
            <a:ext cx="1863360" cy="764280"/>
          </a:xfrm>
          <a:prstGeom prst="rect">
            <a:avLst/>
          </a:prstGeom>
          <a:solidFill>
            <a:srgbClr val="ff99cc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2  1 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1800" y="4927680"/>
            <a:ext cx="1885680" cy="764280"/>
          </a:xfrm>
          <a:prstGeom prst="rect">
            <a:avLst/>
          </a:prstGeom>
          <a:solidFill>
            <a:srgbClr val="ffcc66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5  1  -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81800" y="3352680"/>
            <a:ext cx="1885680" cy="764280"/>
          </a:xfrm>
          <a:prstGeom prst="rect">
            <a:avLst/>
          </a:prstGeom>
          <a:solidFill>
            <a:srgbClr val="ffcc00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2  2 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92960" y="1828800"/>
            <a:ext cx="1863360" cy="7642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1  3  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92960" y="4140360"/>
            <a:ext cx="1863360" cy="7642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4  3 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2286000"/>
            <a:ext cx="2210040" cy="23623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209680"/>
            <a:ext cx="2210040" cy="838440"/>
          </a:xfrm>
          <a:prstGeom prst="line">
            <a:avLst/>
          </a:prstGeom>
          <a:ln w="63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886200"/>
            <a:ext cx="228600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080" y="141120"/>
            <a:ext cx="870264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首先应该确定转置矩阵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每一行的第一个非零元在三元组中的位置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3520" y="1828800"/>
          <a:ext cx="213336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28800"/>
                    <a:ext cx="21333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181320" y="2514600"/>
          <a:ext cx="5505480" cy="1790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1320" y="2514600"/>
                    <a:ext cx="55054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094040" y="4572000"/>
            <a:ext cx="69958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cpot[1]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(col=2; col&lt;=M.nu; ++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cpot[col] = cpot[col-1] + num[col-1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1680" y="135000"/>
            <a:ext cx="8763480" cy="67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atu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FastTransposeSMatrix(TSMatrix M, TSMatri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amp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.mu = M.nu;  T.nu = M.mu;  T.tu = M.tu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(T.tu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col=1; col&lt;=M.nu; ++col)  num[col]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t=1; t&lt;=M.tu; ++t)  ++num[M.data[t].j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cpot[1]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(col=2; col&lt;=M.nu; ++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cpot[col] = cpot[col-1] + num[col-1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p=1; p&lt;=M.tu; ++p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                          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// FastTransposeS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383080" y="46674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转置矩阵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56880 w 304560"/>
              <a:gd name="textAreaRight" fmla="*/ 247680 w 304560"/>
              <a:gd name="textAreaTop" fmla="*/ 56880 h 304920"/>
              <a:gd name="textAreaBottom" fmla="*/ 24804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7550" y="17576"/>
                </a:lnTo>
                <a:lnTo>
                  <a:pt x="17550" y="405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4050" y="17576"/>
                </a:lnTo>
                <a:lnTo>
                  <a:pt x="17550" y="1757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76"/>
                </a:lnTo>
                <a:close/>
              </a:path>
              <a:path fill="darken" w="21600" h="21626">
                <a:moveTo>
                  <a:pt x="5769" y="5782"/>
                </a:moveTo>
                <a:lnTo>
                  <a:pt x="15831" y="10813"/>
                </a:lnTo>
                <a:lnTo>
                  <a:pt x="5769" y="1584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50160" y="838080"/>
            <a:ext cx="59979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Col = M.data[p].j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q = cpot[col]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T.data[q].i = M.data[p].j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T.data[q].j = M.data[p].i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T.data[q].e = M.data[p].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++cpot[col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80640 w 381240"/>
              <a:gd name="textAreaRight" fmla="*/ 300600 w 381240"/>
              <a:gd name="textAreaTop" fmla="*/ 80640 h 380880"/>
              <a:gd name="textAreaBottom" fmla="*/ 30024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7045" y="4575"/>
                </a:lnTo>
                <a:lnTo>
                  <a:pt x="4575" y="4575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7045" y="17025"/>
                </a:lnTo>
                <a:lnTo>
                  <a:pt x="17045" y="4575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4575" y="17025"/>
                </a:lnTo>
                <a:lnTo>
                  <a:pt x="17045" y="17025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4575" y="4575"/>
                </a:lnTo>
                <a:lnTo>
                  <a:pt x="4575" y="17025"/>
                </a:lnTo>
                <a:close/>
              </a:path>
              <a:path fill="darken" w="21620" h="21600">
                <a:moveTo>
                  <a:pt x="6170" y="8610"/>
                </a:moveTo>
                <a:lnTo>
                  <a:pt x="8493" y="8610"/>
                </a:lnTo>
                <a:lnTo>
                  <a:pt x="8493" y="12143"/>
                </a:lnTo>
                <a:cubicBezTo>
                  <a:pt x="8493" y="12754"/>
                  <a:pt x="9023" y="13238"/>
                  <a:pt x="9709" y="13238"/>
                </a:cubicBezTo>
                <a:lnTo>
                  <a:pt x="10810" y="13238"/>
                </a:lnTo>
                <a:cubicBezTo>
                  <a:pt x="11496" y="13238"/>
                  <a:pt x="12026" y="12754"/>
                  <a:pt x="12026" y="12143"/>
                </a:cubicBezTo>
                <a:lnTo>
                  <a:pt x="12026" y="8610"/>
                </a:lnTo>
                <a:lnTo>
                  <a:pt x="10810" y="8610"/>
                </a:lnTo>
                <a:lnTo>
                  <a:pt x="13133" y="6287"/>
                </a:lnTo>
                <a:lnTo>
                  <a:pt x="15565" y="8610"/>
                </a:lnTo>
                <a:lnTo>
                  <a:pt x="14349" y="8610"/>
                </a:lnTo>
                <a:lnTo>
                  <a:pt x="14349" y="12143"/>
                </a:lnTo>
                <a:cubicBezTo>
                  <a:pt x="14349" y="13976"/>
                  <a:pt x="12643" y="15670"/>
                  <a:pt x="10810" y="15670"/>
                </a:cubicBezTo>
                <a:lnTo>
                  <a:pt x="9709" y="15670"/>
                </a:lnTo>
                <a:cubicBezTo>
                  <a:pt x="7876" y="15670"/>
                  <a:pt x="6170" y="13976"/>
                  <a:pt x="6170" y="12143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1520"/>
            <a:ext cx="839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算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astTransposeSMatri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时间复杂度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8120" y="5165640"/>
            <a:ext cx="59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间复杂度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(M.nu+M.t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457200" cy="36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77960" y="2057400"/>
            <a:ext cx="7146720" cy="3174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col=1; col&lt;=M.nu; ++col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t=1; t&lt;=M.tu; ++t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(col=2; col&lt;=M.nu; ++col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p=1; p&lt;=M.tu; ++p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14300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元组顺序表又称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有序的双下标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的特点是，非零元在表中按行序有序存储，因此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便于进行依行顺序处理的矩阵运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然而，若需随机存取某一行中的非零元，则需从头开始进行查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1320" y="2127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行逻辑联接的顺序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66920"/>
            <a:ext cx="9144000" cy="42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#defin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MAXMN  500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ypedef struct 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riple  data[MAXSIZE + 1]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t     rpos[MAXMN + 1];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mu, nu, tu;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RLSMatrix;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逻辑链接顺序表类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640" y="120600"/>
            <a:ext cx="8016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修改前述的稀疏矩阵的结构定义，增加一个数据成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pos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值在稀疏矩阵的初始化函数中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280" y="2890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给定一组下标，求矩阵的元素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560" y="1143000"/>
            <a:ext cx="8496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lemType value(RLSMatrix M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r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 = M.rpos[r]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(M.data[p].i==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.data[p].j &lt; c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++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(M.data[p].i==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M.data[p].j==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M.data[p].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lse retur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//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08920" y="533520"/>
            <a:ext cx="73357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阵乘法的精典算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i=1; i&lt;=m1; ++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j=1; j&lt;=n2; ++j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[i][j] = 0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k=1; k&lt;=n1; ++k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[i][j] += M[i][k] * N[k][j]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4560" y="585144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其时间复杂度为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 O(m1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×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2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×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97680" y="152280"/>
            <a:ext cx="33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5.1  </a:t>
            </a: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数组的类型定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84360"/>
            <a:ext cx="876312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T Array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数据对象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 ...,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| 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0,...,b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-1,  i=1,2,..,n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数据关系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R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{R1, R2, ..., Rn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&lt;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...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...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a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...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+1,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...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 |  0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b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-1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k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n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,  0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j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b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-2, i=2,...,n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AD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Arr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160" y="537696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基本操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342756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30592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520" y="1187280"/>
            <a:ext cx="916452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初始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Q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非零矩阵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逐行求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arow=1; arow&lt;=M.mu; ++arow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每一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emp[] = 0;          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累加器清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的积并存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emp[]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emp[]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非零元压缩存储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.dat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for a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19800" y="112680"/>
            <a:ext cx="797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两个稀疏矩阵相乘（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Q</a:t>
            </a:r>
            <a:r>
              <a:rPr b="1" lang="zh-CN" sz="3600" spc="-1" strike="noStrike">
                <a:solidFill>
                  <a:srgbClr val="6600cc"/>
                </a:solidFill>
                <a:latin typeface="Symbol"/>
                <a:ea typeface="Symbol"/>
              </a:rPr>
              <a:t>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M</a:t>
            </a:r>
            <a:r>
              <a:rPr b="1" lang="zh-CN" sz="3600" spc="-1" strike="noStrike">
                <a:solidFill>
                  <a:srgbClr val="6600cc"/>
                </a:solidFill>
                <a:latin typeface="Symbol"/>
                <a:ea typeface="Symbol"/>
              </a:rPr>
              <a:t>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的过程可大致描述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00" y="76320"/>
            <a:ext cx="889524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atu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MultS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RLSMatrix M, RLSMatrix N, RLSMatri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M.n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N.mu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turn ERROR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.mu = M.mu; Q.nu = N.nu; Q.tu = 0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M.tu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.t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=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0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// Q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非零矩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arow=1; arow&lt;=M.mu; ++arow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每一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for a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if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turn O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// MultS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9360" y="-66600"/>
            <a:ext cx="8074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emp[] = 0;              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前行各元素累加器清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.rpos[arow] = Q.tu+1;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p=M.rpos[arow]; p&lt;M.rpos[arow+1];++p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当前行中每一个非零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row=M.data[p].j;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brow &lt; N.nu )  t = N.rpos[brow+1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{ t = N.tu+1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q=N.rpos[brow];  q&lt; t;  ++q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col = N.data[q].j;         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积元素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列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emp[ccol] += M.data[p].e * N.data[q].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for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ow( =arow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的非零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ccol=1; ccol&lt;=Q.nu; ++ccol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ctemp[ccol]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++Q.tu &gt; MAXSIZ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turn ERR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.data[Q.tu] = {arow, ccol, ctemp[ccol]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720" y="1166040"/>
            <a:ext cx="729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处理    的每一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440" y="2482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4080" y="3650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上述算法的时间复杂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9800" y="1158840"/>
            <a:ext cx="851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累加器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temp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初始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时间复杂度为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.mu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nu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所有非零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时间复杂度为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.tu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tu/N.mu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压缩存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时间复杂度为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.mu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nu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总的时间复杂度就是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.mu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nu+M.tu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tu/N.mu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23400" y="3200400"/>
            <a:ext cx="75639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稀疏矩阵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稀疏矩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非零元的个数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.tu = 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非零元的个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.tu = 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乘算法的时间复杂度就是 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+n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0.05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0.0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及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 &lt;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乘算法的时间复杂度就相当于 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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m</a:t>
            </a:r>
            <a:r>
              <a:rPr b="0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458200" y="6340320"/>
            <a:ext cx="457200" cy="365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81800" y="76320"/>
            <a:ext cx="21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 十字链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838080"/>
          <a:ext cx="6381720" cy="541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838080"/>
                    <a:ext cx="63817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404400" y="4114800"/>
            <a:ext cx="2000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0  0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0 -1  0 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0  0 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17184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5943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18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381880" y="5943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2880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412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14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224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7160" y="26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484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38862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464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5029200"/>
            <a:ext cx="1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41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381880" y="6264360"/>
            <a:ext cx="457200" cy="365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902480" y="129528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1560" y="289548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1800" y="289548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64400" y="411480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4160" y="411480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21320" y="533412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8520" y="5334120"/>
            <a:ext cx="5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12680" y="1447920"/>
            <a:ext cx="397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5.4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义表的类型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87840" y="2514600"/>
            <a:ext cx="40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.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义表的表示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1280" y="3581280"/>
            <a:ext cx="46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.6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义表操作的递归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2160" y="152280"/>
            <a:ext cx="46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99"/>
                </a:solidFill>
                <a:latin typeface="Times New Roman"/>
              </a:rPr>
              <a:t>5.4 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广义表的类型定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6120" y="928800"/>
            <a:ext cx="788940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T Glist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数据对象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| i=1,2,..,n;  n≥0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∈AtomS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∈GLis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omSe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某个数据对象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数据关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&lt;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&gt;| 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,e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∈D, 2≤i≤n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AD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24680" y="3809880"/>
            <a:ext cx="762120" cy="517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048120" y="5257800"/>
            <a:ext cx="609480" cy="48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46360" y="495288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基本操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8459640" y="6248520"/>
            <a:ext cx="379440" cy="380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86040" y="22860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性结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66600" y="1028880"/>
            <a:ext cx="527220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S = (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：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为原子 或为广义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880" y="2619360"/>
            <a:ext cx="84848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A = (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 = (d, (e)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 = ((a,(b,c)), 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= (A, D, 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= (a, B) = (a, (a, (a, </a:t>
            </a:r>
            <a:r>
              <a:rPr b="0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,  ) )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304920" y="6324480"/>
            <a:ext cx="304560" cy="304920"/>
          </a:xfrm>
          <a:custGeom>
            <a:avLst/>
            <a:gdLst>
              <a:gd name="textAreaLeft" fmla="*/ 56880 w 304560"/>
              <a:gd name="textAreaRight" fmla="*/ 247680 w 304560"/>
              <a:gd name="textAreaTop" fmla="*/ 56880 h 304920"/>
              <a:gd name="textAreaBottom" fmla="*/ 24804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7550" y="17576"/>
                </a:lnTo>
                <a:lnTo>
                  <a:pt x="17550" y="405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4050" y="17576"/>
                </a:lnTo>
                <a:lnTo>
                  <a:pt x="17550" y="1757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76"/>
                </a:lnTo>
                <a:close/>
              </a:path>
              <a:path fill="darken" w="21600" h="21626">
                <a:moveTo>
                  <a:pt x="5769" y="8438"/>
                </a:moveTo>
                <a:lnTo>
                  <a:pt x="8288" y="8438"/>
                </a:lnTo>
                <a:lnTo>
                  <a:pt x="8288" y="12269"/>
                </a:lnTo>
                <a:cubicBezTo>
                  <a:pt x="8288" y="12932"/>
                  <a:pt x="8863" y="13457"/>
                  <a:pt x="9606" y="13457"/>
                </a:cubicBezTo>
                <a:lnTo>
                  <a:pt x="10800" y="13457"/>
                </a:lnTo>
                <a:cubicBezTo>
                  <a:pt x="11544" y="13457"/>
                  <a:pt x="12119" y="12932"/>
                  <a:pt x="12119" y="12269"/>
                </a:cubicBezTo>
                <a:lnTo>
                  <a:pt x="12119" y="8438"/>
                </a:lnTo>
                <a:lnTo>
                  <a:pt x="10800" y="8438"/>
                </a:lnTo>
                <a:lnTo>
                  <a:pt x="13319" y="5919"/>
                </a:lnTo>
                <a:lnTo>
                  <a:pt x="15956" y="8438"/>
                </a:lnTo>
                <a:lnTo>
                  <a:pt x="14638" y="8438"/>
                </a:lnTo>
                <a:lnTo>
                  <a:pt x="14638" y="12269"/>
                </a:lnTo>
                <a:cubicBezTo>
                  <a:pt x="14638" y="14257"/>
                  <a:pt x="12788" y="16094"/>
                  <a:pt x="10800" y="16094"/>
                </a:cubicBezTo>
                <a:lnTo>
                  <a:pt x="9606" y="16094"/>
                </a:lnTo>
                <a:cubicBezTo>
                  <a:pt x="7619" y="16094"/>
                  <a:pt x="5769" y="14257"/>
                  <a:pt x="5769" y="1226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42560" y="380880"/>
            <a:ext cx="342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是一个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层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性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5040" y="1371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760" y="2286000"/>
            <a:ext cx="22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=(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1240" y="3009960"/>
            <a:ext cx="33159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E=(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F=(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 (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14720" y="1905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3440" y="28954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54800" y="28954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8680" y="358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4400" y="35812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62720" y="3581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2080" y="35812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31000" y="472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49520" y="4724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56240" y="4648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9200" y="2514600"/>
            <a:ext cx="8380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514600"/>
            <a:ext cx="10670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62160" y="3429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350532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800" y="434340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434340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858000" y="35053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42900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58200" y="4267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1951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广义表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LS = ( </a:t>
            </a:r>
            <a:r>
              <a:rPr b="1" lang="zh-CN" sz="3600" spc="-1" strike="noStrike">
                <a:solidFill>
                  <a:srgbClr val="6600cc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, </a:t>
            </a:r>
            <a:r>
              <a:rPr b="1" lang="zh-CN" sz="3600" spc="-1" strike="noStrike">
                <a:solidFill>
                  <a:srgbClr val="6600cc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, …, </a:t>
            </a:r>
            <a:r>
              <a:rPr b="1" lang="zh-CN" sz="3600" spc="-1" strike="noStrike">
                <a:solidFill>
                  <a:srgbClr val="6600cc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)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的结构特点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2080" y="1066680"/>
            <a:ext cx="49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中的数据元素有相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次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18288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为最外层包含元素个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2514600"/>
            <a:ext cx="9372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深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为所含括弧的重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子”的深度为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表”的深度为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2000" y="4648320"/>
            <a:ext cx="30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共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4920" y="5362560"/>
            <a:ext cx="65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可以是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递归表的深度是无穷值，长度是有限值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388620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a4a4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0240" y="22536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二维数组的定义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096920"/>
            <a:ext cx="8991720" cy="49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据对象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D = {a</a:t>
            </a:r>
            <a:r>
              <a:rPr b="0" lang="zh-CN" sz="40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ij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|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≤i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1, 0 ≤j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据关系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R = { ROW, COL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ROW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= {&lt;a</a:t>
            </a:r>
            <a:r>
              <a:rPr b="0" lang="zh-CN" sz="40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i,j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a</a:t>
            </a:r>
            <a:r>
              <a:rPr b="0" lang="zh-CN" sz="40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i+1,j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&gt;|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≤i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2, 0≤j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L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= {&lt;a</a:t>
            </a:r>
            <a:r>
              <a:rPr b="0" lang="zh-CN" sz="4000" spc="-1" strike="noStrike" baseline="-25000">
                <a:solidFill>
                  <a:srgbClr val="3333cc"/>
                </a:solidFill>
                <a:latin typeface="Times New Roman"/>
              </a:rPr>
              <a:t>i,j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,a</a:t>
            </a:r>
            <a:r>
              <a:rPr b="0" lang="zh-CN" sz="4000" spc="-1" strike="noStrike" baseline="-25000">
                <a:solidFill>
                  <a:srgbClr val="3333cc"/>
                </a:solidFill>
                <a:latin typeface="Times New Roman"/>
              </a:rPr>
              <a:t>i,j+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&gt;|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0≤i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1, 0≤ j≤b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54000 w 304920"/>
              <a:gd name="textAreaRight" fmla="*/ 250920 w 304920"/>
              <a:gd name="textAreaTop" fmla="*/ 54000 h 304920"/>
              <a:gd name="textAreaBottom" fmla="*/ 2509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75" y="3825"/>
                </a:lnTo>
                <a:lnTo>
                  <a:pt x="3825" y="38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75" y="17775"/>
                </a:lnTo>
                <a:lnTo>
                  <a:pt x="17775" y="38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7775" y="177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21600" h="21600">
                <a:moveTo>
                  <a:pt x="5601" y="8346"/>
                </a:moveTo>
                <a:lnTo>
                  <a:pt x="8204" y="8346"/>
                </a:lnTo>
                <a:lnTo>
                  <a:pt x="8204" y="12305"/>
                </a:lnTo>
                <a:cubicBezTo>
                  <a:pt x="8204" y="12989"/>
                  <a:pt x="8798" y="13532"/>
                  <a:pt x="9566" y="13532"/>
                </a:cubicBezTo>
                <a:lnTo>
                  <a:pt x="10800" y="13532"/>
                </a:lnTo>
                <a:cubicBezTo>
                  <a:pt x="11569" y="13532"/>
                  <a:pt x="12163" y="12989"/>
                  <a:pt x="12163" y="12305"/>
                </a:cubicBezTo>
                <a:lnTo>
                  <a:pt x="12163" y="8346"/>
                </a:lnTo>
                <a:lnTo>
                  <a:pt x="10800" y="8346"/>
                </a:lnTo>
                <a:lnTo>
                  <a:pt x="13403" y="5743"/>
                </a:lnTo>
                <a:lnTo>
                  <a:pt x="16128" y="8346"/>
                </a:lnTo>
                <a:lnTo>
                  <a:pt x="14765" y="8346"/>
                </a:lnTo>
                <a:lnTo>
                  <a:pt x="14765" y="12305"/>
                </a:lnTo>
                <a:cubicBezTo>
                  <a:pt x="14765" y="14359"/>
                  <a:pt x="12854" y="16257"/>
                  <a:pt x="10800" y="16257"/>
                </a:cubicBezTo>
                <a:lnTo>
                  <a:pt x="9566" y="16257"/>
                </a:lnTo>
                <a:cubicBezTo>
                  <a:pt x="7513" y="16257"/>
                  <a:pt x="5601" y="14359"/>
                  <a:pt x="5601" y="12305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123120" y="144360"/>
            <a:ext cx="931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)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任何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非空广义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S = (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,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, …,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均可分解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LS) =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il(LS) = (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, …,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2000" y="2362320"/>
            <a:ext cx="61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D = ( E, F ) =  ((a, (b, c)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7600" y="3048120"/>
            <a:ext cx="65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Tail(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F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8680" y="3733920"/>
            <a:ext cx="73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Tail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( b, c)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7040" y="4464000"/>
            <a:ext cx="85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( b, c)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b, c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Tail(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( b, c)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4840" y="5181480"/>
            <a:ext cx="75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 b, c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=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Tail(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 b, c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c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7800" y="5943600"/>
            <a:ext cx="69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ad(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 c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Tail(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 c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) = 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(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9504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6220" y="5400"/>
                </a:lnTo>
                <a:lnTo>
                  <a:pt x="5400" y="5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6220" y="16200"/>
                </a:lnTo>
                <a:lnTo>
                  <a:pt x="16220" y="5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20" y="16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20" h="21600">
                <a:moveTo>
                  <a:pt x="6785" y="10800"/>
                </a:moveTo>
                <a:lnTo>
                  <a:pt x="14835" y="6775"/>
                </a:lnTo>
                <a:lnTo>
                  <a:pt x="14835" y="14825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7200" y="228600"/>
            <a:ext cx="7418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结构的创建和销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itGList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);      DestroyGList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reateGList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, S);   CopyGList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T, 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5880" y="-1692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基本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3240" y="1943280"/>
            <a:ext cx="78051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状态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ListLength(L);   GListDepth(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ListEmpty(L);   GetHead(L);    GetTail(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95320" y="3695760"/>
            <a:ext cx="47376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插入和删除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sertFirst_GL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,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leteFirst_GL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93880" y="5348160"/>
            <a:ext cx="4559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遍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Traverse_GL(L, Visit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90360 w 381240"/>
              <a:gd name="textAreaRight" fmla="*/ 290880 w 381240"/>
              <a:gd name="textAreaTop" fmla="*/ 90360 h 380880"/>
              <a:gd name="textAreaBottom" fmla="*/ 2905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16490" y="5130"/>
                </a:lnTo>
                <a:lnTo>
                  <a:pt x="5130" y="513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16490" y="16470"/>
                </a:lnTo>
                <a:lnTo>
                  <a:pt x="16490" y="513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5130" y="16470"/>
                </a:lnTo>
                <a:lnTo>
                  <a:pt x="16490" y="1647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5130" y="5130"/>
                </a:lnTo>
                <a:lnTo>
                  <a:pt x="5130" y="16470"/>
                </a:lnTo>
                <a:close/>
              </a:path>
              <a:path fill="darken" w="21620" h="21600">
                <a:moveTo>
                  <a:pt x="6584" y="10800"/>
                </a:moveTo>
                <a:lnTo>
                  <a:pt x="15036" y="6574"/>
                </a:lnTo>
                <a:lnTo>
                  <a:pt x="15036" y="15026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54800" y="533520"/>
            <a:ext cx="54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5.5</a:t>
            </a:r>
            <a:r>
              <a:rPr b="1" lang="zh-CN" sz="6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广义表的表示方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71200" y="1905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常采用头、尾指针的链表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58200" y="3394080"/>
            <a:ext cx="185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结点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子结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908880" y="4876920"/>
            <a:ext cx="2864520" cy="838080"/>
            <a:chOff x="3908880" y="4876920"/>
            <a:chExt cx="2864520" cy="838080"/>
          </a:xfrm>
        </p:grpSpPr>
        <p:sp>
          <p:nvSpPr>
            <p:cNvPr id="271" name=""/>
            <p:cNvSpPr/>
            <p:nvPr/>
          </p:nvSpPr>
          <p:spPr>
            <a:xfrm>
              <a:off x="3908880" y="4876920"/>
              <a:ext cx="2864520" cy="764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33"/>
                  </a:solidFill>
                  <a:latin typeface="Times New Roman"/>
                  <a:ea typeface="楷体_GB2312"/>
                </a:rPr>
                <a:t>tag=0  dat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24480" y="4876920"/>
              <a:ext cx="0" cy="838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95200" y="3429000"/>
            <a:ext cx="3205800" cy="838080"/>
            <a:chOff x="3895200" y="3429000"/>
            <a:chExt cx="3205800" cy="838080"/>
          </a:xfrm>
        </p:grpSpPr>
        <p:sp>
          <p:nvSpPr>
            <p:cNvPr id="274" name=""/>
            <p:cNvSpPr/>
            <p:nvPr/>
          </p:nvSpPr>
          <p:spPr>
            <a:xfrm>
              <a:off x="3895200" y="3429000"/>
              <a:ext cx="3205800" cy="7642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tag=1  hp  t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429000"/>
              <a:ext cx="0" cy="838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429000"/>
              <a:ext cx="0" cy="762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737360" y="1219320"/>
            <a:ext cx="12560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头、表尾分析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00160" y="228600"/>
            <a:ext cx="50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构造存储结构的两种分析方法</a:t>
            </a:r>
            <a:r>
              <a:rPr b="1" lang="zh-CN" sz="4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920" y="4929120"/>
            <a:ext cx="264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若表头为原子，则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6240" y="2101680"/>
            <a:ext cx="40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空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ls = 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7360" y="294012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非空表  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133720" y="3200400"/>
            <a:ext cx="3652560" cy="685800"/>
            <a:chOff x="2133720" y="3200400"/>
            <a:chExt cx="3652560" cy="685800"/>
          </a:xfrm>
        </p:grpSpPr>
        <p:sp>
          <p:nvSpPr>
            <p:cNvPr id="283" name=""/>
            <p:cNvSpPr/>
            <p:nvPr/>
          </p:nvSpPr>
          <p:spPr>
            <a:xfrm>
              <a:off x="2133720" y="3581280"/>
              <a:ext cx="990360" cy="0"/>
            </a:xfrm>
            <a:prstGeom prst="line">
              <a:avLst/>
            </a:prstGeom>
            <a:ln w="2556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35240" y="3200400"/>
              <a:ext cx="265104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tag=1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19720" y="32004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32004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724280" y="3581280"/>
            <a:ext cx="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58128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75440" y="3930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指向表头的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840" y="2971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指向表尾的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92280" y="4952880"/>
            <a:ext cx="2372400" cy="685800"/>
            <a:chOff x="5192280" y="4952880"/>
            <a:chExt cx="2372400" cy="685800"/>
          </a:xfrm>
        </p:grpSpPr>
        <p:sp>
          <p:nvSpPr>
            <p:cNvPr id="292" name=""/>
            <p:cNvSpPr/>
            <p:nvPr/>
          </p:nvSpPr>
          <p:spPr>
            <a:xfrm>
              <a:off x="5192280" y="4973760"/>
              <a:ext cx="2372400" cy="6426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33"/>
                  </a:solidFill>
                  <a:latin typeface="Times New Roman"/>
                  <a:ea typeface="楷体_GB2312"/>
                </a:rPr>
                <a:t>tag=0  da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7120" y="4952880"/>
              <a:ext cx="0" cy="685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494080" y="5791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则，依次类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6172200"/>
            <a:ext cx="360360" cy="360360"/>
          </a:xfrm>
          <a:custGeom>
            <a:avLst/>
            <a:gdLst>
              <a:gd name="textAreaLeft" fmla="*/ 45720 w 360360"/>
              <a:gd name="textAreaRight" fmla="*/ 314640 w 360360"/>
              <a:gd name="textAreaTop" fmla="*/ 45720 h 360360"/>
              <a:gd name="textAreaBottom" fmla="*/ 3146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41" y="2759"/>
                </a:lnTo>
                <a:lnTo>
                  <a:pt x="2759" y="275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41" y="18841"/>
                </a:lnTo>
                <a:lnTo>
                  <a:pt x="18841" y="275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59" y="18841"/>
                </a:lnTo>
                <a:lnTo>
                  <a:pt x="18841" y="1884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59" y="2759"/>
                </a:lnTo>
                <a:lnTo>
                  <a:pt x="2759" y="18841"/>
                </a:lnTo>
                <a:close/>
              </a:path>
              <a:path fill="darken" w="21600" h="21600">
                <a:moveTo>
                  <a:pt x="7807" y="10800"/>
                </a:moveTo>
                <a:lnTo>
                  <a:pt x="16794" y="4806"/>
                </a:lnTo>
                <a:lnTo>
                  <a:pt x="16794" y="16794"/>
                </a:lnTo>
                <a:close/>
              </a:path>
              <a:path fill="darken" w="21600" h="21600">
                <a:moveTo>
                  <a:pt x="4806" y="4806"/>
                </a:moveTo>
                <a:lnTo>
                  <a:pt x="6229" y="4806"/>
                </a:lnTo>
                <a:lnTo>
                  <a:pt x="6229" y="16794"/>
                </a:lnTo>
                <a:lnTo>
                  <a:pt x="4806" y="16794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80880" y="304920"/>
          <a:ext cx="8458200" cy="61722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920"/>
                    <a:ext cx="84582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78240" y="196920"/>
            <a:ext cx="46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55ff"/>
                </a:solidFill>
                <a:latin typeface="Times New Roman"/>
              </a:rPr>
              <a:t>L = ( a, ( x, y ), ( ( x ) )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7960" y="196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5160" y="1969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 x, y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9200" y="19692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1160" y="16002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9064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2416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05120"/>
            <a:ext cx="83844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4200" y="1339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2b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0920" y="196920"/>
            <a:ext cx="47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L = (                 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981080"/>
            <a:ext cx="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36120" y="2824200"/>
            <a:ext cx="9975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0  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16002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0068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384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190512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00880" y="1600200"/>
            <a:ext cx="163800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1036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3880" y="1600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190512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72080" y="2743200"/>
            <a:ext cx="163800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560" y="2743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5080" y="2743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1905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81760" y="27432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91240" y="2743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24760" y="2743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77120" y="1905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2640" y="38862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72480" y="3886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05640" y="38862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0" y="3048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83520" y="4191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2240" y="5033880"/>
            <a:ext cx="9975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0  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30880" y="5029200"/>
            <a:ext cx="0" cy="609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80520" y="3809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37ff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99640" y="26510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37ff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8760" y="1523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37ff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55960" y="1969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6600" y="196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50640" y="2558880"/>
            <a:ext cx="8553600" cy="872280"/>
            <a:chOff x="350640" y="2558880"/>
            <a:chExt cx="8553600" cy="872280"/>
          </a:xfrm>
        </p:grpSpPr>
        <p:sp>
          <p:nvSpPr>
            <p:cNvPr id="340" name=""/>
            <p:cNvSpPr/>
            <p:nvPr/>
          </p:nvSpPr>
          <p:spPr>
            <a:xfrm>
              <a:off x="457200" y="3124080"/>
              <a:ext cx="990720" cy="0"/>
            </a:xfrm>
            <a:prstGeom prst="line">
              <a:avLst/>
            </a:prstGeom>
            <a:ln w="2556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58720" y="274320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740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68400" y="274320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22960" y="274320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2164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31120" y="274320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1800" y="312408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312408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00800" y="312408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640" y="2558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9933ff"/>
                  </a:solidFill>
                  <a:latin typeface="Times New Roman"/>
                  <a:ea typeface="楷体_GB2312"/>
                </a:rPr>
                <a:t>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11480" y="259092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70800" y="26668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86080" y="228600"/>
            <a:ext cx="24188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)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子表分析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68880" y="4973760"/>
            <a:ext cx="264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若子表为原子，则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7200" y="1111320"/>
            <a:ext cx="38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空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ls=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5040" y="192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非空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04200" y="3578400"/>
            <a:ext cx="16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指向子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的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160600" y="4997520"/>
            <a:ext cx="2372400" cy="685800"/>
            <a:chOff x="5160600" y="4997520"/>
            <a:chExt cx="2372400" cy="685800"/>
          </a:xfrm>
        </p:grpSpPr>
        <p:sp>
          <p:nvSpPr>
            <p:cNvPr id="363" name=""/>
            <p:cNvSpPr/>
            <p:nvPr/>
          </p:nvSpPr>
          <p:spPr>
            <a:xfrm>
              <a:off x="5160600" y="5018040"/>
              <a:ext cx="2372400" cy="6426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33"/>
                  </a:solidFill>
                  <a:latin typeface="Times New Roman"/>
                  <a:ea typeface="楷体_GB2312"/>
                </a:rPr>
                <a:t>tag=0  da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45080" y="4997520"/>
              <a:ext cx="0" cy="685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462040" y="5835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则，依次类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3124080"/>
            <a:ext cx="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53560" y="3578400"/>
            <a:ext cx="16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指向子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的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01000" y="312408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53960" y="3578400"/>
            <a:ext cx="16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指向子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的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78240" y="60948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例如</a:t>
            </a:r>
            <a:r>
              <a:rPr b="1" lang="zh-CN" sz="6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0520" y="2462040"/>
            <a:ext cx="8472600" cy="968760"/>
            <a:chOff x="290520" y="2462040"/>
            <a:chExt cx="8472600" cy="968760"/>
          </a:xfrm>
        </p:grpSpPr>
        <p:sp>
          <p:nvSpPr>
            <p:cNvPr id="372" name=""/>
            <p:cNvSpPr/>
            <p:nvPr/>
          </p:nvSpPr>
          <p:spPr>
            <a:xfrm>
              <a:off x="182880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812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9320" y="2743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828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00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6200" y="2743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552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8620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432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4380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6312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2743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5328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34320" y="3429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200" y="3124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9520" y="31240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312408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83960" y="272736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0520" y="246204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1932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133720" y="32004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2004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848720" y="32004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77400" y="434340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(x)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01160" y="838080"/>
            <a:ext cx="47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S=( a, (x,y), ((x))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8535960" y="6248520"/>
            <a:ext cx="37944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803960" y="434340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434340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, 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628640" y="301680"/>
            <a:ext cx="489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5.6 </a:t>
            </a:r>
            <a:r>
              <a:rPr b="1" lang="zh-CN" sz="48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广义表操作的递归函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0720" y="1243080"/>
            <a:ext cx="8236080" cy="21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递归函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含直接或间接调用本函数语句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函数被称之为递归函数，它必须满足以下两个条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73320" y="4210200"/>
            <a:ext cx="493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每一次调用自己时，必须是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意义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接近于解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69880" y="5884920"/>
            <a:ext cx="47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有一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终止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或计算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准则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24160" y="7632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例如</a:t>
            </a: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梵塔的递归函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360" y="765000"/>
            <a:ext cx="779868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oid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 (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x,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y,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z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=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ove(x, 1, z)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(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-1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, x, z, y)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ove(x, n, z);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(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-1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y, x, z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cc3399"/>
                </a:solidFill>
                <a:uFillTx/>
                <a:latin typeface="Times New Roman"/>
                <a:ea typeface="楷体_GB2312"/>
              </a:rPr>
              <a:t>基本操作</a:t>
            </a:r>
            <a:r>
              <a:rPr b="0" lang="zh-CN" sz="6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913320" y="1600200"/>
            <a:ext cx="75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itArray(&amp;A, n, bound1, ..., bound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934920" y="266688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stroyArray(&amp;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3080" y="3854520"/>
            <a:ext cx="64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alue(A, &amp;e, index1, ..., index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991440" y="492120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ssign(&amp;A, e, index1, ..., index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6440" y="6116760"/>
            <a:ext cx="360360" cy="360360"/>
          </a:xfrm>
          <a:custGeom>
            <a:avLst/>
            <a:gdLst>
              <a:gd name="textAreaLeft" fmla="*/ 45720 w 360360"/>
              <a:gd name="textAreaRight" fmla="*/ 314640 w 360360"/>
              <a:gd name="textAreaTop" fmla="*/ 45720 h 360360"/>
              <a:gd name="textAreaBottom" fmla="*/ 3146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41" y="2759"/>
                </a:lnTo>
                <a:lnTo>
                  <a:pt x="2759" y="275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41" y="18841"/>
                </a:lnTo>
                <a:lnTo>
                  <a:pt x="18841" y="275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59" y="18841"/>
                </a:lnTo>
                <a:lnTo>
                  <a:pt x="18841" y="1884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59" y="2759"/>
                </a:lnTo>
                <a:lnTo>
                  <a:pt x="2759" y="18841"/>
                </a:lnTo>
                <a:close/>
              </a:path>
              <a:path fill="darken" w="21600" h="21600">
                <a:moveTo>
                  <a:pt x="7807" y="10800"/>
                </a:moveTo>
                <a:lnTo>
                  <a:pt x="16794" y="4806"/>
                </a:lnTo>
                <a:lnTo>
                  <a:pt x="16794" y="16794"/>
                </a:lnTo>
                <a:close/>
              </a:path>
              <a:path fill="darken" w="21600" h="21600">
                <a:moveTo>
                  <a:pt x="4806" y="4806"/>
                </a:moveTo>
                <a:lnTo>
                  <a:pt x="6229" y="4806"/>
                </a:lnTo>
                <a:lnTo>
                  <a:pt x="6229" y="16794"/>
                </a:lnTo>
                <a:lnTo>
                  <a:pt x="4806" y="16794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37000" y="15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叉树的遍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93240" y="990720"/>
            <a:ext cx="932256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PreOrderTraver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iTre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si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(BiTree 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(T)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Visit(T-&gt;data)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cc3399"/>
                </a:solidFill>
                <a:latin typeface="Times New Roman"/>
              </a:rPr>
              <a:t>PreOrderTravers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-&gt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child, Visi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cc3399"/>
                </a:solidFill>
                <a:latin typeface="Times New Roman"/>
              </a:rPr>
              <a:t>PreOrderTravers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-&gt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child, Visi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/ PreOrderTrave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380880" y="1790640"/>
            <a:ext cx="8458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、分治法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Divide and Conqu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又称分割求解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41200" y="5983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何设计递归函数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56160" y="3701880"/>
            <a:ext cx="48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、后置递归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Postponing the wor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4480" y="48448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、回溯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Backtrack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 flipH="1">
            <a:off x="8000640" y="6172200"/>
            <a:ext cx="762120" cy="384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47560" y="990720"/>
            <a:ext cx="66204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一个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输入规模为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函数或问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某种方法把输入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割成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k(1&lt;k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)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子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生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子问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求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问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问题的子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再用某种方法把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合成原来问题的解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若子问题还相当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可以反复使用分治法，直至最后所分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问题足够小，以至可以直接求解为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3560" y="21276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分治法</a:t>
            </a:r>
            <a:r>
              <a:rPr b="0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设计思想为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36520" y="1066680"/>
            <a:ext cx="6864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利用分治法求解时，所得子问题的类型常常和原问题相同，因而很自然地导致递归求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9920" y="30492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69320" y="228600"/>
            <a:ext cx="5384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焚塔问题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(n, x, y, z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62040" y="35337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可递归求解 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(n-1, x, z, 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6248520"/>
            <a:ext cx="99036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3640" y="112392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个盘分成两个子集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1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至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-1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 )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从而产生下列三个子问题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94240" y="2819520"/>
            <a:ext cx="67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1)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至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-1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号盘从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x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移动至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y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70640" y="5181480"/>
            <a:ext cx="59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至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-1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号盘从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移动至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z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5400" y="4311720"/>
            <a:ext cx="59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2)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将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号盘从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x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移动至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z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轴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62040" y="591192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可递归求解 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Hanoi(n-1, x, z, 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19920" y="30492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又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71200" y="228600"/>
            <a:ext cx="5211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遍历二叉树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Traverse(BT)</a:t>
            </a: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62400" y="4343400"/>
            <a:ext cx="51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可递归求解 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Traverse(LB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6248520"/>
            <a:ext cx="99036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1239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个结点分成三个子集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根结点、左子树 和右子树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从而产生下列三个子问题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27440" y="2819520"/>
            <a:ext cx="24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1)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访问根结点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43280" y="5181480"/>
            <a:ext cx="24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遍历右子树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3280" y="3657600"/>
            <a:ext cx="24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2)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遍历左子树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62400" y="5911920"/>
            <a:ext cx="52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可递归求解 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Traverse(RB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027160" y="152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4008c"/>
                </a:solidFill>
                <a:latin typeface="楷体_GB2312"/>
                <a:ea typeface="楷体_GB2312"/>
              </a:rPr>
              <a:t>广义表从结构上可以分解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0200" y="1066680"/>
            <a:ext cx="55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广义表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=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表头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+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表尾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05360" y="1828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4008c"/>
                </a:solidFill>
                <a:latin typeface="楷体_GB2312"/>
                <a:ea typeface="楷体_GB2312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82360" y="2514600"/>
            <a:ext cx="701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广义表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子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 +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子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 +  ··· +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子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7040" y="4191120"/>
            <a:ext cx="838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4008c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64008c"/>
                </a:solidFill>
                <a:latin typeface="楷体_GB2312"/>
                <a:ea typeface="楷体_GB2312"/>
              </a:rPr>
              <a:t>因此常利用分治法求解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4008c"/>
                </a:solidFill>
                <a:latin typeface="楷体_GB2312"/>
                <a:ea typeface="楷体_GB2312"/>
              </a:rPr>
              <a:t>算法设计中的关键问题是，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如何将 </a:t>
            </a:r>
            <a:r>
              <a:rPr b="1" i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个子问题的解组合成原问题的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504160" y="152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广义表的头尾链表存储表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89640" y="990720"/>
            <a:ext cx="77932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typedef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enum {ATOM, LIST} ElemTag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// ATOM==0: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原子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</a:rPr>
              <a:t>, LIST==1: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子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typedef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truct GLNod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ElemTag  tag;  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标志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union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AtomType  atom;      // 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原子结点的数据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truct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{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truct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GLNode *hp, *tp;} ptr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*G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5800" y="5581800"/>
            <a:ext cx="111348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ag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5583240"/>
            <a:ext cx="14637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h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86600" y="556272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 rot="16222200">
            <a:off x="6971400" y="5599800"/>
            <a:ext cx="227160" cy="1371600"/>
          </a:xfrm>
          <a:custGeom>
            <a:avLst/>
            <a:gdLst>
              <a:gd name="textAreaLeft" fmla="*/ 145080 w 227160"/>
              <a:gd name="textAreaRight" fmla="*/ 227520 w 2271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68"/>
                </a:lnTo>
                <a:cubicBezTo>
                  <a:pt x="10800" y="9268"/>
                  <a:pt x="5400" y="10168"/>
                  <a:pt x="0" y="10168"/>
                </a:cubicBezTo>
                <a:cubicBezTo>
                  <a:pt x="5400" y="10168"/>
                  <a:pt x="10800" y="11068"/>
                  <a:pt x="10800" y="119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67640" y="62485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pt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79440" y="5592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表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722240" y="1309680"/>
            <a:ext cx="386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例一 求广义表的深度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91600" y="278604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例二  复制广义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39960" y="4233960"/>
            <a:ext cx="55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例三  创建广义表的存储结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8159760" y="5867280"/>
            <a:ext cx="6793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2480" y="3154320"/>
            <a:ext cx="669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广义表的深度</a:t>
            </a:r>
            <a:r>
              <a:rPr b="1" lang="zh-CN" sz="4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=</a:t>
            </a:r>
            <a:r>
              <a:rPr b="1" lang="zh-CN" sz="4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Max {</a:t>
            </a:r>
            <a:r>
              <a:rPr b="1" lang="zh-CN" sz="4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子表的深度</a:t>
            </a:r>
            <a:r>
              <a:rPr b="1" lang="zh-CN" sz="4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} +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26240" y="333360"/>
            <a:ext cx="37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例一 求广义表的深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998880"/>
            <a:ext cx="800100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可以直接求解的两种简单情况为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空表的深度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原子的深度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13716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将广义表分解成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个子表，分别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递归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求得每个子表的深度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" y="1371600"/>
            <a:ext cx="96181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nitArray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, n, bound1, ..., bound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维数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各维长度合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构造相应的数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153280" y="5867280"/>
            <a:ext cx="360360" cy="360360"/>
          </a:xfrm>
          <a:custGeom>
            <a:avLst/>
            <a:gdLst>
              <a:gd name="textAreaLeft" fmla="*/ 68040 w 360360"/>
              <a:gd name="textAreaRight" fmla="*/ 292320 w 360360"/>
              <a:gd name="textAreaTop" fmla="*/ 68040 h 360360"/>
              <a:gd name="textAreaBottom" fmla="*/ 292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08" y="4092"/>
                </a:lnTo>
                <a:lnTo>
                  <a:pt x="4092" y="409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08" y="17508"/>
                </a:lnTo>
                <a:lnTo>
                  <a:pt x="17508" y="409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92" y="17508"/>
                </a:lnTo>
                <a:lnTo>
                  <a:pt x="17508" y="1750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92" y="4092"/>
                </a:lnTo>
                <a:lnTo>
                  <a:pt x="4092" y="17508"/>
                </a:lnTo>
                <a:close/>
              </a:path>
              <a:path fill="darken" w="21600" h="21600">
                <a:moveTo>
                  <a:pt x="5800" y="8440"/>
                </a:moveTo>
                <a:lnTo>
                  <a:pt x="8303" y="8440"/>
                </a:lnTo>
                <a:lnTo>
                  <a:pt x="8303" y="12247"/>
                </a:lnTo>
                <a:cubicBezTo>
                  <a:pt x="8303" y="12906"/>
                  <a:pt x="8875" y="13427"/>
                  <a:pt x="9614" y="13427"/>
                </a:cubicBezTo>
                <a:lnTo>
                  <a:pt x="10800" y="13427"/>
                </a:lnTo>
                <a:cubicBezTo>
                  <a:pt x="11539" y="13427"/>
                  <a:pt x="12111" y="12906"/>
                  <a:pt x="12111" y="12247"/>
                </a:cubicBezTo>
                <a:lnTo>
                  <a:pt x="12111" y="8440"/>
                </a:lnTo>
                <a:lnTo>
                  <a:pt x="10800" y="8440"/>
                </a:lnTo>
                <a:lnTo>
                  <a:pt x="13303" y="5937"/>
                </a:lnTo>
                <a:lnTo>
                  <a:pt x="15924" y="8440"/>
                </a:lnTo>
                <a:lnTo>
                  <a:pt x="14614" y="8440"/>
                </a:lnTo>
                <a:lnTo>
                  <a:pt x="14614" y="12247"/>
                </a:lnTo>
                <a:cubicBezTo>
                  <a:pt x="14614" y="14222"/>
                  <a:pt x="12775" y="16048"/>
                  <a:pt x="10800" y="16048"/>
                </a:cubicBezTo>
                <a:lnTo>
                  <a:pt x="9614" y="16048"/>
                </a:lnTo>
                <a:cubicBezTo>
                  <a:pt x="7639" y="16048"/>
                  <a:pt x="5800" y="14222"/>
                  <a:pt x="5800" y="12247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33720" y="157320"/>
            <a:ext cx="8430480" cy="65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GlistDep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ist 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返回指针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L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所指的广义表的深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 (max=0,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pp=L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pp;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pp=pp-&gt;ptr.t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p =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listDep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-&gt;ptr.h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dep &gt; max) max = de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max +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// GlistDep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533520" cy="425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916200" y="1504800"/>
            <a:ext cx="618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if 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!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L)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return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if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(L-&gt;tag == ATOM)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return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4720" y="3857760"/>
            <a:ext cx="78591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 (max=0,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pp=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pp;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pp=pp-&gt;ptr.t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p =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listDep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-&gt;ptr.h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dep &gt; max) max = de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4080" y="2890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例如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114300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66320" y="882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51880" y="254484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p-&gt;ptr.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48200" y="1174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85720" y="914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00880" y="1174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38400" y="914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6156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p-&gt;ptr.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2844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pp-&gt;ptr.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99072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99072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62920" y="99072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382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266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66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51000" y="1676520"/>
            <a:ext cx="8553240" cy="1752480"/>
            <a:chOff x="351000" y="1676520"/>
            <a:chExt cx="8553240" cy="1752480"/>
          </a:xfrm>
        </p:grpSpPr>
        <p:sp>
          <p:nvSpPr>
            <p:cNvPr id="481" name=""/>
            <p:cNvSpPr/>
            <p:nvPr/>
          </p:nvSpPr>
          <p:spPr>
            <a:xfrm>
              <a:off x="457200" y="2241720"/>
              <a:ext cx="990720" cy="0"/>
            </a:xfrm>
            <a:prstGeom prst="line">
              <a:avLst/>
            </a:prstGeom>
            <a:ln w="2556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58720" y="186048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6688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2320" y="2241720"/>
              <a:ext cx="0" cy="11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68400" y="186048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6708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7692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2000" y="2241720"/>
              <a:ext cx="0" cy="11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22960" y="186048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2164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3112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71800" y="224172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81480" y="224172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00800" y="224172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1000" y="16765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33ff"/>
                  </a:solidFill>
                  <a:latin typeface="Times New Roman"/>
                  <a:ea typeface="楷体_GB2312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11480" y="170820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70800" y="17845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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2241720"/>
              <a:ext cx="0" cy="11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56880 w 304560"/>
              <a:gd name="textAreaRight" fmla="*/ 247680 w 304560"/>
              <a:gd name="textAreaTop" fmla="*/ 56880 h 304920"/>
              <a:gd name="textAreaBottom" fmla="*/ 24804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7550" y="17576"/>
                </a:lnTo>
                <a:lnTo>
                  <a:pt x="17550" y="405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4050" y="17576"/>
                </a:lnTo>
                <a:lnTo>
                  <a:pt x="17550" y="1757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76"/>
                </a:lnTo>
                <a:close/>
              </a:path>
              <a:path fill="darken" w="21600" h="21626">
                <a:moveTo>
                  <a:pt x="5769" y="8438"/>
                </a:moveTo>
                <a:lnTo>
                  <a:pt x="8288" y="8438"/>
                </a:lnTo>
                <a:lnTo>
                  <a:pt x="8288" y="12269"/>
                </a:lnTo>
                <a:cubicBezTo>
                  <a:pt x="8288" y="12932"/>
                  <a:pt x="8863" y="13457"/>
                  <a:pt x="9606" y="13457"/>
                </a:cubicBezTo>
                <a:lnTo>
                  <a:pt x="10800" y="13457"/>
                </a:lnTo>
                <a:cubicBezTo>
                  <a:pt x="11544" y="13457"/>
                  <a:pt x="12119" y="12932"/>
                  <a:pt x="12119" y="12269"/>
                </a:cubicBezTo>
                <a:lnTo>
                  <a:pt x="12119" y="8438"/>
                </a:lnTo>
                <a:lnTo>
                  <a:pt x="10800" y="8438"/>
                </a:lnTo>
                <a:lnTo>
                  <a:pt x="13319" y="5919"/>
                </a:lnTo>
                <a:lnTo>
                  <a:pt x="15956" y="8438"/>
                </a:lnTo>
                <a:lnTo>
                  <a:pt x="14638" y="8438"/>
                </a:lnTo>
                <a:lnTo>
                  <a:pt x="14638" y="12269"/>
                </a:lnTo>
                <a:cubicBezTo>
                  <a:pt x="14638" y="14257"/>
                  <a:pt x="12788" y="16094"/>
                  <a:pt x="10800" y="16094"/>
                </a:cubicBezTo>
                <a:lnTo>
                  <a:pt x="9606" y="16094"/>
                </a:lnTo>
                <a:cubicBezTo>
                  <a:pt x="7619" y="16094"/>
                  <a:pt x="5769" y="14257"/>
                  <a:pt x="5769" y="12269"/>
                </a:cubicBezTo>
                <a:close/>
              </a:path>
            </a:pathLst>
          </a:cu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715480" y="30492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例二  复制广义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05320" y="3048120"/>
            <a:ext cx="44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新的广义表由新的表头和表尾构成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3998880"/>
            <a:ext cx="8839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可以直接求解的两种简单情况为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空表复制求得的新表自然也是空表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原子结点可以直接复制求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13716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将广义表分解成表头和表尾两部分，分别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递归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复制求得新的表头和表尾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74200" y="1219320"/>
            <a:ext cx="81338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若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ls= NIL 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则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newls = N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否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构造结点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wl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由 表头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ls-&gt;ptr.hp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复制得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ew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由 表尾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ls-&gt;ptr.tp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复制得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ew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并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wls-&gt;ptr.hp = newhp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wls-&gt;ptr.tp = new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67640" y="30168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复制求广义表的算法描述如下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4920" y="98280"/>
            <a:ext cx="883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atu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opyGList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is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Glist L</a:t>
            </a:r>
            <a:r>
              <a:rPr b="0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) </a:t>
            </a: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if (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) T = NU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 /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制空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!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 =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w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GLNode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exit</a:t>
            </a: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(OVERFLOW)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/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表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ta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L-&gt;ta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L-&gt;tag == ATO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ato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-&gt;ato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 /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制单原子结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 {                                       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turn O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Copy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533160" cy="425520"/>
          </a:xfrm>
          <a:prstGeom prst="rect">
            <a:avLst/>
          </a:prstGeom>
          <a:ln w="0">
            <a:noFill/>
          </a:ln>
        </p:spPr>
      </p:pic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2881080" y="4471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分别复制表头和表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62440" y="380880"/>
            <a:ext cx="690156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opyGList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ptr.hp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-&gt;ptr.hp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复制求得表头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T-&gt;ptr.h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一个副本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ptr.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opyGList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ptr.tp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-&gt;ptr.tp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复制求得表尾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T-&gt;ptr.tp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一个副本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ptr.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8720" y="3505320"/>
            <a:ext cx="78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语句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opyGList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ptr.hp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-&gt;ptr.hp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等价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opyGList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whp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L-&gt;ptr.tp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-&gt;ptr.hp = newh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56880 w 304560"/>
              <a:gd name="textAreaRight" fmla="*/ 247680 w 304560"/>
              <a:gd name="textAreaTop" fmla="*/ 56880 h 304920"/>
              <a:gd name="textAreaBottom" fmla="*/ 24804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7550" y="17576"/>
                </a:lnTo>
                <a:lnTo>
                  <a:pt x="17550" y="405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4050" y="17576"/>
                </a:lnTo>
                <a:lnTo>
                  <a:pt x="17550" y="1757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76"/>
                </a:lnTo>
                <a:close/>
              </a:path>
              <a:path fill="darken" w="21600" h="21626">
                <a:moveTo>
                  <a:pt x="5769" y="8438"/>
                </a:moveTo>
                <a:lnTo>
                  <a:pt x="8288" y="8438"/>
                </a:lnTo>
                <a:lnTo>
                  <a:pt x="8288" y="12269"/>
                </a:lnTo>
                <a:cubicBezTo>
                  <a:pt x="8288" y="12932"/>
                  <a:pt x="8863" y="13457"/>
                  <a:pt x="9606" y="13457"/>
                </a:cubicBezTo>
                <a:lnTo>
                  <a:pt x="10800" y="13457"/>
                </a:lnTo>
                <a:cubicBezTo>
                  <a:pt x="11544" y="13457"/>
                  <a:pt x="12119" y="12932"/>
                  <a:pt x="12119" y="12269"/>
                </a:cubicBezTo>
                <a:lnTo>
                  <a:pt x="12119" y="8438"/>
                </a:lnTo>
                <a:lnTo>
                  <a:pt x="10800" y="8438"/>
                </a:lnTo>
                <a:lnTo>
                  <a:pt x="13319" y="5919"/>
                </a:lnTo>
                <a:lnTo>
                  <a:pt x="15956" y="8438"/>
                </a:lnTo>
                <a:lnTo>
                  <a:pt x="14638" y="8438"/>
                </a:lnTo>
                <a:lnTo>
                  <a:pt x="14638" y="12269"/>
                </a:lnTo>
                <a:cubicBezTo>
                  <a:pt x="14638" y="14257"/>
                  <a:pt x="12788" y="16094"/>
                  <a:pt x="10800" y="16094"/>
                </a:cubicBezTo>
                <a:lnTo>
                  <a:pt x="9606" y="16094"/>
                </a:lnTo>
                <a:cubicBezTo>
                  <a:pt x="7619" y="16094"/>
                  <a:pt x="5769" y="14257"/>
                  <a:pt x="5769" y="12269"/>
                </a:cubicBezTo>
                <a:close/>
              </a:path>
            </a:pathLst>
          </a:cu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916280" y="1203480"/>
            <a:ext cx="55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例三  创建广义表的存储结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50840" y="252720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应广义表的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同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定义方法相应地有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不同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创建存储结构的算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152280"/>
            <a:ext cx="89917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设以字符串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S = 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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cc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形式定义广义表 </a:t>
            </a:r>
            <a:r>
              <a:rPr b="1" i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建立相应的存储结构</a:t>
            </a:r>
            <a:r>
              <a:rPr b="1" i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280" y="1905120"/>
            <a:ext cx="8839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由于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的每个子串</a:t>
            </a:r>
            <a:r>
              <a:rPr b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定义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L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的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表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，从而产生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个子问题，即分别由这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个子串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递归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建立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个子表，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合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成一个广义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4114800"/>
            <a:ext cx="84582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可以直接求解的两种简单情况为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由串</a:t>
            </a:r>
            <a:r>
              <a:rPr b="1" lang="zh-CN" sz="3600" spc="-1" strike="noStrike">
                <a:solidFill>
                  <a:srgbClr val="800000"/>
                </a:solidFill>
                <a:latin typeface="Symbol"/>
                <a:ea typeface="Symbol"/>
              </a:rPr>
              <a:t>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  )</a:t>
            </a:r>
            <a:r>
              <a:rPr b="1" lang="zh-CN" sz="3600" spc="-1" strike="noStrike">
                <a:solidFill>
                  <a:srgbClr val="800000"/>
                </a:solidFill>
                <a:latin typeface="Symbol"/>
                <a:ea typeface="Symbol"/>
              </a:rPr>
              <a:t>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建立的广义表是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空表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由单字符建立的子表只是一个原子结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3520" y="30492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如何由子表组合成一个广义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1111320"/>
            <a:ext cx="813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首先分析广义表和子表在存储结构中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278748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先看第一个子表和广义表的关系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89280" y="4495680"/>
            <a:ext cx="2849400" cy="1447920"/>
            <a:chOff x="2789280" y="4495680"/>
            <a:chExt cx="2849400" cy="1447920"/>
          </a:xfrm>
        </p:grpSpPr>
        <p:sp>
          <p:nvSpPr>
            <p:cNvPr id="522" name=""/>
            <p:cNvSpPr/>
            <p:nvPr/>
          </p:nvSpPr>
          <p:spPr>
            <a:xfrm>
              <a:off x="2895480" y="5060880"/>
              <a:ext cx="990720" cy="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86200" y="4648320"/>
              <a:ext cx="17524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5680" y="464832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05520" y="464832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00600" y="5060880"/>
              <a:ext cx="0" cy="88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89280" y="44956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33ff"/>
                  </a:solidFill>
                  <a:latin typeface="Times New Roman"/>
                  <a:ea typeface="楷体_GB2312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52280" y="3581280"/>
            <a:ext cx="2362320" cy="914400"/>
          </a:xfrm>
          <a:prstGeom prst="wedgeRoundRectCallout">
            <a:avLst>
              <a:gd name="adj1" fmla="val 63509"/>
              <a:gd name="adj2" fmla="val 82986"/>
              <a:gd name="adj3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指向广义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的头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5334120"/>
            <a:ext cx="2666880" cy="1218960"/>
          </a:xfrm>
          <a:prstGeom prst="wedgeRoundRectCallout">
            <a:avLst>
              <a:gd name="adj1" fmla="val -96606"/>
              <a:gd name="adj2" fmla="val -28125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向第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表的头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3520" y="53352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再看相邻两个子表之间的关系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90720" y="1860480"/>
            <a:ext cx="4992480" cy="1568520"/>
            <a:chOff x="990720" y="1860480"/>
            <a:chExt cx="4992480" cy="1568520"/>
          </a:xfrm>
        </p:grpSpPr>
        <p:sp>
          <p:nvSpPr>
            <p:cNvPr id="532" name=""/>
            <p:cNvSpPr/>
            <p:nvPr/>
          </p:nvSpPr>
          <p:spPr>
            <a:xfrm>
              <a:off x="990720" y="2241720"/>
              <a:ext cx="990360" cy="0"/>
            </a:xfrm>
            <a:prstGeom prst="line">
              <a:avLst/>
            </a:prstGeom>
            <a:ln w="2556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92240" y="186048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9092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0040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95480" y="2241720"/>
              <a:ext cx="0" cy="11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1920" y="1860480"/>
              <a:ext cx="1781280" cy="6426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0060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0080" y="186048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05520" y="2241720"/>
              <a:ext cx="0" cy="11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05320" y="224172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172200" y="3429000"/>
            <a:ext cx="2666880" cy="1219320"/>
          </a:xfrm>
          <a:prstGeom prst="wedgeRoundRectCallout">
            <a:avLst>
              <a:gd name="adj1" fmla="val -87319"/>
              <a:gd name="adj2" fmla="val -97398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向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+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表的头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920" y="3429000"/>
            <a:ext cx="2666880" cy="1219320"/>
          </a:xfrm>
          <a:prstGeom prst="wedgeRoundRectCallout">
            <a:avLst>
              <a:gd name="adj1" fmla="val 45893"/>
              <a:gd name="adj2" fmla="val -96615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向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表的头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525780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可见，两者之间通过表结点相链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estroyArray(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销毁数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019920"/>
            <a:ext cx="360360" cy="360360"/>
          </a:xfrm>
          <a:custGeom>
            <a:avLst/>
            <a:gdLst>
              <a:gd name="textAreaLeft" fmla="*/ 45720 w 360360"/>
              <a:gd name="textAreaRight" fmla="*/ 314640 w 360360"/>
              <a:gd name="textAreaTop" fmla="*/ 45720 h 360360"/>
              <a:gd name="textAreaBottom" fmla="*/ 3146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41" y="2759"/>
                </a:lnTo>
                <a:lnTo>
                  <a:pt x="2759" y="275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41" y="18841"/>
                </a:lnTo>
                <a:lnTo>
                  <a:pt x="18841" y="275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59" y="18841"/>
                </a:lnTo>
                <a:lnTo>
                  <a:pt x="18841" y="1884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59" y="2759"/>
                </a:lnTo>
                <a:lnTo>
                  <a:pt x="2759" y="18841"/>
                </a:lnTo>
                <a:close/>
              </a:path>
              <a:path fill="darken" w="21600" h="21600">
                <a:moveTo>
                  <a:pt x="4806" y="7971"/>
                </a:moveTo>
                <a:lnTo>
                  <a:pt x="7807" y="7971"/>
                </a:lnTo>
                <a:lnTo>
                  <a:pt x="7807" y="12535"/>
                </a:lnTo>
                <a:cubicBezTo>
                  <a:pt x="7807" y="13324"/>
                  <a:pt x="8492" y="13949"/>
                  <a:pt x="9378" y="13949"/>
                </a:cubicBezTo>
                <a:lnTo>
                  <a:pt x="10800" y="13949"/>
                </a:lnTo>
                <a:cubicBezTo>
                  <a:pt x="11686" y="13949"/>
                  <a:pt x="12371" y="13324"/>
                  <a:pt x="12371" y="12535"/>
                </a:cubicBezTo>
                <a:lnTo>
                  <a:pt x="12371" y="7971"/>
                </a:lnTo>
                <a:lnTo>
                  <a:pt x="10800" y="7971"/>
                </a:lnTo>
                <a:lnTo>
                  <a:pt x="13800" y="4970"/>
                </a:lnTo>
                <a:lnTo>
                  <a:pt x="16942" y="7971"/>
                </a:lnTo>
                <a:lnTo>
                  <a:pt x="15371" y="7971"/>
                </a:lnTo>
                <a:lnTo>
                  <a:pt x="15371" y="12535"/>
                </a:lnTo>
                <a:cubicBezTo>
                  <a:pt x="15371" y="14902"/>
                  <a:pt x="13168" y="17091"/>
                  <a:pt x="10800" y="17091"/>
                </a:cubicBezTo>
                <a:lnTo>
                  <a:pt x="9378" y="17091"/>
                </a:lnTo>
                <a:cubicBezTo>
                  <a:pt x="7010" y="17091"/>
                  <a:pt x="4806" y="14902"/>
                  <a:pt x="4806" y="1253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52280" y="76320"/>
            <a:ext cx="899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若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S = </a:t>
            </a:r>
            <a:r>
              <a:rPr b="1" lang="zh-CN" sz="4000" spc="-1" strike="noStrike">
                <a:solidFill>
                  <a:srgbClr val="008000"/>
                </a:solidFill>
                <a:latin typeface="Symbol"/>
                <a:ea typeface="Symbol"/>
              </a:rPr>
              <a:t>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(  )</a:t>
            </a:r>
            <a:r>
              <a:rPr b="1" lang="zh-CN" sz="4000" spc="-1" strike="noStrike">
                <a:solidFill>
                  <a:srgbClr val="008000"/>
                </a:solidFill>
                <a:latin typeface="Symbol"/>
                <a:ea typeface="Symbol"/>
              </a:rPr>
              <a:t>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则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L = N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7621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否则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构造第一个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结点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*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1523880"/>
            <a:ext cx="86868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并从串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分解出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第一个子串 </a:t>
            </a:r>
            <a:r>
              <a:rPr b="0" lang="zh-CN" sz="4000" spc="-1" strike="noStrike">
                <a:solidFill>
                  <a:srgbClr val="6600cc"/>
                </a:solidFill>
                <a:latin typeface="Symbol"/>
                <a:ea typeface="Symbol"/>
              </a:rPr>
              <a:t></a:t>
            </a:r>
            <a:r>
              <a:rPr b="0" lang="zh-CN" sz="40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应 创建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第一个子广义表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ptr.hp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8600" y="3184560"/>
            <a:ext cx="868680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若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剩余串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非空，则构造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第二个表结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ptr.tp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并从串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中分解出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第二个子串 </a:t>
            </a:r>
            <a:r>
              <a:rPr b="0" lang="zh-CN" sz="4000" spc="-1" strike="noStrike">
                <a:solidFill>
                  <a:srgbClr val="6600cc"/>
                </a:solidFill>
                <a:latin typeface="Symbol"/>
                <a:ea typeface="Symbol"/>
              </a:rPr>
              <a:t></a:t>
            </a:r>
            <a:r>
              <a:rPr b="0" lang="zh-CN" sz="40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对应建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第二个子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广义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</a:rPr>
              <a:t>………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68360" y="5638680"/>
            <a:ext cx="42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依次类推，直至剩余串为空串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815400" y="131760"/>
            <a:ext cx="766548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CreateGList(Glist 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L, String S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(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空串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)  L =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NU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创建空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 {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 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GLNode; 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成表结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-&gt;tag=Lis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p=L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ub=SubString(S,2,StrLength(S)-1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脱去串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外层括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// e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1921320" y="4768920"/>
            <a:ext cx="55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由</a:t>
            </a:r>
            <a:r>
              <a:rPr b="1" i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sub</a:t>
            </a:r>
            <a:r>
              <a:rPr b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中所含</a:t>
            </a:r>
            <a:r>
              <a:rPr b="1" i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n</a:t>
            </a:r>
            <a:r>
              <a:rPr b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个子串建立</a:t>
            </a:r>
            <a:r>
              <a:rPr b="1" i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n</a:t>
            </a:r>
            <a:r>
              <a:rPr b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个子表</a:t>
            </a:r>
            <a:r>
              <a:rPr b="1" lang="zh-CN" sz="36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533520" cy="425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98400" y="100080"/>
            <a:ext cx="770580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do 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ever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u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hsu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;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离出子表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sub=</a:t>
            </a:r>
            <a:r>
              <a:rPr b="0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Empty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u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-&gt;ptr.t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ze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GLNode)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下一个子表的表结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*(p-&gt;ptr.tp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=p-&gt;ptr.t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} while 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!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StrEmpty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ub</a:t>
            </a:r>
            <a:r>
              <a:rPr b="0" lang="zh-CN" sz="3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)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-&gt;ptr.tp =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U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   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尾为空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nextslide"/>
          </p:cNvPr>
          <p:cNvSpPr/>
          <p:nvPr/>
        </p:nvSpPr>
        <p:spPr>
          <a:xfrm>
            <a:off x="1451880" y="1523880"/>
            <a:ext cx="62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990033"/>
                </a:solidFill>
                <a:uFillTx/>
                <a:latin typeface="Times New Roman"/>
                <a:ea typeface="隶书"/>
              </a:rPr>
              <a:t>创建由串</a:t>
            </a:r>
            <a:r>
              <a:rPr b="1" lang="zh-CN" sz="3600" spc="-1" strike="noStrike" u="sng">
                <a:solidFill>
                  <a:srgbClr val="990033"/>
                </a:solidFill>
                <a:uFillTx/>
                <a:latin typeface="Times New Roman"/>
                <a:ea typeface="隶书"/>
              </a:rPr>
              <a:t>hsub</a:t>
            </a:r>
            <a:r>
              <a:rPr b="1" lang="zh-CN" sz="3600" spc="-1" strike="noStrike" u="sng">
                <a:solidFill>
                  <a:srgbClr val="990033"/>
                </a:solidFill>
                <a:uFillTx/>
                <a:latin typeface="Times New Roman"/>
                <a:ea typeface="隶书"/>
              </a:rPr>
              <a:t>定义的广义表</a:t>
            </a:r>
            <a:r>
              <a:rPr b="1" lang="zh-CN" sz="3600" spc="-1" strike="noStrike" u="sng">
                <a:solidFill>
                  <a:srgbClr val="990033"/>
                </a:solidFill>
                <a:uFillTx/>
                <a:latin typeface="Times New Roman"/>
                <a:ea typeface="隶书"/>
              </a:rPr>
              <a:t>p-&gt;ptr.h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457200" cy="457200"/>
          </a:xfrm>
          <a:custGeom>
            <a:avLst/>
            <a:gdLst>
              <a:gd name="textAreaLeft" fmla="*/ 712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56040" y="620640"/>
            <a:ext cx="8451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StrLength(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hsu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=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p-&gt;ptr.h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(GList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llo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ze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GLNode)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-&gt;ptr.hp-&gt;tag=ATOM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-&gt;ptr.hp-&gt;atom=hsub;  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创建单原子结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se  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CreateGList(p-&gt;ptr.hp,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hsub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递归建广义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457200" cy="457200"/>
          </a:xfrm>
          <a:custGeom>
            <a:avLst/>
            <a:gdLst>
              <a:gd name="textAreaLeft" fmla="*/ 712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17400" y="1542960"/>
          <a:ext cx="7764480" cy="4324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1542960"/>
                    <a:ext cx="776448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1574640" y="441360"/>
            <a:ext cx="35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后置递归的设计思想为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09480" y="58896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递归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结状态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是，当前的问题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接求解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对原问题而言，则是已走到了求解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一步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3070080"/>
            <a:ext cx="838188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链表是可以如此求解的一个典型例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编写“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删除单链表中所有值为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x 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的数据元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的算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28600" y="99072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)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单链表是一种顺序结构，必须从第一个结点起，逐个检查每个结点的数据元素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3960" y="17928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分析</a:t>
            </a:r>
            <a:r>
              <a:rPr b="1" lang="zh-CN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" y="3352680"/>
            <a:ext cx="876312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)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从另一角度看，链表又是一个递归结构，若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是线性链表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a</a:t>
            </a:r>
            <a:r>
              <a:rPr b="0" lang="zh-CN" sz="40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a</a:t>
            </a:r>
            <a:r>
              <a:rPr b="0" lang="zh-CN" sz="40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</a:t>
            </a:r>
            <a:r>
              <a:rPr b="0" lang="zh-CN" sz="4000" spc="-1" strike="noStrike">
                <a:solidFill>
                  <a:srgbClr val="0000cc"/>
                </a:solidFill>
                <a:latin typeface="Symbol"/>
                <a:ea typeface="Symbol"/>
              </a:rPr>
              <a:t>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a</a:t>
            </a:r>
            <a:r>
              <a:rPr b="0" lang="zh-CN" sz="40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)  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头指针，则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next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是线性链表   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(a</a:t>
            </a:r>
            <a:r>
              <a:rPr b="0" lang="zh-CN" sz="40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</a:t>
            </a:r>
            <a:r>
              <a:rPr b="0" lang="zh-CN" sz="4000" spc="-1" strike="noStrike">
                <a:solidFill>
                  <a:srgbClr val="0000cc"/>
                </a:solidFill>
                <a:latin typeface="Symbol"/>
                <a:ea typeface="Symbol"/>
              </a:rPr>
              <a:t>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, a</a:t>
            </a:r>
            <a:r>
              <a:rPr b="0" lang="zh-CN" sz="4000" spc="-1" strike="noStrike" baseline="-25000">
                <a:solidFill>
                  <a:srgbClr val="0000cc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头指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71000" y="1162080"/>
            <a:ext cx="9979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92360" y="114300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79680" y="116208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92400" y="114300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116208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64000" y="114300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22880" y="116208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35600" y="114300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99400" y="1162080"/>
            <a:ext cx="102672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12120" y="114300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5120" y="144792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144792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8320" y="144792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144792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24840" y="144792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38680" y="9144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0800" y="10033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Symbol"/>
                <a:ea typeface="Symbol"/>
              </a:rPr>
              <a:t>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14479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6280" y="762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1320" y="152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隶书"/>
              </a:rPr>
              <a:t>例如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4760" y="3067200"/>
            <a:ext cx="9979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16120" y="30481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03440" y="306720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16160" y="30481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75040" y="306720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87760" y="30481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6640" y="306720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59360" y="30481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23160" y="3067200"/>
            <a:ext cx="102672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35880" y="30481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28880" y="33526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00480" y="33526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72080" y="33526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43680" y="33526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48600" y="33526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94560" y="29084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Symbol"/>
                <a:ea typeface="Symbol"/>
              </a:rPr>
              <a:t>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8680" y="335268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0040" y="26668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4760" y="5797440"/>
            <a:ext cx="9979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5778360"/>
            <a:ext cx="0" cy="6098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03440" y="579744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16160" y="5778360"/>
            <a:ext cx="0" cy="6098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75040" y="579744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87760" y="5778360"/>
            <a:ext cx="0" cy="6098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6640" y="5797440"/>
            <a:ext cx="101304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59360" y="5778360"/>
            <a:ext cx="0" cy="6098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23160" y="5797440"/>
            <a:ext cx="1026720" cy="648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35880" y="5778360"/>
            <a:ext cx="0" cy="6098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8880" y="6083280"/>
            <a:ext cx="533160" cy="0"/>
          </a:xfrm>
          <a:prstGeom prst="line">
            <a:avLst/>
          </a:prstGeom>
          <a:ln w="1908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00480" y="60832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72080" y="60832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43680" y="60832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48600" y="6083280"/>
            <a:ext cx="533160" cy="0"/>
          </a:xfrm>
          <a:prstGeom prst="line">
            <a:avLst/>
          </a:prstGeom>
          <a:ln w="255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94560" y="5638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Symbol"/>
                <a:ea typeface="Symbol"/>
              </a:rPr>
              <a:t>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8680" y="608328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0040" y="53974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4800" y="152280"/>
            <a:ext cx="53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已知下列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7080" y="2057400"/>
            <a:ext cx="65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) “a1=x”,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则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仍为删除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x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后的链表头指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880" y="4038480"/>
            <a:ext cx="853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) “a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≠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x”,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则余下问题是考虑以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L-&gt;next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为头指针的链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28800" y="60958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4520" y="2819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54520" y="55627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09680" y="2895480"/>
            <a:ext cx="152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05120" y="33526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33526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27200" y="5811840"/>
            <a:ext cx="1013040" cy="648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5791320"/>
            <a:ext cx="0" cy="609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5181480"/>
            <a:ext cx="1523880" cy="381240"/>
          </a:xfrm>
          <a:prstGeom prst="wedgeRoundRectCallout">
            <a:avLst>
              <a:gd name="adj1" fmla="val -106564"/>
              <a:gd name="adj2" fmla="val 165000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-&gt;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58480" y="3595680"/>
            <a:ext cx="26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-&gt;next=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43200" y="25909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9900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63720" y="236232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p=L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30400" y="76320"/>
            <a:ext cx="8449920" cy="68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delete(LinkList &amp;L, ElemType x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以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头指针的带头结点的单链表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值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L-&gt;next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(L-&gt;next-&gt;data==x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=L-&gt;next;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-&gt;next=p-&gt;nex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p);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elete(L, x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elete(L-&gt;next, x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/ de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28600" y="268200"/>
            <a:ext cx="87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删除广义表中所有元素为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原子结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0" y="1143000"/>
            <a:ext cx="50630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比较广义表和线性表的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结构特点</a:t>
            </a:r>
            <a:r>
              <a:rPr b="0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67680" y="2819520"/>
            <a:ext cx="171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相似处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是链表结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49920" y="3733920"/>
            <a:ext cx="659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处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)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义表的数据元素可能还是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广义表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)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删除时，不仅要删除原子结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需要删除相应的表结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453240" y="1066680"/>
            <a:ext cx="10006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alue(A,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, index1, ..., index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数组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元素变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后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下标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各下标不超界，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赋值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元素值，并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305920" y="6172200"/>
            <a:ext cx="360360" cy="360360"/>
          </a:xfrm>
          <a:custGeom>
            <a:avLst/>
            <a:gdLst>
              <a:gd name="textAreaLeft" fmla="*/ 68040 w 360360"/>
              <a:gd name="textAreaRight" fmla="*/ 292320 w 360360"/>
              <a:gd name="textAreaTop" fmla="*/ 68040 h 360360"/>
              <a:gd name="textAreaBottom" fmla="*/ 292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08" y="4092"/>
                </a:lnTo>
                <a:lnTo>
                  <a:pt x="4092" y="409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08" y="17508"/>
                </a:lnTo>
                <a:lnTo>
                  <a:pt x="17508" y="409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92" y="17508"/>
                </a:lnTo>
                <a:lnTo>
                  <a:pt x="17508" y="1750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92" y="4092"/>
                </a:lnTo>
                <a:lnTo>
                  <a:pt x="4092" y="17508"/>
                </a:lnTo>
                <a:close/>
              </a:path>
              <a:path fill="darken" w="21600" h="21600">
                <a:moveTo>
                  <a:pt x="5800" y="8440"/>
                </a:moveTo>
                <a:lnTo>
                  <a:pt x="8303" y="8440"/>
                </a:lnTo>
                <a:lnTo>
                  <a:pt x="8303" y="12247"/>
                </a:lnTo>
                <a:cubicBezTo>
                  <a:pt x="8303" y="12906"/>
                  <a:pt x="8875" y="13427"/>
                  <a:pt x="9614" y="13427"/>
                </a:cubicBezTo>
                <a:lnTo>
                  <a:pt x="10800" y="13427"/>
                </a:lnTo>
                <a:cubicBezTo>
                  <a:pt x="11539" y="13427"/>
                  <a:pt x="12111" y="12906"/>
                  <a:pt x="12111" y="12247"/>
                </a:cubicBezTo>
                <a:lnTo>
                  <a:pt x="12111" y="8440"/>
                </a:lnTo>
                <a:lnTo>
                  <a:pt x="10800" y="8440"/>
                </a:lnTo>
                <a:lnTo>
                  <a:pt x="13303" y="5937"/>
                </a:lnTo>
                <a:lnTo>
                  <a:pt x="15924" y="8440"/>
                </a:lnTo>
                <a:lnTo>
                  <a:pt x="14614" y="8440"/>
                </a:lnTo>
                <a:lnTo>
                  <a:pt x="14614" y="12247"/>
                </a:lnTo>
                <a:cubicBezTo>
                  <a:pt x="14614" y="14222"/>
                  <a:pt x="12775" y="16048"/>
                  <a:pt x="10800" y="16048"/>
                </a:cubicBezTo>
                <a:lnTo>
                  <a:pt x="9614" y="16048"/>
                </a:lnTo>
                <a:cubicBezTo>
                  <a:pt x="7639" y="16048"/>
                  <a:pt x="5800" y="14222"/>
                  <a:pt x="5800" y="12247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601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voi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Delete_GL(Glist&amp;L, AtomType x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删除广义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L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中所有值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原子结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if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(L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head = L-&gt;ptr.hp;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/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考察第一个子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i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(head-&gt;tag == Atom) &amp;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(head-&gt;atom == x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{             }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删除原子项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el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{             }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项没有被删除的情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}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 Delete_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371600" y="350532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…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1600" y="472428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…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39120" y="6172200"/>
            <a:ext cx="476280" cy="533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135800" y="3184560"/>
            <a:ext cx="695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p=L;    L = L-&gt;ptr.tp;    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修改指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free(head);        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释放原子结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free(p);             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释放表结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Delete_GL(L, x);  //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递归处理剩余表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57240 w 304920"/>
              <a:gd name="textAreaRight" fmla="*/ 248040 w 304920"/>
              <a:gd name="textAreaTop" fmla="*/ 57240 h 304920"/>
              <a:gd name="textAreaBottom" fmla="*/ 248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50" y="17550"/>
                </a:lnTo>
                <a:lnTo>
                  <a:pt x="17550" y="40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17550" y="175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1600" h="21600">
                <a:moveTo>
                  <a:pt x="5769" y="8425"/>
                </a:moveTo>
                <a:lnTo>
                  <a:pt x="8288" y="8425"/>
                </a:lnTo>
                <a:lnTo>
                  <a:pt x="8288" y="12256"/>
                </a:lnTo>
                <a:cubicBezTo>
                  <a:pt x="8288" y="12919"/>
                  <a:pt x="8863" y="13444"/>
                  <a:pt x="9606" y="13444"/>
                </a:cubicBezTo>
                <a:lnTo>
                  <a:pt x="10800" y="13444"/>
                </a:lnTo>
                <a:cubicBezTo>
                  <a:pt x="11544" y="13444"/>
                  <a:pt x="12119" y="12919"/>
                  <a:pt x="12119" y="12256"/>
                </a:cubicBezTo>
                <a:lnTo>
                  <a:pt x="12119" y="8425"/>
                </a:lnTo>
                <a:lnTo>
                  <a:pt x="10800" y="8425"/>
                </a:lnTo>
                <a:lnTo>
                  <a:pt x="13319" y="5906"/>
                </a:lnTo>
                <a:lnTo>
                  <a:pt x="15956" y="8425"/>
                </a:lnTo>
                <a:lnTo>
                  <a:pt x="14638" y="8425"/>
                </a:lnTo>
                <a:lnTo>
                  <a:pt x="14638" y="12256"/>
                </a:lnTo>
                <a:cubicBezTo>
                  <a:pt x="14638" y="14244"/>
                  <a:pt x="12788" y="16081"/>
                  <a:pt x="10800" y="16081"/>
                </a:cubicBezTo>
                <a:lnTo>
                  <a:pt x="9606" y="16081"/>
                </a:lnTo>
                <a:cubicBezTo>
                  <a:pt x="7619" y="16081"/>
                  <a:pt x="5769" y="14244"/>
                  <a:pt x="5769" y="1225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14680" y="793800"/>
            <a:ext cx="163800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24160" y="7938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57680" y="7938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4400" y="109872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7720" y="533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2b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1174680"/>
            <a:ext cx="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69640" y="2017800"/>
            <a:ext cx="9975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0  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013120"/>
            <a:ext cx="0" cy="609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24360" y="7938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33840" y="7938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67360" y="7938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1098720"/>
            <a:ext cx="83844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4120" y="109872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1098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33720" y="3049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9900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1120" y="6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8760" y="380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2b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81080" y="190512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6858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228600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75960" y="1828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80880" y="326088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i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(head-&gt;tag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==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LIST)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该项为广义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Delete_GL(head, x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Delete_GL(L-&gt;ptr.tp, x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//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递归处理剩余表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75960 w 304560"/>
              <a:gd name="textAreaRight" fmla="*/ 228600 w 30456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16200" y="16226"/>
                </a:lnTo>
                <a:lnTo>
                  <a:pt x="16200" y="5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5400" y="16226"/>
                </a:lnTo>
                <a:lnTo>
                  <a:pt x="16200" y="16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26"/>
                </a:lnTo>
                <a:close/>
              </a:path>
              <a:path fill="darken" w="21600" h="21626">
                <a:moveTo>
                  <a:pt x="6775" y="8913"/>
                </a:moveTo>
                <a:lnTo>
                  <a:pt x="8790" y="8913"/>
                </a:lnTo>
                <a:lnTo>
                  <a:pt x="8790" y="11978"/>
                </a:lnTo>
                <a:cubicBezTo>
                  <a:pt x="8790" y="12508"/>
                  <a:pt x="9250" y="12928"/>
                  <a:pt x="9845" y="12928"/>
                </a:cubicBezTo>
                <a:lnTo>
                  <a:pt x="10800" y="12928"/>
                </a:lnTo>
                <a:cubicBezTo>
                  <a:pt x="11395" y="12928"/>
                  <a:pt x="11855" y="12508"/>
                  <a:pt x="11855" y="11978"/>
                </a:cubicBezTo>
                <a:lnTo>
                  <a:pt x="11855" y="8913"/>
                </a:lnTo>
                <a:lnTo>
                  <a:pt x="10800" y="8913"/>
                </a:lnTo>
                <a:lnTo>
                  <a:pt x="12815" y="6898"/>
                </a:lnTo>
                <a:lnTo>
                  <a:pt x="14925" y="8913"/>
                </a:lnTo>
                <a:lnTo>
                  <a:pt x="13870" y="8913"/>
                </a:lnTo>
                <a:lnTo>
                  <a:pt x="13870" y="11978"/>
                </a:lnTo>
                <a:cubicBezTo>
                  <a:pt x="13870" y="13568"/>
                  <a:pt x="12390" y="15038"/>
                  <a:pt x="10800" y="15038"/>
                </a:cubicBezTo>
                <a:lnTo>
                  <a:pt x="9845" y="15038"/>
                </a:lnTo>
                <a:cubicBezTo>
                  <a:pt x="8255" y="15038"/>
                  <a:pt x="6775" y="13568"/>
                  <a:pt x="6775" y="11978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1098720"/>
            <a:ext cx="163800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81360" y="109872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14880" y="109872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71600" y="140328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04920" y="838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2b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48120" y="1479600"/>
            <a:ext cx="0" cy="838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26840" y="2322360"/>
            <a:ext cx="9975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0  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2317680"/>
            <a:ext cx="0" cy="609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81560" y="109872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91040" y="109872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24560" y="109872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403280"/>
            <a:ext cx="83844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91320" y="1403280"/>
            <a:ext cx="838080" cy="0"/>
          </a:xfrm>
          <a:prstGeom prst="line">
            <a:avLst/>
          </a:prstGeom>
          <a:ln w="22320">
            <a:solidFill>
              <a:srgbClr val="952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14600" y="2286000"/>
            <a:ext cx="1638360" cy="642600"/>
          </a:xfrm>
          <a:prstGeom prst="rect">
            <a:avLst/>
          </a:prstGeom>
          <a:solidFill>
            <a:srgbClr val="99cc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22860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57600" y="2286000"/>
            <a:ext cx="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57800" y="1403280"/>
            <a:ext cx="0" cy="838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251460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99640" y="2071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380880"/>
            <a:ext cx="1600200" cy="533520"/>
          </a:xfrm>
          <a:prstGeom prst="wedgeRoundRectCallout">
            <a:avLst>
              <a:gd name="adj1" fmla="val -44939"/>
              <a:gd name="adj2" fmla="val 127083"/>
              <a:gd name="adj3" fmla="val 16667"/>
            </a:avLst>
          </a:prstGeom>
          <a:solidFill>
            <a:srgbClr val="e6cd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L-&gt;ptr.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024640" y="196920"/>
            <a:ext cx="52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溯法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是一种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穷举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方法。其基本思想为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914400"/>
            <a:ext cx="85341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假设问题的解为 </a:t>
            </a:r>
            <a:r>
              <a:rPr b="0" i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元组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…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其中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x</a:t>
            </a:r>
            <a:r>
              <a:rPr b="0" lang="zh-CN" sz="36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取值于集合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S</a:t>
            </a:r>
            <a:r>
              <a:rPr b="0" lang="zh-CN" sz="3600" spc="-1" strike="noStrike" baseline="-25000">
                <a:solidFill>
                  <a:srgbClr val="6600cc"/>
                </a:solidFill>
                <a:latin typeface="Times New Roman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1" i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元组的子组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…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 (i&lt;n)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称为部分解，应满足一定的约束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对于已求得的部分解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…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若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添加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+1</a:t>
            </a:r>
            <a:r>
              <a:rPr b="1" lang="zh-CN" sz="3600" spc="-1" strike="noStrike">
                <a:solidFill>
                  <a:srgbClr val="0000ff"/>
                </a:solidFill>
                <a:latin typeface="Symbol"/>
                <a:ea typeface="Symbol"/>
              </a:rPr>
              <a:t>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+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之后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仍然满足约束条件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则得到一个新的部分解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…, 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+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 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之后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继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添加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+2</a:t>
            </a:r>
            <a:r>
              <a:rPr b="1" lang="zh-CN" sz="3600" spc="-1" strike="noStrike">
                <a:solidFill>
                  <a:srgbClr val="0000ff"/>
                </a:solidFill>
                <a:latin typeface="Symbol"/>
                <a:ea typeface="Symbol"/>
              </a:rPr>
              <a:t>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+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并检查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之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304920" y="914400"/>
          <a:ext cx="8534160" cy="499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14400"/>
                    <a:ext cx="85341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769040" y="15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例一、皇后问题求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914400"/>
            <a:ext cx="87627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设四皇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问题的解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其中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i=1,2,3,4) 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S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{1, 2, 3, 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约束条件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其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任意两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  <a:ea typeface="楷体_GB2312"/>
              </a:rPr>
              <a:t>j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能位于棋盘的同行、同列及同对角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320" y="3511440"/>
            <a:ext cx="90676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按回溯法的定义，皇后问题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求解过程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为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解的初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值为空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首先添加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之后添加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满足条件的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3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由于对所有的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x3</a:t>
            </a:r>
            <a:r>
              <a:rPr b="1" lang="zh-CN" sz="3200" spc="-1" strike="noStrike">
                <a:solidFill>
                  <a:srgbClr val="800000"/>
                </a:solidFill>
                <a:latin typeface="Symbol"/>
                <a:ea typeface="Symbol"/>
              </a:rPr>
              <a:t>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{1,2, 3, 4}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都不能找到满足约束条件的部分解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溯到部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重新添加满足约束条件的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4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依次类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52280" y="96840"/>
            <a:ext cx="8839440" cy="66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rial(int i, int n)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入本函数时，在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×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棋盘前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-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行已放置了互不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击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-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棋子。现从第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行起继续为后续棋子选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满足约束条件的位置。当求得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i&gt;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一个合法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时，输出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i&gt;n)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输出棋盘的当前布局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  for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j=1;  j&lt;=n; ++j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在第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行第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j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列放置一个棋子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当前布局合法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rial(i+1, 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移去第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i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行第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j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列的棋子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// 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979360" y="120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回溯法求解的算法一般形式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663480"/>
            <a:ext cx="891540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B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i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n)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假设已求得满足约束条件的部分解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..., 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i-1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本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数从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i 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起继续搜索，直到求得整个解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 … x</a:t>
            </a:r>
            <a:r>
              <a:rPr b="0" lang="zh-CN" sz="2800" spc="-1" strike="noStrike" baseline="-25000">
                <a:solidFill>
                  <a:srgbClr val="800000"/>
                </a:solidFill>
                <a:latin typeface="Times New Roman"/>
                <a:ea typeface="楷体_GB2312"/>
              </a:rPr>
              <a:t>n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i&gt;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else  while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(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Empty(S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从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中取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的一个值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v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Symbol"/>
                <a:ea typeface="Symbol"/>
              </a:rPr>
              <a:t>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(x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, x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, …, x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满足约束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B( i+1, n);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//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继续求下一个部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从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中删除值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v</a:t>
            </a:r>
            <a:r>
              <a:rPr b="0" lang="zh-CN" sz="3200" spc="-1" strike="noStrike" baseline="-25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} //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8220240" y="5943600"/>
            <a:ext cx="54288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52280" y="95400"/>
            <a:ext cx="8991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综合几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含有递归特性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问题，最好设计递归形式的算法。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但也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不要单纯追求形式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应在算法设计的分析过程中“就事论事”。例如，在利用分割求解设计算法时，子问题和原问题的性质相同；或者，问题的当前一步解决之后，余下的问题和原问题性质相同，则自然导致递归求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-304920" y="592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实现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函数，目前必须利用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栈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。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一个递归函数必定能改写为利用栈实现的非递归函数；反之，一个用栈实现的非递归函数可以改写为递归函数。需要注意的是递归函数递归层次的深度决定所需存储量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501840" y="990720"/>
            <a:ext cx="101667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ssign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, e, index1, ..., indexn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数组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元素变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后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下标值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下标不超界，则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所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元素，并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153280" y="6019920"/>
            <a:ext cx="360360" cy="360360"/>
          </a:xfrm>
          <a:custGeom>
            <a:avLst/>
            <a:gdLst>
              <a:gd name="textAreaLeft" fmla="*/ 68040 w 360360"/>
              <a:gd name="textAreaRight" fmla="*/ 292320 w 360360"/>
              <a:gd name="textAreaTop" fmla="*/ 68040 h 360360"/>
              <a:gd name="textAreaBottom" fmla="*/ 292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508" y="4092"/>
                </a:lnTo>
                <a:lnTo>
                  <a:pt x="4092" y="409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508" y="17508"/>
                </a:lnTo>
                <a:lnTo>
                  <a:pt x="17508" y="409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92" y="17508"/>
                </a:lnTo>
                <a:lnTo>
                  <a:pt x="17508" y="1750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92" y="4092"/>
                </a:lnTo>
                <a:lnTo>
                  <a:pt x="4092" y="17508"/>
                </a:lnTo>
                <a:close/>
              </a:path>
              <a:path fill="darken" w="21600" h="21600">
                <a:moveTo>
                  <a:pt x="5800" y="8440"/>
                </a:moveTo>
                <a:lnTo>
                  <a:pt x="8303" y="8440"/>
                </a:lnTo>
                <a:lnTo>
                  <a:pt x="8303" y="12247"/>
                </a:lnTo>
                <a:cubicBezTo>
                  <a:pt x="8303" y="12906"/>
                  <a:pt x="8875" y="13427"/>
                  <a:pt x="9614" y="13427"/>
                </a:cubicBezTo>
                <a:lnTo>
                  <a:pt x="10800" y="13427"/>
                </a:lnTo>
                <a:cubicBezTo>
                  <a:pt x="11539" y="13427"/>
                  <a:pt x="12111" y="12906"/>
                  <a:pt x="12111" y="12247"/>
                </a:cubicBezTo>
                <a:lnTo>
                  <a:pt x="12111" y="8440"/>
                </a:lnTo>
                <a:lnTo>
                  <a:pt x="10800" y="8440"/>
                </a:lnTo>
                <a:lnTo>
                  <a:pt x="13303" y="5937"/>
                </a:lnTo>
                <a:lnTo>
                  <a:pt x="15924" y="8440"/>
                </a:lnTo>
                <a:lnTo>
                  <a:pt x="14614" y="8440"/>
                </a:lnTo>
                <a:lnTo>
                  <a:pt x="14614" y="12247"/>
                </a:lnTo>
                <a:cubicBezTo>
                  <a:pt x="14614" y="14222"/>
                  <a:pt x="12775" y="16048"/>
                  <a:pt x="10800" y="16048"/>
                </a:cubicBezTo>
                <a:lnTo>
                  <a:pt x="9614" y="16048"/>
                </a:lnTo>
                <a:cubicBezTo>
                  <a:pt x="7639" y="16048"/>
                  <a:pt x="5800" y="14222"/>
                  <a:pt x="5800" y="12247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-533520" y="380880"/>
            <a:ext cx="967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算法的工具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树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从递归树上可以得到递归函数的各种相关信息。例如：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递归树的深度即为递归函数的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递归深度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；递归树上的结点数目恰为函数中的主要操作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重复进行的次数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；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若递归树蜕化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单支树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或者递归树中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含有很多相同的结点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则表明该递归函数不适用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52280" y="228600"/>
            <a:ext cx="8931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 n=3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梵塔算法中主要操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move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执行次数可以利用下列递归树进行分析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33800" y="2000160"/>
            <a:ext cx="2808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ve(3, a, b,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00080" y="3124080"/>
            <a:ext cx="2808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ve(2, a, c,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560" y="3124080"/>
            <a:ext cx="2808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ve(2, b, a,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200" y="4267080"/>
            <a:ext cx="246960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ove(1, a, b,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73600" y="4952880"/>
            <a:ext cx="246960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ove(1, c, a,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00800" y="4278240"/>
            <a:ext cx="246960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ove(1, b, c,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645600" y="4952880"/>
            <a:ext cx="246960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ove(1, a, b,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437920" y="2590920"/>
            <a:ext cx="213372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294920" y="3733920"/>
            <a:ext cx="114300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38280" y="3733920"/>
            <a:ext cx="914400" cy="12189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2590920"/>
            <a:ext cx="220968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867280" y="3733920"/>
            <a:ext cx="914400" cy="5331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3733920"/>
            <a:ext cx="1143000" cy="12189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8280" y="594360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上图递归树的中序序列即为圆盘的移动操作序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41360" y="196920"/>
            <a:ext cx="2911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n!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递归函数的递归树已退化为一个单枝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228600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312408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43000" y="502920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586728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47920" y="2743200"/>
            <a:ext cx="0" cy="380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47920" y="3581280"/>
            <a:ext cx="0" cy="3812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4648320"/>
            <a:ext cx="0" cy="380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5486400"/>
            <a:ext cx="0" cy="380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24000" y="4326120"/>
            <a:ext cx="42372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Times New Roman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53080" y="23623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81480" y="312408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924680" y="30481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86200" y="388620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7120" y="388620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71800" y="46483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00600" y="46483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0" y="541008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57600" y="541008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46483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91520" y="4648320"/>
            <a:ext cx="68580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486040" y="2590920"/>
            <a:ext cx="106668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38880" y="2590920"/>
            <a:ext cx="1067040" cy="45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190760" y="3352680"/>
            <a:ext cx="99036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3352680"/>
            <a:ext cx="99072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3276360" y="4114800"/>
            <a:ext cx="60948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572000" y="4114800"/>
            <a:ext cx="53352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590920" y="4876920"/>
            <a:ext cx="38088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8088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867280" y="4114800"/>
            <a:ext cx="60984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162920" y="4114800"/>
            <a:ext cx="53316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059320" y="357336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304920"/>
            <a:ext cx="4876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而计算斐波那契递归函数的递归树中有很多重复出现的结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1720" y="54000"/>
            <a:ext cx="84283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函数中的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尾递归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容易消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如：先序遍历二叉树可以改写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void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 PreOrderTraverse( BiTre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While (T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Visit(T-&gt;data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PreOrderTravers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-&gt;lchil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 = T-&gt;rchil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// PreOrderTra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87360" y="593640"/>
            <a:ext cx="844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delete(LinkList &amp;L, ElemType x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</a:t>
            </a:r>
            <a:r>
              <a:rPr b="0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L</a:t>
            </a:r>
            <a:r>
              <a:rPr b="0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为无头结点的单链表的头指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(L)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if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(L-&gt;data=x)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p=L;  L=L-&gt;nex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free(p);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delete(L, x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else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delete(L-&gt;next, x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7320" y="4428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又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191240" y="79200"/>
            <a:ext cx="764244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void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delete(LinkList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L, ElemType x)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L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为带头结点的单链表的头指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=L-&gt;next;  pre=L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(p)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if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(p-&gt;data=x)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pre-&gt;next=p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free(p);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p=pre-&gt;nex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else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pre=p;  p=p-&gt;next;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5640" y="-680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可改写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-380880" y="685800"/>
            <a:ext cx="929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递归方程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来表述递归函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性能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: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假设解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个圆盘的梵塔的执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时间为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(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则递归方程为：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(n) = 2T(n-1) + C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初始条件为： </a:t>
            </a: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T(0)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8305920" y="6172200"/>
            <a:ext cx="379440" cy="380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80880" y="152280"/>
            <a:ext cx="83217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了解数组的两种存储表示方法，并掌握数组在以行为主的存储结构中的地址计算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掌握对特殊矩阵进行压缩存储时的下标变换公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了解稀疏矩阵的两类压缩存储方法的特点和适用范围，领会以三元组表示稀疏矩阵时进行矩阵运算采用的处理方法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17680" y="328680"/>
            <a:ext cx="8092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掌握广义表的结构特点及其存储表示方法，读者可根据自己的习惯熟练掌握任意一种结构的链表，学会对非空广义表进行分解的两种分析方法：即可将一个非空广义表分解为表头和表尾两部分或者分解为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个子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5.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学习利用分治法的算法设计思想编制递归算法的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0T06:32:36Z</dcterms:created>
  <dc:creator>thcic</dc:creator>
  <dc:description/>
  <dc:language>en-US</dc:language>
  <cp:lastModifiedBy>yanweimin</cp:lastModifiedBy>
  <dcterms:modified xsi:type="dcterms:W3CDTF">2001-03-22T01:15:33Z</dcterms:modified>
  <cp:revision>63</cp:revision>
  <dc:subject/>
  <dc:title>第五章   数组</dc:title>
</cp:coreProperties>
</file>