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7C5-9557-41C6-B9CC-F561DAD4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770-AF55-4024-8A42-F629C98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FE4-96F6-465D-BDE6-4A62C8FF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B04-1F42-452D-B3F8-B4B5A78F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9AC-E015-4E66-8652-4B360BF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254-5794-40E4-9A4D-6D8684D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257-B471-434B-9CDE-22A4641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89D-C951-413C-8D8F-C48078B5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1D0-5DB0-4BAE-95EC-48E168D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705-EC9A-47D4-B3C4-B2CC89A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C53-A499-4E32-A81F-D38E610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2BD-4696-4BD9-964D-EA057AD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AFBD-6E93-4CBB-A3CC-80BC67A8F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1523880" y="1635120"/>
            <a:ext cx="15242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523880" y="430200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6095880" y="1676520"/>
            <a:ext cx="15242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6095880" y="430200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3886200" y="2895480"/>
            <a:ext cx="12952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7086600" y="556272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455240" y="579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隶书"/>
              </a:rPr>
              <a:t>结束放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39840"/>
            <a:ext cx="15238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86600" y="3808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三种出错处理方式的比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1400"/>
            <a:ext cx="85345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）用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rror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语句终止执行并报告错误。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其优点是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直观、嵌套层次少；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缺点是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中断函数的执行。故不适宜用在子函数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040" y="3103560"/>
            <a:ext cx="8702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用布尔函数实现算法。其优点是，将错误返回给调用环境，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由调用环境决定程序的下一步走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040" y="4959360"/>
            <a:ext cx="88552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函数的参数表中设置整形变量。其优点同上，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并可判别多种类型的错误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7632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626320" cy="59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int 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cal(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a[],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arrsize,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n )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计算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(i!•2i)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存入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a[i]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≤i≤n, 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若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n&gt;arrsize, 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则返回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-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若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k!•2k (1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≤k≤n)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出界，则返回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-2, 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否则返回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if 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( n&lt;1 || arrsize&lt;n )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-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a[1] = 2;  i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(i&gt;n)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else  return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 -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9680" y="3429000"/>
            <a:ext cx="7299720" cy="170208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&lt;=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amp;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[i-1]&lt;=MAXINT/(2*i))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a[i]=a[i-1]*2*i;    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15238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90720"/>
            <a:ext cx="8702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(1)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外部环境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进行信息交换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复用性较差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一般仅用在人机对话的用户界面中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6440" y="2378160"/>
            <a:ext cx="9007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(2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调用环境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进行信息交换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安全性好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使模块内部出现的错误不外传，进行模块测试时，只要保证本模块从入口到出口的结果正确即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440" y="5083200"/>
            <a:ext cx="90075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(3) 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交换方式同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(2)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但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不安全</a:t>
            </a: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容易出现各模块的错误滚动传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59720" y="168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实现输入和输出的三种方式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6440" y="11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760" y="806400"/>
            <a:ext cx="877896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polyval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[]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n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/ a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n]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=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 = a[0];  k=0;  e=1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(k&lt;n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e* = x0;       // e = e*x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+ = a[++k]*e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// poly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429680" y="1474920"/>
                <a:ext cx="1485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486400" y="4495680"/>
            <a:ext cx="2819520" cy="14770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间复杂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(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86728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8264160" y="604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263520"/>
            <a:ext cx="129528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题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2640" y="2444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学会系统分析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838080"/>
            <a:ext cx="777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124080" y="2743200"/>
                <a:ext cx="51818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r>
                                  <m:t xml:space="preserve">1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r>
                              <m:t xml:space="preserve">j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409400" y="1065240"/>
            <a:ext cx="4295880" cy="1629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( i=1; i&lt;=n; i++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(j=1; j&lt;=i; j++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(k=1; k&lt;=j; k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666880" y="3733920"/>
                <a:ext cx="586764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i</m:t>
                                </m:r>
                              </m:e>
                            </m:nary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924840" y="2940120"/>
            <a:ext cx="19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语句频度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600200" y="1949400"/>
            <a:ext cx="4572000" cy="642600"/>
            <a:chOff x="1600200" y="1949400"/>
            <a:chExt cx="4572000" cy="642600"/>
          </a:xfrm>
        </p:grpSpPr>
        <p:sp>
          <p:nvSpPr>
            <p:cNvPr id="82" name=""/>
            <p:cNvSpPr/>
            <p:nvPr/>
          </p:nvSpPr>
          <p:spPr>
            <a:xfrm>
              <a:off x="1600200" y="194940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则语句频度应为 </a:t>
              </a:r>
              <a:r>
                <a:rPr b="0" lang="zh-CN" sz="36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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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n </a:t>
              </a:r>
              <a:r>
                <a:rPr b="0" lang="zh-CN" sz="36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32240" y="2031840"/>
              <a:ext cx="406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54560" y="463680"/>
            <a:ext cx="6615720" cy="1355400"/>
            <a:chOff x="1654560" y="463680"/>
            <a:chExt cx="6615720" cy="1355400"/>
          </a:xfrm>
        </p:grpSpPr>
        <p:sp>
          <p:nvSpPr>
            <p:cNvPr id="85" name=""/>
            <p:cNvSpPr/>
            <p:nvPr/>
          </p:nvSpPr>
          <p:spPr>
            <a:xfrm>
              <a:off x="1654560" y="463680"/>
              <a:ext cx="6615720" cy="1355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循环条件是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(y+1)</a:t>
              </a:r>
              <a:r>
                <a:rPr b="0" lang="zh-CN" sz="3600" spc="-1" strike="noStrike" baseline="30000">
                  <a:solidFill>
                    <a:srgbClr val="800000"/>
                  </a:solidFill>
                  <a:latin typeface="Times New Roman"/>
                  <a:ea typeface="楷体_GB2312"/>
                </a:rPr>
                <a:t>2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&lt;=n,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即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y</a:t>
              </a:r>
              <a:r>
                <a:rPr b="0" lang="zh-CN" sz="36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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 n -1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    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而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y 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的初始值是</a:t>
              </a:r>
              <a:r>
                <a:rPr b="0" lang="zh-CN" sz="36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0,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615960"/>
              <a:ext cx="45720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30360" y="22860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7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7432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</a:rPr>
              <a:t>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01920" y="2779560"/>
            <a:ext cx="49068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X=91;    y=1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(y&gt;0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@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(x&gt;100) { x-=10;  y--;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x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05944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语句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@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实质是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(x&lt;=100)  x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- = 10;  y--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572000"/>
            <a:ext cx="2666880" cy="533520"/>
          </a:xfrm>
          <a:prstGeom prst="wedgeRoundRectCallout">
            <a:avLst>
              <a:gd name="adj1" fmla="val -74287"/>
              <a:gd name="adj2" fmla="val 153569"/>
              <a:gd name="adj3" fmla="val 16667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内循环次数为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971800"/>
            <a:ext cx="2819160" cy="533520"/>
          </a:xfrm>
          <a:prstGeom prst="wedgeRoundRectCallout">
            <a:avLst>
              <a:gd name="adj1" fmla="val -88342"/>
              <a:gd name="adj2" fmla="val 66370"/>
              <a:gd name="adj3" fmla="val 16667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外循环次数为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09680" y="5435640"/>
            <a:ext cx="1972440" cy="1263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语句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@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的频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应为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207280" y="5943600"/>
            <a:ext cx="70164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318160" y="611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2:50:30Z</dcterms:created>
  <dc:creator>WeiminYan</dc:creator>
  <dc:description/>
  <dc:language>en-US</dc:language>
  <cp:lastModifiedBy>yanweimin</cp:lastModifiedBy>
  <dcterms:modified xsi:type="dcterms:W3CDTF">1999-09-16T02:36:49Z</dcterms:modified>
  <cp:revision>16</cp:revision>
  <dc:subject/>
  <dc:title>没有幻灯片标题</dc:title>
</cp:coreProperties>
</file>