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B67-71DD-4DE6-B471-B2E2BFCE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55E-F07B-471B-9A5D-4D81AAE8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A4B-5FCE-472F-922F-CC84E2D0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943-A117-464E-A4E4-FEC480BF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B23-ED83-48BB-BC18-6F35C5A6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935-CC87-4AC0-A620-07AEABD3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E3E-0AF8-4068-8821-6422741D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695-AB82-47CF-AB5D-8E0D788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D9A-4B31-4EA3-8A31-00971C91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D28-61FA-44CC-B821-E00D5122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259-AAE0-4DBB-9372-1B3D1641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A09-041B-47B0-85A5-6B76244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C665-4716-4C3B-A504-EA4C8909A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7.xml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5257800" y="68580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762120" y="213372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6858000" y="213372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2286000" y="350532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5257800" y="350532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62120" y="487692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9880" y="487692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3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6858000" y="487692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809880" y="213372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2286000" y="68580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7086600" y="5791320"/>
            <a:ext cx="1828800" cy="83808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7455240" y="59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隶书"/>
              </a:rPr>
              <a:t>结束放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263520"/>
            <a:ext cx="16002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3840" y="22860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将两个非递减有序的有序表归并为非递增的有序表（利用原表结点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81080"/>
            <a:ext cx="0" cy="60984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80880" y="2362320"/>
            <a:ext cx="1143000" cy="457200"/>
            <a:chOff x="380880" y="2362320"/>
            <a:chExt cx="1143000" cy="457200"/>
          </a:xfrm>
        </p:grpSpPr>
        <p:sp>
          <p:nvSpPr>
            <p:cNvPr id="194" name=""/>
            <p:cNvSpPr/>
            <p:nvPr/>
          </p:nvSpPr>
          <p:spPr>
            <a:xfrm>
              <a:off x="380880" y="2590920"/>
              <a:ext cx="30492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2362320"/>
              <a:ext cx="838080" cy="4572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19320" y="2362320"/>
              <a:ext cx="0" cy="4572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371600" y="2362320"/>
            <a:ext cx="1447920" cy="457200"/>
            <a:chOff x="1371600" y="2362320"/>
            <a:chExt cx="1447920" cy="457200"/>
          </a:xfrm>
        </p:grpSpPr>
        <p:sp>
          <p:nvSpPr>
            <p:cNvPr id="198" name=""/>
            <p:cNvSpPr/>
            <p:nvPr/>
          </p:nvSpPr>
          <p:spPr>
            <a:xfrm>
              <a:off x="1371600" y="2590920"/>
              <a:ext cx="60948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1080" y="2362320"/>
              <a:ext cx="838440" cy="4572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4600" y="2362320"/>
              <a:ext cx="0" cy="4572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666880" y="2362320"/>
            <a:ext cx="1447920" cy="457200"/>
            <a:chOff x="2666880" y="2362320"/>
            <a:chExt cx="1447920" cy="457200"/>
          </a:xfrm>
        </p:grpSpPr>
        <p:sp>
          <p:nvSpPr>
            <p:cNvPr id="202" name=""/>
            <p:cNvSpPr/>
            <p:nvPr/>
          </p:nvSpPr>
          <p:spPr>
            <a:xfrm>
              <a:off x="3276720" y="2362320"/>
              <a:ext cx="838080" cy="4572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66880" y="2590920"/>
              <a:ext cx="60984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9880" y="2362320"/>
              <a:ext cx="0" cy="4572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962520" y="2362320"/>
            <a:ext cx="1447560" cy="457200"/>
            <a:chOff x="3962520" y="2362320"/>
            <a:chExt cx="1447560" cy="457200"/>
          </a:xfrm>
        </p:grpSpPr>
        <p:sp>
          <p:nvSpPr>
            <p:cNvPr id="206" name=""/>
            <p:cNvSpPr/>
            <p:nvPr/>
          </p:nvSpPr>
          <p:spPr>
            <a:xfrm>
              <a:off x="3962520" y="2590920"/>
              <a:ext cx="60948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0" y="2362320"/>
              <a:ext cx="838080" cy="4572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</a:rPr>
                <a:t>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05520" y="2362320"/>
              <a:ext cx="0" cy="4572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257800" y="2362320"/>
            <a:ext cx="1447920" cy="457200"/>
            <a:chOff x="5257800" y="2362320"/>
            <a:chExt cx="1447920" cy="457200"/>
          </a:xfrm>
        </p:grpSpPr>
        <p:sp>
          <p:nvSpPr>
            <p:cNvPr id="210" name=""/>
            <p:cNvSpPr/>
            <p:nvPr/>
          </p:nvSpPr>
          <p:spPr>
            <a:xfrm>
              <a:off x="5257800" y="2590920"/>
              <a:ext cx="60948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2362320"/>
              <a:ext cx="838440" cy="4572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00800" y="2362320"/>
              <a:ext cx="0" cy="4572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553080" y="2362320"/>
            <a:ext cx="1905120" cy="457200"/>
            <a:chOff x="6553080" y="2362320"/>
            <a:chExt cx="1905120" cy="457200"/>
          </a:xfrm>
        </p:grpSpPr>
        <p:sp>
          <p:nvSpPr>
            <p:cNvPr id="214" name=""/>
            <p:cNvSpPr/>
            <p:nvPr/>
          </p:nvSpPr>
          <p:spPr>
            <a:xfrm>
              <a:off x="6553080" y="2590920"/>
              <a:ext cx="60984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62920" y="2362320"/>
              <a:ext cx="838080" cy="4572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</a:rPr>
                <a:t>5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96080" y="2362320"/>
              <a:ext cx="0" cy="4572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48720" y="2590920"/>
              <a:ext cx="60948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0880" y="3657600"/>
            <a:ext cx="0" cy="609480"/>
          </a:xfrm>
          <a:prstGeom prst="line">
            <a:avLst/>
          </a:prstGeom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0880" y="4038480"/>
            <a:ext cx="1143000" cy="457200"/>
            <a:chOff x="380880" y="4038480"/>
            <a:chExt cx="1143000" cy="457200"/>
          </a:xfrm>
        </p:grpSpPr>
        <p:sp>
          <p:nvSpPr>
            <p:cNvPr id="220" name=""/>
            <p:cNvSpPr/>
            <p:nvPr/>
          </p:nvSpPr>
          <p:spPr>
            <a:xfrm>
              <a:off x="380880" y="4267080"/>
              <a:ext cx="304920" cy="0"/>
            </a:xfrm>
            <a:prstGeom prst="line">
              <a:avLst/>
            </a:prstGeom>
            <a:ln w="31680">
              <a:solidFill>
                <a:srgbClr val="0033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4038480"/>
              <a:ext cx="838080" cy="457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19320" y="4038480"/>
              <a:ext cx="0" cy="457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371600" y="4038480"/>
            <a:ext cx="1447920" cy="457200"/>
            <a:chOff x="1371600" y="4038480"/>
            <a:chExt cx="1447920" cy="457200"/>
          </a:xfrm>
        </p:grpSpPr>
        <p:sp>
          <p:nvSpPr>
            <p:cNvPr id="224" name=""/>
            <p:cNvSpPr/>
            <p:nvPr/>
          </p:nvSpPr>
          <p:spPr>
            <a:xfrm>
              <a:off x="1371600" y="4267080"/>
              <a:ext cx="609480" cy="0"/>
            </a:xfrm>
            <a:prstGeom prst="line">
              <a:avLst/>
            </a:prstGeom>
            <a:ln w="31680">
              <a:solidFill>
                <a:srgbClr val="0033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4038480"/>
              <a:ext cx="838440" cy="457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14600" y="4038480"/>
              <a:ext cx="0" cy="457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666880" y="4038480"/>
            <a:ext cx="1447920" cy="457200"/>
            <a:chOff x="2666880" y="4038480"/>
            <a:chExt cx="1447920" cy="457200"/>
          </a:xfrm>
        </p:grpSpPr>
        <p:sp>
          <p:nvSpPr>
            <p:cNvPr id="228" name=""/>
            <p:cNvSpPr/>
            <p:nvPr/>
          </p:nvSpPr>
          <p:spPr>
            <a:xfrm>
              <a:off x="3276720" y="4038480"/>
              <a:ext cx="838080" cy="457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4267080"/>
              <a:ext cx="609840" cy="0"/>
            </a:xfrm>
            <a:prstGeom prst="line">
              <a:avLst/>
            </a:prstGeom>
            <a:ln w="31680">
              <a:solidFill>
                <a:srgbClr val="0033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4038480"/>
              <a:ext cx="0" cy="457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962520" y="4038480"/>
            <a:ext cx="1447560" cy="457200"/>
            <a:chOff x="3962520" y="4038480"/>
            <a:chExt cx="1447560" cy="457200"/>
          </a:xfrm>
        </p:grpSpPr>
        <p:sp>
          <p:nvSpPr>
            <p:cNvPr id="232" name=""/>
            <p:cNvSpPr/>
            <p:nvPr/>
          </p:nvSpPr>
          <p:spPr>
            <a:xfrm>
              <a:off x="3962520" y="4267080"/>
              <a:ext cx="609480" cy="0"/>
            </a:xfrm>
            <a:prstGeom prst="line">
              <a:avLst/>
            </a:prstGeom>
            <a:ln w="31680">
              <a:solidFill>
                <a:srgbClr val="0033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0" y="4038480"/>
              <a:ext cx="838080" cy="457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05520" y="4038480"/>
              <a:ext cx="0" cy="457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57800" y="4038480"/>
            <a:ext cx="1447920" cy="457200"/>
            <a:chOff x="5257800" y="4038480"/>
            <a:chExt cx="1447920" cy="457200"/>
          </a:xfrm>
        </p:grpSpPr>
        <p:sp>
          <p:nvSpPr>
            <p:cNvPr id="236" name=""/>
            <p:cNvSpPr/>
            <p:nvPr/>
          </p:nvSpPr>
          <p:spPr>
            <a:xfrm>
              <a:off x="5257800" y="4267080"/>
              <a:ext cx="609480" cy="0"/>
            </a:xfrm>
            <a:prstGeom prst="line">
              <a:avLst/>
            </a:prstGeom>
            <a:ln w="31680">
              <a:solidFill>
                <a:srgbClr val="0033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7280" y="4038480"/>
              <a:ext cx="838440" cy="457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4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0800" y="4038480"/>
              <a:ext cx="0" cy="457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53080" y="4038480"/>
            <a:ext cx="1905120" cy="457200"/>
            <a:chOff x="6553080" y="4038480"/>
            <a:chExt cx="1905120" cy="457200"/>
          </a:xfrm>
        </p:grpSpPr>
        <p:sp>
          <p:nvSpPr>
            <p:cNvPr id="240" name=""/>
            <p:cNvSpPr/>
            <p:nvPr/>
          </p:nvSpPr>
          <p:spPr>
            <a:xfrm>
              <a:off x="6553080" y="4267080"/>
              <a:ext cx="609840" cy="0"/>
            </a:xfrm>
            <a:prstGeom prst="line">
              <a:avLst/>
            </a:prstGeom>
            <a:ln w="31680">
              <a:solidFill>
                <a:srgbClr val="0033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62920" y="4038480"/>
              <a:ext cx="838080" cy="4572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96080" y="4038480"/>
              <a:ext cx="0" cy="457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8720" y="4267080"/>
              <a:ext cx="609480" cy="0"/>
            </a:xfrm>
            <a:prstGeom prst="line">
              <a:avLst/>
            </a:prstGeom>
            <a:ln w="31680">
              <a:solidFill>
                <a:srgbClr val="0033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89080" y="1600200"/>
            <a:ext cx="6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90760"/>
            <a:ext cx="6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5334120"/>
            <a:ext cx="0" cy="609480"/>
          </a:xfrm>
          <a:prstGeom prst="line">
            <a:avLst/>
          </a:prstGeom>
          <a:ln w="316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80880" y="5715000"/>
            <a:ext cx="1143000" cy="457200"/>
            <a:chOff x="380880" y="5715000"/>
            <a:chExt cx="1143000" cy="457200"/>
          </a:xfrm>
        </p:grpSpPr>
        <p:sp>
          <p:nvSpPr>
            <p:cNvPr id="248" name=""/>
            <p:cNvSpPr/>
            <p:nvPr/>
          </p:nvSpPr>
          <p:spPr>
            <a:xfrm>
              <a:off x="380880" y="5943600"/>
              <a:ext cx="304920" cy="0"/>
            </a:xfrm>
            <a:prstGeom prst="line">
              <a:avLst/>
            </a:prstGeom>
            <a:ln w="31680">
              <a:solidFill>
                <a:srgbClr val="66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" y="5715000"/>
              <a:ext cx="83808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9320" y="5715000"/>
              <a:ext cx="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62080" y="504360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59200" y="57150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363760" y="1438200"/>
            <a:ext cx="515880" cy="924120"/>
            <a:chOff x="2363760" y="1438200"/>
            <a:chExt cx="515880" cy="924120"/>
          </a:xfrm>
        </p:grpSpPr>
        <p:sp>
          <p:nvSpPr>
            <p:cNvPr id="254" name=""/>
            <p:cNvSpPr/>
            <p:nvPr/>
          </p:nvSpPr>
          <p:spPr>
            <a:xfrm>
              <a:off x="2378160" y="1676520"/>
              <a:ext cx="0" cy="68580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3760" y="143820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imes New Roman"/>
                </a:rPr>
                <a:t>p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77440" y="3114720"/>
            <a:ext cx="537480" cy="923760"/>
            <a:chOff x="2377440" y="3114720"/>
            <a:chExt cx="537480" cy="923760"/>
          </a:xfrm>
        </p:grpSpPr>
        <p:sp>
          <p:nvSpPr>
            <p:cNvPr id="257" name=""/>
            <p:cNvSpPr/>
            <p:nvPr/>
          </p:nvSpPr>
          <p:spPr>
            <a:xfrm>
              <a:off x="2377440" y="31147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</a:rPr>
                <a:t>p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38280" y="3276360"/>
              <a:ext cx="0" cy="762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849320" y="3038400"/>
            <a:ext cx="358920" cy="1000080"/>
            <a:chOff x="1849320" y="3038400"/>
            <a:chExt cx="358920" cy="1000080"/>
          </a:xfrm>
        </p:grpSpPr>
        <p:sp>
          <p:nvSpPr>
            <p:cNvPr id="260" name=""/>
            <p:cNvSpPr/>
            <p:nvPr/>
          </p:nvSpPr>
          <p:spPr>
            <a:xfrm>
              <a:off x="1849320" y="3038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89160" y="32767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52200" y="3114720"/>
            <a:ext cx="537480" cy="923760"/>
            <a:chOff x="3652200" y="3114720"/>
            <a:chExt cx="537480" cy="923760"/>
          </a:xfrm>
        </p:grpSpPr>
        <p:sp>
          <p:nvSpPr>
            <p:cNvPr id="263" name=""/>
            <p:cNvSpPr/>
            <p:nvPr/>
          </p:nvSpPr>
          <p:spPr>
            <a:xfrm>
              <a:off x="3652200" y="31147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</a:rPr>
                <a:t>p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13040" y="3276360"/>
              <a:ext cx="0" cy="762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362320" y="3200400"/>
            <a:ext cx="533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4114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4038480"/>
            <a:ext cx="30492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5715000"/>
            <a:ext cx="30456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70320" y="403848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3"/>
            <a:endCxn id="225" idx="1"/>
          </p:cNvCxnSpPr>
          <p:nvPr/>
        </p:nvCxnSpPr>
        <p:spPr>
          <a:xfrm flipV="1">
            <a:off x="1537920" y="4266360"/>
            <a:ext cx="429480" cy="1677240"/>
          </a:xfrm>
          <a:prstGeom prst="bentConnector3">
            <a:avLst>
              <a:gd name="adj1" fmla="val 50000"/>
            </a:avLst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grpSp>
        <p:nvGrpSpPr>
          <p:cNvPr id="271" name=""/>
          <p:cNvGrpSpPr/>
          <p:nvPr/>
        </p:nvGrpSpPr>
        <p:grpSpPr>
          <a:xfrm>
            <a:off x="1830240" y="1362240"/>
            <a:ext cx="358920" cy="1000080"/>
            <a:chOff x="1830240" y="1362240"/>
            <a:chExt cx="358920" cy="1000080"/>
          </a:xfrm>
        </p:grpSpPr>
        <p:sp>
          <p:nvSpPr>
            <p:cNvPr id="272" name=""/>
            <p:cNvSpPr/>
            <p:nvPr/>
          </p:nvSpPr>
          <p:spPr>
            <a:xfrm>
              <a:off x="1830240" y="1362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70080" y="160056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905120" y="312408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14600" y="2362320"/>
            <a:ext cx="304920" cy="457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/>
          <p:nvPr/>
        </p:nvCxnSpPr>
        <p:spPr>
          <a:xfrm flipH="1">
            <a:off x="2361960" y="2590920"/>
            <a:ext cx="434160" cy="1434240"/>
          </a:xfrm>
          <a:prstGeom prst="bentConnector4">
            <a:avLst>
              <a:gd name="adj1" fmla="val -45394"/>
              <a:gd name="adj2" fmla="val 58448"/>
            </a:avLst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sp>
        <p:nvSpPr>
          <p:cNvPr id="278" name=""/>
          <p:cNvSpPr/>
          <p:nvPr/>
        </p:nvSpPr>
        <p:spPr>
          <a:xfrm>
            <a:off x="1752480" y="41148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8" idx="3"/>
            <a:endCxn id="199" idx="1"/>
          </p:cNvCxnSpPr>
          <p:nvPr/>
        </p:nvCxnSpPr>
        <p:spPr>
          <a:xfrm flipV="1">
            <a:off x="1537920" y="2590200"/>
            <a:ext cx="429480" cy="3353400"/>
          </a:xfrm>
          <a:prstGeom prst="bentConnector3">
            <a:avLst>
              <a:gd name="adj1" fmla="val 50000"/>
            </a:avLst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grpSp>
        <p:nvGrpSpPr>
          <p:cNvPr id="280" name=""/>
          <p:cNvGrpSpPr/>
          <p:nvPr/>
        </p:nvGrpSpPr>
        <p:grpSpPr>
          <a:xfrm>
            <a:off x="3673440" y="1447920"/>
            <a:ext cx="515880" cy="923400"/>
            <a:chOff x="3673440" y="1447920"/>
            <a:chExt cx="515880" cy="923400"/>
          </a:xfrm>
        </p:grpSpPr>
        <p:sp>
          <p:nvSpPr>
            <p:cNvPr id="281" name=""/>
            <p:cNvSpPr/>
            <p:nvPr/>
          </p:nvSpPr>
          <p:spPr>
            <a:xfrm>
              <a:off x="3687840" y="1685880"/>
              <a:ext cx="0" cy="68544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73440" y="144792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imes New Roman"/>
                </a:rPr>
                <a:t>p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286000" y="1523880"/>
            <a:ext cx="533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125520" y="1371600"/>
            <a:ext cx="358920" cy="1000080"/>
            <a:chOff x="3125520" y="1371600"/>
            <a:chExt cx="358920" cy="1000080"/>
          </a:xfrm>
        </p:grpSpPr>
        <p:sp>
          <p:nvSpPr>
            <p:cNvPr id="285" name=""/>
            <p:cNvSpPr/>
            <p:nvPr/>
          </p:nvSpPr>
          <p:spPr>
            <a:xfrm>
              <a:off x="3125520" y="1371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65360" y="16099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905120" y="144792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2514600"/>
            <a:ext cx="152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68" idx="3"/>
            <a:endCxn id="202" idx="1"/>
          </p:cNvCxnSpPr>
          <p:nvPr/>
        </p:nvCxnSpPr>
        <p:spPr>
          <a:xfrm flipV="1">
            <a:off x="1537920" y="2590200"/>
            <a:ext cx="1724760" cy="3353400"/>
          </a:xfrm>
          <a:prstGeom prst="bentConnector3">
            <a:avLst>
              <a:gd name="adj1" fmla="val 89582"/>
            </a:avLst>
          </a:prstGeom>
          <a:ln w="38160">
            <a:solidFill>
              <a:srgbClr val="800000"/>
            </a:solidFill>
            <a:miter/>
            <a:tailEnd len="med" type="triangle" w="med"/>
          </a:ln>
        </p:spPr>
      </p:cxnSp>
      <p:grpSp>
        <p:nvGrpSpPr>
          <p:cNvPr id="290" name=""/>
          <p:cNvGrpSpPr/>
          <p:nvPr/>
        </p:nvGrpSpPr>
        <p:grpSpPr>
          <a:xfrm>
            <a:off x="4892400" y="1447920"/>
            <a:ext cx="515880" cy="923400"/>
            <a:chOff x="4892400" y="1447920"/>
            <a:chExt cx="515880" cy="923400"/>
          </a:xfrm>
        </p:grpSpPr>
        <p:sp>
          <p:nvSpPr>
            <p:cNvPr id="291" name=""/>
            <p:cNvSpPr/>
            <p:nvPr/>
          </p:nvSpPr>
          <p:spPr>
            <a:xfrm>
              <a:off x="4906800" y="1685880"/>
              <a:ext cx="0" cy="68544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92400" y="144792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imes New Roman"/>
                </a:rPr>
                <a:t>p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581280" y="1600200"/>
            <a:ext cx="533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2514600"/>
            <a:ext cx="685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2362320"/>
            <a:ext cx="304920" cy="457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5" idx="3"/>
            <a:endCxn id="199" idx="1"/>
          </p:cNvCxnSpPr>
          <p:nvPr/>
        </p:nvCxnSpPr>
        <p:spPr>
          <a:xfrm flipH="1">
            <a:off x="1966680" y="2590920"/>
            <a:ext cx="2162880" cy="2160"/>
          </a:xfrm>
          <a:prstGeom prst="bentConnector5">
            <a:avLst>
              <a:gd name="adj1" fmla="val -9905"/>
              <a:gd name="adj2" fmla="val -68400000"/>
              <a:gd name="adj3" fmla="val 109905"/>
            </a:avLst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grpSp>
        <p:nvGrpSpPr>
          <p:cNvPr id="297" name=""/>
          <p:cNvGrpSpPr/>
          <p:nvPr/>
        </p:nvGrpSpPr>
        <p:grpSpPr>
          <a:xfrm>
            <a:off x="3125520" y="3038400"/>
            <a:ext cx="358920" cy="1000080"/>
            <a:chOff x="3125520" y="3038400"/>
            <a:chExt cx="358920" cy="1000080"/>
          </a:xfrm>
        </p:grpSpPr>
        <p:sp>
          <p:nvSpPr>
            <p:cNvPr id="298" name=""/>
            <p:cNvSpPr/>
            <p:nvPr/>
          </p:nvSpPr>
          <p:spPr>
            <a:xfrm>
              <a:off x="3125520" y="3038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65360" y="32767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200400" y="1523880"/>
            <a:ext cx="533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033200" y="141120"/>
            <a:ext cx="19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操作步骤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8680" y="1035000"/>
            <a:ext cx="24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1)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建空表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Lc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3640" y="1828800"/>
            <a:ext cx="8398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2)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依次从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La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或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Lb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中“摘取”元素值较小的结点插入到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Lc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表中第一个结点之前直至其中一个表变空为止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4038480"/>
            <a:ext cx="839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继续将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La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或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Lb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其中一个表的剩余结点插入在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Lc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表的表头结点之后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8440" y="5683320"/>
            <a:ext cx="57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4)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释放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La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表和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Lb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表的表头结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89080" y="324000"/>
            <a:ext cx="855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union( LinkList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Lc, LinkList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L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LinkList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Lb)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663300"/>
                </a:solidFill>
                <a:latin typeface="隶书"/>
                <a:ea typeface="隶书"/>
              </a:rPr>
              <a:t>将非递减的有序表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La </a:t>
            </a:r>
            <a:r>
              <a:rPr b="0" lang="zh-CN" sz="3200" spc="-1" strike="noStrike">
                <a:solidFill>
                  <a:srgbClr val="6633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Lb</a:t>
            </a:r>
            <a:r>
              <a:rPr b="0" lang="zh-CN" sz="3200" spc="-1" strike="noStrike">
                <a:solidFill>
                  <a:srgbClr val="663300"/>
                </a:solidFill>
                <a:latin typeface="隶书"/>
                <a:ea typeface="隶书"/>
              </a:rPr>
              <a:t>归并为非递增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663300"/>
                </a:solidFill>
                <a:latin typeface="隶书"/>
                <a:ea typeface="隶书"/>
              </a:rPr>
              <a:t>有序表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Lc</a:t>
            </a:r>
            <a:r>
              <a:rPr b="0" lang="zh-CN" sz="3200" spc="-1" strike="noStrike">
                <a:solidFill>
                  <a:srgbClr val="6633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663300"/>
                </a:solidFill>
                <a:latin typeface="隶书"/>
                <a:ea typeface="隶书"/>
              </a:rPr>
              <a:t>归并之后，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La</a:t>
            </a:r>
            <a:r>
              <a:rPr b="0" lang="zh-CN" sz="3200" spc="-1" strike="noStrike">
                <a:solidFill>
                  <a:srgbClr val="6633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Lb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表</a:t>
            </a:r>
            <a:r>
              <a:rPr b="0" lang="zh-CN" sz="3200" spc="-1" strike="noStrike">
                <a:solidFill>
                  <a:srgbClr val="663300"/>
                </a:solidFill>
                <a:latin typeface="隶书"/>
                <a:ea typeface="隶书"/>
              </a:rPr>
              <a:t>不再存在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上述三个表均为带头结点的单链表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Lc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表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中的结点即为原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La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或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Lb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表中的结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5480" y="3429000"/>
            <a:ext cx="84362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Lc =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new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LNode;  Lc-&gt;next =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NULL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pa = La-&gt;next;  pb = Lb-&gt;next;              //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初始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1071360" y="47545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……  ……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/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归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4000" y="5429160"/>
            <a:ext cx="78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delete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La;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delete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Lb;    //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释放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La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Lb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头结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200" y="609588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} // u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8264160" y="6116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50520" y="777960"/>
            <a:ext cx="7579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while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( pa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||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pb 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if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( !pa )  { q = pb;  pb = pb-&gt;next;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else if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( !pb )  { q = pa;  pa = pa-&gt;next; 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else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(pa-&gt;data &lt;= pb-&gt;data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{ q = pa;  pa = pa-&gt;next;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else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{ q = pb;  pb = pb-&gt;next;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q-&gt;next = Lc-&gt;next;  Lc-&gt;next = q;    //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插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838440" cy="457200"/>
          </a:xfrm>
          <a:custGeom>
            <a:avLst/>
            <a:gdLst>
              <a:gd name="textAreaLeft" fmla="*/ 131040 w 838440"/>
              <a:gd name="textAreaRight" fmla="*/ 733680 w 8384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26520" y="411120"/>
            <a:ext cx="48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完成此题用到了题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.24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和题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.20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的解题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200" y="1020600"/>
            <a:ext cx="78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首先分析，需插入到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表中的元素的特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04480" y="1771560"/>
            <a:ext cx="32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1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表中的元素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2240" y="2362320"/>
            <a:ext cx="41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2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在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表中有相同值的元素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2971800"/>
            <a:ext cx="8077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3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在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表中尚未有值相同的元素，即该元素的值和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C 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表表尾的元素值不等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4141800"/>
            <a:ext cx="85345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由此可见，此题的“控制结构”和题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.24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基本相同。差异仅在于循环体的内部，对只存在于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表中或只存在于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B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表中的元素均不予理睬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只需要考虑两表中值相同的元素是否插入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C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表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0"/>
            <a:ext cx="1203480" cy="4597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70880" y="228600"/>
            <a:ext cx="21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算法的基本思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00800" y="914400"/>
            <a:ext cx="51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1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设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表为空表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k=0; i=j=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448920" y="1631880"/>
            <a:ext cx="915804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2) while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( A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表不空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&amp;&amp;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B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表不空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取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表中的元素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a</a:t>
            </a:r>
            <a:r>
              <a:rPr b="0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i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取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B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表中的元素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b</a:t>
            </a:r>
            <a:r>
              <a:rPr b="0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j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( a</a:t>
            </a:r>
            <a:r>
              <a:rPr b="0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i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&lt;b</a:t>
            </a:r>
            <a:r>
              <a:rPr b="0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j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)  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else if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( a</a:t>
            </a:r>
            <a:r>
              <a:rPr b="0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i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&gt;b</a:t>
            </a:r>
            <a:r>
              <a:rPr b="0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j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)  j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else {  if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( k=0 || c</a:t>
            </a:r>
            <a:r>
              <a:rPr b="0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k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!=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a</a:t>
            </a:r>
            <a:r>
              <a:rPr b="0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i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           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将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a</a:t>
            </a:r>
            <a:r>
              <a:rPr b="0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i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插入到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C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表的表尾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        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i++;  j++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9360" y="131760"/>
            <a:ext cx="7279560" cy="67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void Intersect_Sq(  SqList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a,  SqList b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//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从顺序表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中删除所有顺序表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中不存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//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元素，并且值相同的元素只留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i=j=0;  k= -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while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( i&lt;=a.length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&amp;&amp;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j&lt;=b.length 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if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( a.elem[i] &lt; b.elem[j] )  i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else  if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( a.elem[i] &gt; b.elem[j] )  j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else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( k= -1 || a.elem[i] != a.elem[k]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a.elem[++k] = a.elem[i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i++;   j++; } //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}//w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a.length = k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}//Intersect_Sq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33720" y="152280"/>
            <a:ext cx="6705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已知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A, B</a:t>
            </a: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C</a:t>
            </a: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为三个有序链表，编写算法从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表中删除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B</a:t>
            </a: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表和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C</a:t>
            </a: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表中共有的数据元素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228600"/>
            <a:ext cx="1447920" cy="5814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2.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85640" y="2065320"/>
            <a:ext cx="5283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首先分析被删元素的特点为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0" lang="zh-CN" sz="3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b</a:t>
            </a:r>
            <a:r>
              <a:rPr b="0" lang="zh-CN" sz="3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j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c</a:t>
            </a:r>
            <a:r>
              <a:rPr b="0" lang="zh-CN" sz="3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70480" y="2719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其它元素则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82880" y="3443400"/>
            <a:ext cx="1296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0" lang="zh-CN" sz="4800" spc="-1" strike="noStrike" baseline="-25000">
                <a:solidFill>
                  <a:srgbClr val="6600ff"/>
                </a:solidFill>
                <a:latin typeface="Times New Roman"/>
              </a:rPr>
              <a:t>i</a:t>
            </a:r>
            <a:r>
              <a:rPr b="0" lang="zh-CN" sz="4800" spc="-1" strike="noStrike">
                <a:solidFill>
                  <a:srgbClr val="6600ff"/>
                </a:solidFill>
                <a:latin typeface="Times New Roman"/>
              </a:rPr>
              <a:t>&lt;b</a:t>
            </a:r>
            <a:r>
              <a:rPr b="0" lang="zh-CN" sz="4800" spc="-1" strike="noStrike" baseline="-25000">
                <a:solidFill>
                  <a:srgbClr val="6600ff"/>
                </a:solidFill>
                <a:latin typeface="Times New Roman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55520" y="3443400"/>
            <a:ext cx="137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0" lang="zh-CN" sz="4800" spc="-1" strike="noStrike" baseline="-25000">
                <a:solidFill>
                  <a:srgbClr val="6600ff"/>
                </a:solidFill>
                <a:latin typeface="Times New Roman"/>
              </a:rPr>
              <a:t>j</a:t>
            </a:r>
            <a:r>
              <a:rPr b="0" lang="zh-CN" sz="4800" spc="-1" strike="noStrike">
                <a:solidFill>
                  <a:srgbClr val="6600ff"/>
                </a:solidFill>
                <a:latin typeface="Times New Roman"/>
              </a:rPr>
              <a:t>&lt;c</a:t>
            </a:r>
            <a:r>
              <a:rPr b="0" lang="zh-CN" sz="4800" spc="-1" strike="noStrike" baseline="-25000">
                <a:solidFill>
                  <a:srgbClr val="6600ff"/>
                </a:solidFill>
                <a:latin typeface="Times New Roman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21680" y="3443400"/>
            <a:ext cx="1342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0" lang="zh-CN" sz="4800" spc="-1" strike="noStrike" baseline="-25000">
                <a:solidFill>
                  <a:srgbClr val="6600ff"/>
                </a:solidFill>
                <a:latin typeface="Times New Roman"/>
              </a:rPr>
              <a:t>k</a:t>
            </a:r>
            <a:r>
              <a:rPr b="0" lang="zh-CN" sz="4800" spc="-1" strike="noStrike">
                <a:solidFill>
                  <a:srgbClr val="6600ff"/>
                </a:solidFill>
                <a:latin typeface="Times New Roman"/>
              </a:rPr>
              <a:t>&lt;a</a:t>
            </a:r>
            <a:r>
              <a:rPr b="0" lang="zh-CN" sz="4800" spc="-1" strike="noStrike" baseline="-25000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72360" y="3565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15560" y="3565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4479840"/>
            <a:ext cx="861048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设三个指针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pa, pb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和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pc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分别指向这三个链表中的相应结点，则算法中的主要操作为：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比较这三个结点元素的大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89080" y="399960"/>
            <a:ext cx="862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Difference_L( LinkList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La,  LinkList Lb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LinkList Lc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// La, Lb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Lc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分别为三个非递减有序的单链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的头指针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，从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La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表中删除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所有的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既在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Lb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中出现，又在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Lc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表中出现的元素结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3360" y="2755800"/>
            <a:ext cx="5447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pre= pa;   pa=La-&gt;nex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pb=Lb-&gt;next;  pc=Lc-&gt;nex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57880" y="4127400"/>
            <a:ext cx="52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while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(pa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pb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pc)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      …… 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// w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200" y="601992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}//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01684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812772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09480" y="16002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else i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pb-&gt;data&lt;pc-&gt;dat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pb=pb-&gt;nex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9400" y="2895480"/>
            <a:ext cx="527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else i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pc-&gt;data&lt;pa-&gt;data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pc=pc-&gt;nex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76320" y="4191120"/>
            <a:ext cx="7081560" cy="228816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else {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pre-&gt;next=pa-&gt;next;  delete p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pa=pre-&gt;next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}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//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删除，注意没有移动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b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和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c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才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实现删除所有满足条件的结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2000" y="352440"/>
            <a:ext cx="5297040" cy="119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pa-&gt;data&lt;pb-&gt;data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{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pre=pa;  pa=pa-&gt;next;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8077320" y="63244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4600" y="304920"/>
            <a:ext cx="841644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Status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Insert_Sq( SqList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va, ElemType x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已知顺序表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va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中元素依值非递减有序排列，本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插入新的元素 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x 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并保持原表的有序性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返回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OK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若顺序表空间已满，则不再插入并返回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OVER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(va.length = va.listsize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return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OVERFLOW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i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(i&lt;va.length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&amp;&amp;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x&gt;=va.elem[i]) 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( j=va.length; j&gt;i; j--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va.elem[j] = va.elem[j-1];   //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右移所有值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&gt;x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的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va.elem[i] = x;  va.length++;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return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O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} //Insert_S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01000" y="34920"/>
            <a:ext cx="105084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题 </a:t>
            </a: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52280" y="111240"/>
            <a:ext cx="1600200" cy="5814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2.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52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在双向循环链表的结点中，增加一个访问频度的数据域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freq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，编写算法实现 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LOCATE(L,x)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1728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注意算法的两个要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2362320"/>
            <a:ext cx="85345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(1) 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算法的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基本操作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应该是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在链表中进行搜索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至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==L || p-&gt;data==x 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止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3733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(2)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在访问频度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freq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增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之后，需将该结点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调整到适当位置</a:t>
            </a:r>
            <a:r>
              <a:rPr b="0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。向前搜索直至找到一个访问频度大于它的结点为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6629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876920" y="5562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76920" y="6019920"/>
            <a:ext cx="1522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6172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6324480"/>
            <a:ext cx="10666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6477120"/>
            <a:ext cx="1067040" cy="1522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43600" y="6172200"/>
            <a:ext cx="15228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6172200"/>
            <a:ext cx="15228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38680" y="6324480"/>
            <a:ext cx="9144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617220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59640" y="5334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访问频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52360" y="152280"/>
            <a:ext cx="56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p=L-&gt;next; // L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为双向链表的头指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836640"/>
            <a:ext cx="8458200" cy="119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while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p!=L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p-&gt;data!=x)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p=p-&gt;next; //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搜索元素值为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x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的结点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*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9520" y="2133720"/>
            <a:ext cx="86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f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(p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==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) 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turn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NULL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9080" y="2895480"/>
            <a:ext cx="8626320" cy="1800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q=p-&gt;priou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while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(q!=L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q-&gt;freq&lt;p-&gt;freq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q=q-&gt;priou;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//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搜索访问频度不小于它的结点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*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46520" y="4848120"/>
            <a:ext cx="58381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将结点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*p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从当前位置上删除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之后将结点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*p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插入在结点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*q 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之后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return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</a:rPr>
              <a:t> 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7772400" y="152280"/>
            <a:ext cx="1219320" cy="4597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" y="247680"/>
            <a:ext cx="799416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Difference_L( LinkedPoly pa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</a:rPr>
              <a:t>// pa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为指向稀疏多项式循环链表的头指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本算法将链表改变为该多项式的导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 = pa-&gt;next;  pre = p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 p !=pa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( p-&gt;data.exp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!=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-&gt;data.coef*=p-&gt;data.exp-- ;  pre = p; 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else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{   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删除零次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re-&gt;next = p-&gt;next;   delete 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//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 = pre-&gt;nex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//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//Difference_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152280"/>
            <a:ext cx="1600200" cy="5814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2.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76320"/>
            <a:ext cx="56386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已知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A=(a1, a2, …, 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B=(b1, b2, …, b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均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顺序表</a:t>
            </a: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试编写一个比较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A¸B</a:t>
            </a: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大小的算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2160" y="1752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514600"/>
            <a:ext cx="8686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算法的目标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是分析两个表的大小，则算法中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不应当破坏原表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886200"/>
            <a:ext cx="8664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.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按题意，表的大小指的是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词典次序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，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则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不应当先比较两个表的长度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257800"/>
            <a:ext cx="8397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3.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算法中的基本操作为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步比较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两个表中相应的数据元素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31800" y="1066680"/>
            <a:ext cx="7597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i&lt;La.Length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&amp;&amp;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i&lt;Lb.Length)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763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nt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compare(SqList La, SqList Lb)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1711440"/>
            <a:ext cx="6629400" cy="250740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(La.elem[i]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==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Lb.elem[i])  i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else if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(La.elem[i]&lt;Lb.elem[i]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return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-1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else return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1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240" y="68580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i=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640" y="4676760"/>
            <a:ext cx="8550360" cy="72468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</a:rPr>
              <a:t> ( i&gt;La.length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</a:rPr>
              <a:t> i&gt;Lb.Length)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</a:rPr>
              <a:t> 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251320"/>
            <a:ext cx="647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else  if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(i&gt;Lb.Length)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return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1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else  return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-1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1360" y="6216480"/>
            <a:ext cx="3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2.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228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删除有序表中所有其值大于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mink </a:t>
            </a: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且小于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maxk</a:t>
            </a:r>
            <a:r>
              <a:rPr b="0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的数据元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00040" y="3197160"/>
            <a:ext cx="762120" cy="3812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3197160"/>
            <a:ext cx="762120" cy="38124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62560" y="3197160"/>
            <a:ext cx="762120" cy="38124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34160" y="3197160"/>
            <a:ext cx="762120" cy="3812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endCxn id="74" idx="1"/>
          </p:cNvCxnSpPr>
          <p:nvPr/>
        </p:nvCxnSpPr>
        <p:spPr>
          <a:xfrm flipV="1">
            <a:off x="713880" y="3387240"/>
            <a:ext cx="68652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2085480" y="3387240"/>
            <a:ext cx="68652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4676400" y="3425400"/>
            <a:ext cx="68652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6048000" y="3387240"/>
            <a:ext cx="686520" cy="38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689120" y="15238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首先分析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需要删除的结点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3240" y="3753000"/>
            <a:ext cx="31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&lt;=mink     &gt;m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71360" y="3753000"/>
            <a:ext cx="33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&lt; maxk    &gt;=ma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62160" y="32734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390760" y="29682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0760" y="2968560"/>
            <a:ext cx="3886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76960" y="296856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76960" y="3273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5146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51560" y="208764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25146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7800" y="205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4382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276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1040" y="4616280"/>
            <a:ext cx="46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修改指针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re-&gt;next = 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3160" y="5378400"/>
            <a:ext cx="819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释放结点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hile (q!=p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{s=q-&gt;next;  free(q);  q=s;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20600" y="303840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9440" y="0"/>
            <a:ext cx="79776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void delete(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LinkList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L,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mink,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maxk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} //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41720" y="1066680"/>
            <a:ext cx="6677640" cy="12333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while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&amp;&amp;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p-&gt;data&lt;=mink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{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pre=p;  p=p-&gt;next;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  <a:ea typeface="隶书"/>
              </a:rPr>
              <a:t>查找第一个值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&gt;mink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  <a:ea typeface="隶书"/>
              </a:rPr>
              <a:t>的结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5920" y="2373480"/>
            <a:ext cx="126900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(p)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} //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120" y="4114800"/>
            <a:ext cx="81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q=pre-&gt;next;   pre-&gt;next=p;  // 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修改指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120" y="4776840"/>
            <a:ext cx="8283600" cy="113004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(q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!=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p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{ </a:t>
            </a:r>
            <a:r>
              <a:rPr b="0" lang="zh-CN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s=q-&gt;next;  delete q;  q=s;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9999"/>
                </a:solidFill>
                <a:latin typeface="Times New Roman"/>
              </a:rPr>
              <a:t>//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隶书"/>
              </a:rPr>
              <a:t>释放结点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5520" y="457200"/>
            <a:ext cx="20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=L-&gt;nex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240" y="2895480"/>
            <a:ext cx="7091280" cy="113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while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(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&amp;&amp;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p-&gt;data&lt;maxk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p=p-&gt;nex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  <a:ea typeface="隶书"/>
              </a:rPr>
              <a:t>查找第一个值 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</a:rPr>
              <a:t>≥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</a:rPr>
              <a:t>maxk 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  <a:ea typeface="隶书"/>
              </a:rPr>
              <a:t>的结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70164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264160" y="6192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406320" y="24300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此题即为例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2-2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的第二种算法在单链表中的具体实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3960" y="781200"/>
            <a:ext cx="8678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purge_L( LinkList La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删除带头结点的单链表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La 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中所有多余的结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(La-&gt;next) {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//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只需要处理非空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p = La-&gt;next;  suc = p-&gt;nex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while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(suc)   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尚有后继未检查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(suc-&gt;data == p-&gt;data)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q = suc;  suc = suc-&gt;next;  delete q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}     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//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释放值相同的结点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else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{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//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链接值不同的结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p-&gt;next= suc;  p = suc;  suc = suc-&gt;next;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}//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}//purge_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5440" y="0"/>
            <a:ext cx="89856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Arial"/>
              </a:rPr>
              <a:t>题 </a:t>
            </a:r>
            <a:r>
              <a:rPr b="1" lang="zh-CN" sz="1600" spc="-1" strike="noStrike">
                <a:solidFill>
                  <a:srgbClr val="800000"/>
                </a:solidFill>
                <a:latin typeface="Arial"/>
              </a:rPr>
              <a:t>2.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15228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.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840" y="168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逆置线性链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820880"/>
            <a:ext cx="1143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1820880"/>
            <a:ext cx="0" cy="533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812960"/>
            <a:ext cx="761760" cy="579600"/>
          </a:xfrm>
          <a:prstGeom prst="rect">
            <a:avLst/>
          </a:prstGeom>
          <a:solidFill>
            <a:srgbClr val="ffff99">
              <a:alpha val="50000"/>
            </a:srgbClr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828800"/>
            <a:ext cx="381240" cy="525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820880"/>
            <a:ext cx="761760" cy="579600"/>
          </a:xfrm>
          <a:prstGeom prst="rect">
            <a:avLst/>
          </a:prstGeom>
          <a:solidFill>
            <a:srgbClr val="ffff99">
              <a:alpha val="50000"/>
            </a:srgbClr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1820880"/>
            <a:ext cx="381240" cy="5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820880"/>
            <a:ext cx="761760" cy="579600"/>
          </a:xfrm>
          <a:prstGeom prst="rect">
            <a:avLst/>
          </a:prstGeom>
          <a:solidFill>
            <a:srgbClr val="ffff99">
              <a:alpha val="50000"/>
            </a:srgbClr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1820880"/>
            <a:ext cx="381240" cy="5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2125800"/>
            <a:ext cx="533520" cy="0"/>
          </a:xfrm>
          <a:prstGeom prst="line">
            <a:avLst/>
          </a:prstGeom>
          <a:ln w="2232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2125800"/>
            <a:ext cx="685800" cy="0"/>
          </a:xfrm>
          <a:prstGeom prst="line">
            <a:avLst/>
          </a:prstGeom>
          <a:ln w="22320">
            <a:solidFill>
              <a:srgbClr val="cc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2133720"/>
            <a:ext cx="685800" cy="0"/>
          </a:xfrm>
          <a:prstGeom prst="line">
            <a:avLst/>
          </a:prstGeom>
          <a:ln w="22320">
            <a:solidFill>
              <a:srgbClr val="cc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1820880"/>
            <a:ext cx="228600" cy="520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600200"/>
            <a:ext cx="0" cy="457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057400"/>
            <a:ext cx="685800" cy="0"/>
          </a:xfrm>
          <a:prstGeom prst="line">
            <a:avLst/>
          </a:prstGeom>
          <a:ln w="255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680" y="12636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676520" y="4038480"/>
            <a:ext cx="1143000" cy="533520"/>
            <a:chOff x="1676520" y="4038480"/>
            <a:chExt cx="1143000" cy="533520"/>
          </a:xfrm>
        </p:grpSpPr>
        <p:sp>
          <p:nvSpPr>
            <p:cNvPr id="131" name=""/>
            <p:cNvSpPr/>
            <p:nvPr/>
          </p:nvSpPr>
          <p:spPr>
            <a:xfrm>
              <a:off x="1676520" y="4038480"/>
              <a:ext cx="11430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38280" y="4038480"/>
              <a:ext cx="0" cy="533520"/>
            </a:xfrm>
            <a:prstGeom prst="line">
              <a:avLst/>
            </a:prstGeom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35320" y="3481560"/>
            <a:ext cx="1141200" cy="793440"/>
            <a:chOff x="535320" y="3481560"/>
            <a:chExt cx="1141200" cy="793440"/>
          </a:xfrm>
        </p:grpSpPr>
        <p:sp>
          <p:nvSpPr>
            <p:cNvPr id="134" name=""/>
            <p:cNvSpPr/>
            <p:nvPr/>
          </p:nvSpPr>
          <p:spPr>
            <a:xfrm>
              <a:off x="990720" y="4275000"/>
              <a:ext cx="685800" cy="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90720" y="3817800"/>
              <a:ext cx="0" cy="457200"/>
            </a:xfrm>
            <a:prstGeom prst="line">
              <a:avLst/>
            </a:prstGeom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320" y="34815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00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1371600"/>
            <a:ext cx="2667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10666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17880" y="806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98760" y="39225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Symbol"/>
                <a:ea typeface="Symbol"/>
              </a:rPr>
              <a:t>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11680" y="838080"/>
            <a:ext cx="992880" cy="1022400"/>
            <a:chOff x="3811680" y="838080"/>
            <a:chExt cx="992880" cy="1022400"/>
          </a:xfrm>
        </p:grpSpPr>
        <p:sp>
          <p:nvSpPr>
            <p:cNvPr id="142" name=""/>
            <p:cNvSpPr/>
            <p:nvPr/>
          </p:nvSpPr>
          <p:spPr>
            <a:xfrm>
              <a:off x="4800240" y="1098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11680" y="83808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</a:rPr>
                <a:t>suc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172200" y="4038480"/>
            <a:ext cx="762120" cy="579600"/>
          </a:xfrm>
          <a:prstGeom prst="rect">
            <a:avLst/>
          </a:prstGeom>
          <a:solidFill>
            <a:srgbClr val="ffff99">
              <a:alpha val="50000"/>
            </a:srgbClr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4046400"/>
            <a:ext cx="3808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3976560"/>
            <a:ext cx="304560" cy="520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343400"/>
            <a:ext cx="3581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878360" y="838080"/>
            <a:ext cx="411120" cy="1022400"/>
            <a:chOff x="4878360" y="838080"/>
            <a:chExt cx="411120" cy="1022400"/>
          </a:xfrm>
        </p:grpSpPr>
        <p:sp>
          <p:nvSpPr>
            <p:cNvPr id="149" name=""/>
            <p:cNvSpPr/>
            <p:nvPr/>
          </p:nvSpPr>
          <p:spPr>
            <a:xfrm>
              <a:off x="5289480" y="1098720"/>
              <a:ext cx="0" cy="76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78360" y="838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666880" y="914400"/>
            <a:ext cx="1067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7524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482080" y="838080"/>
            <a:ext cx="992880" cy="1022400"/>
            <a:chOff x="5482080" y="838080"/>
            <a:chExt cx="992880" cy="1022400"/>
          </a:xfrm>
        </p:grpSpPr>
        <p:sp>
          <p:nvSpPr>
            <p:cNvPr id="154" name=""/>
            <p:cNvSpPr/>
            <p:nvPr/>
          </p:nvSpPr>
          <p:spPr>
            <a:xfrm>
              <a:off x="6470640" y="1098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82080" y="83808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</a:rPr>
                <a:t>suc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86200" y="106668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268800"/>
            <a:ext cx="762120" cy="579600"/>
          </a:xfrm>
          <a:prstGeom prst="rect">
            <a:avLst/>
          </a:prstGeom>
          <a:solidFill>
            <a:srgbClr val="ffff99">
              <a:alpha val="50000"/>
            </a:srgbClr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268800"/>
            <a:ext cx="38088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18288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5053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505320"/>
            <a:ext cx="0" cy="5331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35053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505320"/>
            <a:ext cx="2012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267080"/>
            <a:ext cx="335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4038480"/>
            <a:ext cx="3812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523200" y="838080"/>
            <a:ext cx="409320" cy="1022400"/>
            <a:chOff x="6523200" y="838080"/>
            <a:chExt cx="409320" cy="1022400"/>
          </a:xfrm>
        </p:grpSpPr>
        <p:sp>
          <p:nvSpPr>
            <p:cNvPr id="167" name=""/>
            <p:cNvSpPr/>
            <p:nvPr/>
          </p:nvSpPr>
          <p:spPr>
            <a:xfrm>
              <a:off x="6858000" y="1098720"/>
              <a:ext cx="0" cy="76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23200" y="838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952880" y="914400"/>
            <a:ext cx="533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05960" y="806400"/>
            <a:ext cx="995040" cy="1022400"/>
            <a:chOff x="7005960" y="806400"/>
            <a:chExt cx="995040" cy="1022400"/>
          </a:xfrm>
        </p:grpSpPr>
        <p:sp>
          <p:nvSpPr>
            <p:cNvPr id="171" name=""/>
            <p:cNvSpPr/>
            <p:nvPr/>
          </p:nvSpPr>
          <p:spPr>
            <a:xfrm>
              <a:off x="8001000" y="10666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05960" y="80640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</a:rPr>
                <a:t>suc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486400" y="1066680"/>
            <a:ext cx="1066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430360"/>
            <a:ext cx="761760" cy="579600"/>
          </a:xfrm>
          <a:prstGeom prst="rect">
            <a:avLst/>
          </a:prstGeom>
          <a:solidFill>
            <a:srgbClr val="ffff99">
              <a:alpha val="50000"/>
            </a:srgbClr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0360"/>
            <a:ext cx="381240" cy="5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27432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27432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90920" y="297180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3526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970760" y="838080"/>
            <a:ext cx="409320" cy="1022400"/>
            <a:chOff x="7970760" y="838080"/>
            <a:chExt cx="409320" cy="1022400"/>
          </a:xfrm>
        </p:grpSpPr>
        <p:sp>
          <p:nvSpPr>
            <p:cNvPr id="181" name=""/>
            <p:cNvSpPr/>
            <p:nvPr/>
          </p:nvSpPr>
          <p:spPr>
            <a:xfrm>
              <a:off x="8305920" y="1098720"/>
              <a:ext cx="0" cy="76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70760" y="838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477120" y="1066680"/>
            <a:ext cx="53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18288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7120" y="443484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基本操作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43680" y="4784760"/>
            <a:ext cx="5710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标志后继结点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修改指针（将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*p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插入在头结点之后）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重置结点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*p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重新指向原表中后继）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43840" y="228600"/>
            <a:ext cx="7510320" cy="640116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void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inverse(LinkList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L)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//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逆置带头结点的单链表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p=L-&gt;next;  L-&gt;next=NULL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hile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( p)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ucc=p-&gt;next;    // succ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指向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*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后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p-&gt;next=L-&gt;nex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L-&gt;next=p;       // *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插入在头结点之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p = succ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2:50:30Z</dcterms:created>
  <dc:creator>WeiminYan</dc:creator>
  <dc:description/>
  <dc:language>en-US</dc:language>
  <cp:lastModifiedBy>yanweimin</cp:lastModifiedBy>
  <dcterms:modified xsi:type="dcterms:W3CDTF">1999-09-16T02:37:23Z</dcterms:modified>
  <cp:revision>22</cp:revision>
  <dc:subject/>
  <dc:title>没有幻灯片标题</dc:title>
</cp:coreProperties>
</file>