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35E-51D3-49A0-88C4-170793A8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469-732F-4C28-A890-45FD89CF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B5E-75B8-4BED-9043-F9F4FC0B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5FE-F033-4C5F-88EA-7D79CA83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9CFB-D089-470E-8EF6-EA0EAC68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A783-79E7-4AD9-A549-D91486B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B3AE-F877-4A0B-8FF5-0F037052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BE90-973D-4676-B918-38E19B7C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F73F-0885-4D79-A59F-44B5FFF4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9716-9CE7-452D-B524-12D910F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3B73-7C13-4031-8D5B-227E0530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446-5E33-4C51-A81C-8FB4DAB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B98F-58CC-4DCC-8FBD-C56ED38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7505-45CD-4496-B50E-714F9C3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7152-28F2-4360-AB71-04564B11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4318-7D32-4425-BF4D-3961FF79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932-E1C1-40DD-B53A-39EAFB5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EFB-E974-4DFE-A237-35DF3524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114-7B13-4DEF-9F8A-8A96A15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22A-67A7-45E9-B198-89CFC6F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2F8-1AFF-4EEC-9B8C-15B26D6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F8A-3F6B-4BB6-A0C3-581D1DD0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306-8AFA-4BD7-8A44-B90FC84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EC7-EB59-4B5D-B854-7520300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B62-3C49-470C-94E3-08BA82B7372B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6055-5C75-45D9-8AA4-E5CBDF74BEFB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19.xm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2.xml"/><Relationship Id="rId3" Type="http://schemas.openxmlformats.org/officeDocument/2006/relationships/slide" Target="slide60.xml"/><Relationship Id="rId4" Type="http://schemas.openxmlformats.org/officeDocument/2006/relationships/slide" Target="slide73.xml"/><Relationship Id="rId5" Type="http://schemas.openxmlformats.org/officeDocument/2006/relationships/slide" Target="slide84.xml"/><Relationship Id="rId6" Type="http://schemas.openxmlformats.org/officeDocument/2006/relationships/slide" Target="slide92.xml"/><Relationship Id="rId7" Type="http://schemas.openxmlformats.org/officeDocument/2006/relationships/slide" Target="slide101.xml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7.xml"/><Relationship Id="rId3" Type="http://schemas.openxmlformats.org/officeDocument/2006/relationships/slide" Target="slide37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1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90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205740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第七章 图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0" y="1562040"/>
            <a:ext cx="451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顶点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出度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以顶点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为弧尾的弧的数目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33520" y="990720"/>
            <a:ext cx="3504960" cy="2361960"/>
            <a:chOff x="533520" y="990720"/>
            <a:chExt cx="3504960" cy="2361960"/>
          </a:xfrm>
        </p:grpSpPr>
        <p:sp>
          <p:nvSpPr>
            <p:cNvPr id="205" name=""/>
            <p:cNvSpPr/>
            <p:nvPr/>
          </p:nvSpPr>
          <p:spPr>
            <a:xfrm flipH="1">
              <a:off x="762120" y="1219320"/>
              <a:ext cx="12952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4400" y="236232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04812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438280" y="1447920"/>
              <a:ext cx="53352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1219320"/>
              <a:ext cx="121932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990720" y="2133720"/>
              <a:ext cx="1752480" cy="76176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599840" y="213372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9907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3520" y="19051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1280" y="19051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1600" y="28195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28195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108080" y="0"/>
            <a:ext cx="2314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对有向图来说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23856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顶点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入度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以顶点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为弧头的弧的数目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933800"/>
            <a:ext cx="417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顶点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度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TD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)=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出度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OD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)+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入度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D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080" y="354960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例如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502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D(B) =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235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OD(B) =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835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TD(B) =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380880"/>
            <a:ext cx="47484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62520" y="76320"/>
            <a:ext cx="4114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由于弧有方向性，则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入度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出度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之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136440" y="76320"/>
            <a:ext cx="90075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count=0;           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输出顶点计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!EmptyStack(S))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op(S, v)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++count;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rintf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v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w=FirstAdj(v); w;  w=NextAdj(G,v,w))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--indegree(w)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弧头顶点的入度减一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(!indegree[w])  Push(S, w)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新产生的入度为零的顶点入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count&lt;G.vexnum)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rintf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“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图中有回路”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1"/>
          <a:stretch/>
        </p:blipFill>
        <p:spPr>
          <a:xfrm flipH="1">
            <a:off x="8534520" y="6442200"/>
            <a:ext cx="457200" cy="339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2959200" y="2286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8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关键路径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43960" y="144792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问题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0880" y="2220840"/>
            <a:ext cx="84582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假设以有向网表示一个施工流图，弧上的权值表示完成该项子工程所需时间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问：哪些子工程项是“关键工程”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即：哪些子工程项将影响整个工程的完成期限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228600" y="187200"/>
            <a:ext cx="877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整个工程完成的时间为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：从有向图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源点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汇点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最长路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752480" y="1752480"/>
            <a:ext cx="6553440" cy="3200400"/>
            <a:chOff x="1752480" y="1752480"/>
            <a:chExt cx="6553440" cy="3200400"/>
          </a:xfrm>
        </p:grpSpPr>
        <p:sp>
          <p:nvSpPr>
            <p:cNvPr id="1574" name=""/>
            <p:cNvSpPr/>
            <p:nvPr/>
          </p:nvSpPr>
          <p:spPr>
            <a:xfrm>
              <a:off x="1752480" y="2590920"/>
              <a:ext cx="457200" cy="457200"/>
            </a:xfrm>
            <a:prstGeom prst="ellipse">
              <a:avLst/>
            </a:prstGeom>
            <a:solidFill>
              <a:srgbClr val="99cc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6720" y="17524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76720" y="35812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362320" y="44956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00600" y="26668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57800" y="44956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24480" y="17524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24480" y="358128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848720" y="2666880"/>
              <a:ext cx="457200" cy="457200"/>
            </a:xfrm>
            <a:prstGeom prst="ellipse">
              <a:avLst/>
            </a:prstGeom>
            <a:solidFill>
              <a:srgbClr val="99cc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133720" y="1980720"/>
              <a:ext cx="1143000" cy="6858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09680" y="2819520"/>
              <a:ext cx="1067040" cy="8380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3733920" y="297144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733920" y="198108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5181480" y="198072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81680" y="198108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6781680" y="3047760"/>
              <a:ext cx="1143000" cy="6858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81080" y="3048120"/>
              <a:ext cx="609840" cy="14475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19520" y="4724280"/>
              <a:ext cx="24382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715000" y="3962520"/>
              <a:ext cx="685800" cy="7617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356920" y="185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592000" y="2773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80600" y="344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80484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15880" y="185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023720" y="2914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481000" y="1905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639760" y="2895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33840" y="1782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843240" y="3002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623920" y="399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 flipV="1">
            <a:off x="2133720" y="1980720"/>
            <a:ext cx="1143000" cy="68580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733920" y="1981080"/>
            <a:ext cx="1143000" cy="76212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257800" y="2971800"/>
            <a:ext cx="1066680" cy="76212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6781680" y="3047760"/>
            <a:ext cx="1143000" cy="68580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98800" y="14479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例如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1360" y="5286240"/>
            <a:ext cx="8397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关键活动</a:t>
            </a: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楷体_GB2312"/>
              </a:rPr>
              <a:t>”指的是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：该弧上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权值增加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将使有向图上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最长路径的长度增加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3276720"/>
            <a:ext cx="914400" cy="457200"/>
          </a:xfrm>
          <a:prstGeom prst="wedgeRoundRectCallout">
            <a:avLst>
              <a:gd name="adj1" fmla="val 62847"/>
              <a:gd name="adj2" fmla="val -113194"/>
              <a:gd name="adj3" fmla="val 16667"/>
            </a:avLst>
          </a:prstGeom>
          <a:solidFill>
            <a:srgbClr val="ccffff">
              <a:alpha val="50000"/>
            </a:srgbClr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源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8229600" y="1600200"/>
            <a:ext cx="914400" cy="457200"/>
          </a:xfrm>
          <a:prstGeom prst="wedgeRoundRectCallout">
            <a:avLst>
              <a:gd name="adj1" fmla="val -55731"/>
              <a:gd name="adj2" fmla="val 188541"/>
              <a:gd name="adj3" fmla="val 16667"/>
            </a:avLst>
          </a:prstGeom>
          <a:solidFill>
            <a:srgbClr val="ccffff">
              <a:alpha val="50000"/>
            </a:srgbClr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汇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363400" y="182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15880" y="182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63976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852600" y="3002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4c2b"/>
          </a:solidFill>
          <a:ln cap="sq" w="1260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720520" y="380880"/>
            <a:ext cx="37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如何求关键活动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719360" y="1676520"/>
            <a:ext cx="493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什么是</a:t>
            </a: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关键活动</a:t>
            </a: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19320" y="3048120"/>
            <a:ext cx="71625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该活动的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早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开始时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= 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该活动的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迟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开始时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71800" y="5715000"/>
            <a:ext cx="2971800" cy="0"/>
          </a:xfrm>
          <a:prstGeom prst="line">
            <a:avLst/>
          </a:prstGeom>
          <a:ln cap="sq"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286000" y="5334120"/>
            <a:ext cx="685800" cy="838080"/>
          </a:xfrm>
          <a:prstGeom prst="ellipse">
            <a:avLst/>
          </a:prstGeom>
          <a:solidFill>
            <a:srgbClr val="e1b7b7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3600" y="5334120"/>
            <a:ext cx="685800" cy="838080"/>
          </a:xfrm>
          <a:prstGeom prst="ellipse">
            <a:avLst/>
          </a:prstGeom>
          <a:noFill/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09880" y="51055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du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1266480" y="990720"/>
            <a:ext cx="679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事件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”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 最早发生时间 </a:t>
            </a:r>
            <a:r>
              <a:rPr b="0" i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j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(j) =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源点到顶点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j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最长路径长度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167480" y="3581280"/>
            <a:ext cx="695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事件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”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 最迟发生时间 </a:t>
            </a:r>
            <a:r>
              <a:rPr b="0" i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l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k)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l(k) =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顶点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k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到汇点的最短路径长度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924680" y="28954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cc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"/>
          <p:cNvSpPr/>
          <p:nvPr/>
        </p:nvSpPr>
        <p:spPr>
          <a:xfrm>
            <a:off x="1096560" y="533520"/>
            <a:ext cx="69778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假设第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条弧为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j, k&gt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则 对第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项活动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活动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弧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”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 最早开始时间 </a:t>
            </a:r>
            <a:r>
              <a:rPr b="0" i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e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i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e(i) = ve(j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活动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弧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”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 最迟开始时间 </a:t>
            </a:r>
            <a:r>
              <a:rPr b="0" i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l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i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l(i) = vl(k) – dut(&lt;j,k&gt;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750240" y="426960"/>
            <a:ext cx="76816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事件发生时间的计算公式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源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 = 0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(k) = Max{ve(j) + dut(&lt;j, k&gt;)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l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汇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 = ve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汇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l(j) = Min{vl(k) – dut(&lt;j, k&gt;)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0" name=""/>
          <p:cNvGrpSpPr/>
          <p:nvPr/>
        </p:nvGrpSpPr>
        <p:grpSpPr>
          <a:xfrm>
            <a:off x="1295280" y="228600"/>
            <a:ext cx="6553440" cy="3200400"/>
            <a:chOff x="1295280" y="228600"/>
            <a:chExt cx="6553440" cy="3200400"/>
          </a:xfrm>
        </p:grpSpPr>
        <p:sp>
          <p:nvSpPr>
            <p:cNvPr id="1631" name=""/>
            <p:cNvSpPr/>
            <p:nvPr/>
          </p:nvSpPr>
          <p:spPr>
            <a:xfrm>
              <a:off x="1295280" y="1066680"/>
              <a:ext cx="457200" cy="457200"/>
            </a:xfrm>
            <a:prstGeom prst="ellipse">
              <a:avLst/>
            </a:prstGeom>
            <a:solidFill>
              <a:srgbClr val="99cc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819520" y="2286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819520" y="20574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05120" y="29718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43400" y="11430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00600" y="29718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867280" y="2286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67280" y="2057400"/>
              <a:ext cx="457200" cy="45720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391520" y="1143000"/>
              <a:ext cx="457200" cy="457200"/>
            </a:xfrm>
            <a:prstGeom prst="ellipse">
              <a:avLst/>
            </a:prstGeom>
            <a:solidFill>
              <a:srgbClr val="99cc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1676520" y="456840"/>
              <a:ext cx="1143000" cy="6858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52480" y="1295280"/>
              <a:ext cx="1143000" cy="9144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3276720" y="1447920"/>
              <a:ext cx="1143000" cy="7617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76720" y="45720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4724280" y="45684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324480" y="457200"/>
              <a:ext cx="11430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6324480" y="1523520"/>
              <a:ext cx="1143000" cy="6858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00600" y="1447920"/>
              <a:ext cx="1066680" cy="7617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23880" y="1523880"/>
              <a:ext cx="609840" cy="14479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362320" y="3200400"/>
              <a:ext cx="24382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5257800" y="2437920"/>
              <a:ext cx="68580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899720" y="334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34800" y="124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823400" y="1924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47640" y="269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658680" y="334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566520" y="1390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23800" y="380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182560" y="1371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76640" y="258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386040" y="1477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166720" y="246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685800" y="5943600"/>
            <a:ext cx="76960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8381880" y="3809880"/>
            <a:ext cx="0" cy="21337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768240" y="3822840"/>
          <a:ext cx="7613640" cy="227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3822840"/>
                    <a:ext cx="761364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6" name=""/>
          <p:cNvSpPr/>
          <p:nvPr/>
        </p:nvSpPr>
        <p:spPr>
          <a:xfrm>
            <a:off x="1677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44008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20220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963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72608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8820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249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01208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81848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330280" y="4572000"/>
            <a:ext cx="6415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124080" y="4572000"/>
            <a:ext cx="6415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4520" y="4572000"/>
            <a:ext cx="64116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410080" y="4572000"/>
            <a:ext cx="6415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934320" y="4572000"/>
            <a:ext cx="64116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616280" y="4572000"/>
            <a:ext cx="6415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48320" y="4572000"/>
            <a:ext cx="641160" cy="642600"/>
          </a:xfrm>
          <a:prstGeom prst="rect">
            <a:avLst/>
          </a:prstGeom>
          <a:solidFill>
            <a:srgbClr val="c67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172200" y="4572000"/>
            <a:ext cx="6415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934320" y="4572000"/>
            <a:ext cx="641160" cy="642600"/>
          </a:xfrm>
          <a:prstGeom prst="rect">
            <a:avLst/>
          </a:prstGeom>
          <a:solidFill>
            <a:srgbClr val="c67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696080" y="4572000"/>
            <a:ext cx="6415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6620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90408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4196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38020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64976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85596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12588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33208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569960" y="5257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141960" y="5257800"/>
            <a:ext cx="6379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35760" y="5257800"/>
            <a:ext cx="6379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648320" y="5257800"/>
            <a:ext cx="60948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362320" y="5257800"/>
            <a:ext cx="60948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124080" y="5257800"/>
            <a:ext cx="60984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411880" y="5257800"/>
            <a:ext cx="63792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0094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886200" y="5257800"/>
            <a:ext cx="60948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600200" y="5257800"/>
            <a:ext cx="609480" cy="642600"/>
          </a:xfrm>
          <a:prstGeom prst="rect">
            <a:avLst/>
          </a:prstGeom>
          <a:solidFill>
            <a:srgbClr val="df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648320" y="5302080"/>
            <a:ext cx="641160" cy="642600"/>
          </a:xfrm>
          <a:prstGeom prst="rect">
            <a:avLst/>
          </a:prstGeom>
          <a:solidFill>
            <a:srgbClr val="c67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094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958320" y="6095880"/>
            <a:ext cx="66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拓扑有序序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: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a - d - f - c - b - e - h - g - 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4" name=""/>
          <p:cNvGrpSpPr/>
          <p:nvPr/>
        </p:nvGrpSpPr>
        <p:grpSpPr>
          <a:xfrm>
            <a:off x="685800" y="368280"/>
            <a:ext cx="7696080" cy="2286000"/>
            <a:chOff x="685800" y="368280"/>
            <a:chExt cx="7696080" cy="2286000"/>
          </a:xfrm>
        </p:grpSpPr>
        <p:sp>
          <p:nvSpPr>
            <p:cNvPr id="1705" name=""/>
            <p:cNvSpPr/>
            <p:nvPr/>
          </p:nvSpPr>
          <p:spPr>
            <a:xfrm>
              <a:off x="685800" y="2502000"/>
              <a:ext cx="769608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381880" y="368280"/>
              <a:ext cx="0" cy="21337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707" name=""/>
            <p:cNvGraphicFramePr/>
            <p:nvPr/>
          </p:nvGraphicFramePr>
          <p:xfrm>
            <a:off x="768240" y="380880"/>
            <a:ext cx="7613640" cy="2273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7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8240" y="380880"/>
                      <a:ext cx="7613640" cy="22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9" name=""/>
            <p:cNvSpPr/>
            <p:nvPr/>
          </p:nvSpPr>
          <p:spPr>
            <a:xfrm>
              <a:off x="1677960" y="1130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440080" y="1130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02200" y="1130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3960" y="1130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6080" y="1130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488200" y="1130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4000" y="11304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904080" y="11304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14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697880" y="11304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666200" y="1816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80094"/>
                  </a:solidFill>
                  <a:latin typeface="Times New Roman"/>
                </a:rPr>
                <a:t>18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904080" y="1816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80094"/>
                  </a:solidFill>
                  <a:latin typeface="Times New Roman"/>
                </a:rPr>
                <a:t>14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141960" y="1816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80094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80200" y="1816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80094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648320" y="1816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80094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854520" y="1816200"/>
              <a:ext cx="64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80094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124080" y="1816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80094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330280" y="1816200"/>
              <a:ext cx="6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80094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68520" y="1816200"/>
              <a:ext cx="64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80094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727" name=""/>
          <p:cNvGraphicFramePr/>
          <p:nvPr/>
        </p:nvGraphicFramePr>
        <p:xfrm>
          <a:off x="484200" y="3048120"/>
          <a:ext cx="8278920" cy="356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200" y="3048120"/>
                    <a:ext cx="82789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9" name=""/>
          <p:cNvSpPr/>
          <p:nvPr/>
        </p:nvSpPr>
        <p:spPr>
          <a:xfrm>
            <a:off x="609480" y="6400800"/>
            <a:ext cx="815364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763120" y="3124080"/>
            <a:ext cx="0" cy="32767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48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87488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6068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4648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96396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944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3802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09768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78348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361280" y="434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078760" y="434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078760" y="507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392960" y="507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14480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87488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56068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24648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96396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69440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38020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097680" y="507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75480" y="507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53" name="" descr=""/>
          <p:cNvPicPr/>
          <p:nvPr/>
        </p:nvPicPr>
        <p:blipFill>
          <a:blip r:embed="rId5"/>
          <a:stretch/>
        </p:blipFill>
        <p:spPr>
          <a:xfrm>
            <a:off x="3200400" y="580716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1754" name="" descr=""/>
          <p:cNvPicPr/>
          <p:nvPr/>
        </p:nvPicPr>
        <p:blipFill>
          <a:blip r:embed="rId6"/>
          <a:stretch/>
        </p:blipFill>
        <p:spPr>
          <a:xfrm>
            <a:off x="1143000" y="580716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1755" name="" descr=""/>
          <p:cNvPicPr/>
          <p:nvPr/>
        </p:nvPicPr>
        <p:blipFill>
          <a:blip r:embed="rId7"/>
          <a:stretch/>
        </p:blipFill>
        <p:spPr>
          <a:xfrm>
            <a:off x="6019920" y="580716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1756" name="" descr=""/>
          <p:cNvPicPr/>
          <p:nvPr/>
        </p:nvPicPr>
        <p:blipFill>
          <a:blip r:embed="rId8"/>
          <a:stretch/>
        </p:blipFill>
        <p:spPr>
          <a:xfrm>
            <a:off x="8153280" y="5807160"/>
            <a:ext cx="609840" cy="517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2813760" y="152280"/>
            <a:ext cx="3433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算法的实现要点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36440" y="1306440"/>
            <a:ext cx="9007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显然，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e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顺序应该是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拓扑有序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序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062360" y="2286000"/>
            <a:ext cx="71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而     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l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顺序应该是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拓扑逆序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序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540800" y="327672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因为    拓扑逆序序列即为拓扑有序序列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逆序列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22240" y="4724280"/>
            <a:ext cx="6873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因此    应该在拓扑排序的过程中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另设一个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栈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记下拓扑有序序列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2" name="" descr=""/>
          <p:cNvPicPr/>
          <p:nvPr/>
        </p:nvPicPr>
        <p:blipFill>
          <a:blip r:embed="rId1"/>
          <a:stretch/>
        </p:blipFill>
        <p:spPr>
          <a:xfrm flipH="1">
            <a:off x="8534520" y="6442200"/>
            <a:ext cx="457200" cy="339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320" y="228600"/>
            <a:ext cx="944856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设图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G=(V,{VR})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中的一个顶点序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{ u=v</a:t>
            </a:r>
            <a:r>
              <a:rPr b="0" lang="zh-CN" sz="3600" spc="-1" strike="noStrike" baseline="-25000">
                <a:solidFill>
                  <a:srgbClr val="000066"/>
                </a:solidFill>
                <a:latin typeface="Times New Roman"/>
              </a:rPr>
              <a:t>i,0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,v</a:t>
            </a:r>
            <a:r>
              <a:rPr b="0" lang="zh-CN" sz="3600" spc="-1" strike="noStrike" baseline="-25000">
                <a:solidFill>
                  <a:srgbClr val="000066"/>
                </a:solidFill>
                <a:latin typeface="Times New Roman"/>
              </a:rPr>
              <a:t>i,1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, …, v</a:t>
            </a:r>
            <a:r>
              <a:rPr b="0" lang="zh-CN" sz="3600" spc="-1" strike="noStrike" baseline="-25000">
                <a:solidFill>
                  <a:srgbClr val="000066"/>
                </a:solidFill>
                <a:latin typeface="Times New Roman"/>
              </a:rPr>
              <a:t>i,m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=w}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中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(v</a:t>
            </a:r>
            <a:r>
              <a:rPr b="0" lang="zh-CN" sz="3200" spc="-1" strike="noStrike" baseline="-25000">
                <a:solidFill>
                  <a:srgbClr val="000066"/>
                </a:solidFill>
                <a:latin typeface="Times New Roman"/>
              </a:rPr>
              <a:t>i,j-1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,v</a:t>
            </a:r>
            <a:r>
              <a:rPr b="0" lang="zh-CN" sz="3200" spc="-1" strike="noStrike" baseline="-25000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VR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1≤j≤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则称从顶点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u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到顶点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之间存在一条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路径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路径上边的数目称作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路径长度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14400" y="4343400"/>
            <a:ext cx="3505320" cy="2362320"/>
            <a:chOff x="914400" y="4343400"/>
            <a:chExt cx="3505320" cy="2362320"/>
          </a:xfrm>
        </p:grpSpPr>
        <p:sp>
          <p:nvSpPr>
            <p:cNvPr id="228" name=""/>
            <p:cNvSpPr/>
            <p:nvPr/>
          </p:nvSpPr>
          <p:spPr>
            <a:xfrm flipH="1">
              <a:off x="1143000" y="4572000"/>
              <a:ext cx="12952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95280" y="571500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9680" y="640080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819160" y="4800600"/>
              <a:ext cx="53316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4572000"/>
              <a:ext cx="121932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1371600" y="5486040"/>
              <a:ext cx="175248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981080" y="5486400"/>
              <a:ext cx="198144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38280" y="43434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14400" y="52578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62520" y="52578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2480" y="61722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61722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9080" y="2971800"/>
            <a:ext cx="4130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如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从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到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F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长度为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路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{A,B,C,F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276720"/>
            <a:ext cx="457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简单路径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指序列中顶点不重复出现的路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82904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简单回路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指序列中第一个顶点和最后一个顶点相同的路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305920" y="228600"/>
            <a:ext cx="474480" cy="762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304920" y="3049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熟悉图的各种存储结构及其构造算法，了解实际问题的求解效率与采用何种存储结构和算法有密切联系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熟练掌握图的两种搜索路径的遍历：遍历的逻辑定义、深度优先搜索和广度优先搜索的算法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学习中应注意图的遍历算法与树的遍历算法之间的类似和差异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457200" y="1521000"/>
            <a:ext cx="82296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用图的遍历算法求解各种简单路径问题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解教科书中讨论的各种图的算法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5" name="">
            <a:hlinkClick r:id="" action="ppaction://hlinkshowjump?jump=endshow"/>
          </p:cNvPr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90360 w 533520"/>
              <a:gd name="textAreaRight" fmla="*/ 443160 w 533520"/>
              <a:gd name="textAreaTop" fmla="*/ 90360 h 533160"/>
              <a:gd name="textAreaBottom" fmla="*/ 4428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7951" y="3664"/>
                </a:lnTo>
                <a:lnTo>
                  <a:pt x="3664" y="3664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7951" y="17936"/>
                </a:lnTo>
                <a:lnTo>
                  <a:pt x="17951" y="3664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17951" y="17936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21615" h="21600">
                <a:moveTo>
                  <a:pt x="10807" y="5514"/>
                </a:moveTo>
                <a:lnTo>
                  <a:pt x="12763" y="7496"/>
                </a:lnTo>
                <a:lnTo>
                  <a:pt x="12763" y="6175"/>
                </a:lnTo>
                <a:lnTo>
                  <a:pt x="14111" y="6175"/>
                </a:lnTo>
                <a:lnTo>
                  <a:pt x="14111" y="8844"/>
                </a:lnTo>
                <a:lnTo>
                  <a:pt x="16093" y="10800"/>
                </a:lnTo>
                <a:lnTo>
                  <a:pt x="14838" y="10800"/>
                </a:lnTo>
                <a:lnTo>
                  <a:pt x="14838" y="16258"/>
                </a:lnTo>
                <a:lnTo>
                  <a:pt x="6777" y="16258"/>
                </a:lnTo>
                <a:lnTo>
                  <a:pt x="6777" y="10800"/>
                </a:lnTo>
                <a:lnTo>
                  <a:pt x="5521" y="10800"/>
                </a:lnTo>
                <a:close/>
              </a:path>
              <a:path fill="darkenLess" w="21615" h="21600">
                <a:moveTo>
                  <a:pt x="12763" y="7496"/>
                </a:moveTo>
                <a:lnTo>
                  <a:pt x="12763" y="6175"/>
                </a:lnTo>
                <a:lnTo>
                  <a:pt x="14111" y="6175"/>
                </a:lnTo>
                <a:lnTo>
                  <a:pt x="14111" y="8844"/>
                </a:lnTo>
                <a:close/>
              </a:path>
              <a:path fill="darkenLess" w="21615" h="21600">
                <a:moveTo>
                  <a:pt x="10107" y="13456"/>
                </a:moveTo>
                <a:lnTo>
                  <a:pt x="11508" y="13456"/>
                </a:lnTo>
                <a:lnTo>
                  <a:pt x="11508" y="16258"/>
                </a:lnTo>
                <a:lnTo>
                  <a:pt x="14838" y="16258"/>
                </a:lnTo>
                <a:lnTo>
                  <a:pt x="14838" y="10800"/>
                </a:lnTo>
                <a:lnTo>
                  <a:pt x="6777" y="10800"/>
                </a:lnTo>
                <a:lnTo>
                  <a:pt x="6777" y="16258"/>
                </a:lnTo>
                <a:lnTo>
                  <a:pt x="10107" y="16258"/>
                </a:lnTo>
                <a:close/>
              </a:path>
            </a:pathLst>
          </a:custGeom>
          <a:solidFill>
            <a:srgbClr val="a9bda9"/>
          </a:solidFill>
          <a:ln cap="sq"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2362320" y="103500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4c2b"/>
                </a:solidFill>
                <a:latin typeface="Times New Roman"/>
                <a:ea typeface="隶书"/>
              </a:rPr>
              <a:t>本章作业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362320" y="2895480"/>
            <a:ext cx="4419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4c2b"/>
                </a:solidFill>
                <a:latin typeface="Times New Roman"/>
              </a:rPr>
              <a:t>7.22,    7.23,   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4c2b"/>
                </a:solidFill>
                <a:latin typeface="Times New Roman"/>
              </a:rPr>
              <a:t>7.27,    4.28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228600"/>
            <a:ext cx="4343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若图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任意两个顶点之间都有路径相通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则称此图为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连通图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809880"/>
            <a:ext cx="4343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无向图为非连通图，则图中各个极大连通子图称作此图的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连通分量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803840" y="380880"/>
            <a:ext cx="3805200" cy="3048120"/>
            <a:chOff x="4803840" y="380880"/>
            <a:chExt cx="3805200" cy="3048120"/>
          </a:xfrm>
        </p:grpSpPr>
        <p:sp>
          <p:nvSpPr>
            <p:cNvPr id="247" name=""/>
            <p:cNvSpPr/>
            <p:nvPr/>
          </p:nvSpPr>
          <p:spPr>
            <a:xfrm>
              <a:off x="5794200" y="433440"/>
              <a:ext cx="455760" cy="55728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3840" y="1676520"/>
              <a:ext cx="455400" cy="53316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030280" y="762120"/>
              <a:ext cx="7621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51400" y="685800"/>
              <a:ext cx="137016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61040" y="1981080"/>
              <a:ext cx="23605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62480" y="762120"/>
              <a:ext cx="123012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50160" y="685800"/>
              <a:ext cx="609480" cy="9907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238800" y="1981080"/>
              <a:ext cx="1992240" cy="9907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021360" y="966960"/>
              <a:ext cx="1440" cy="1928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8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280" y="1600200"/>
              <a:ext cx="45576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91320" y="28954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7480" y="2819520"/>
              <a:ext cx="455760" cy="53316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9600" y="2971800"/>
            <a:ext cx="3805200" cy="3048120"/>
            <a:chOff x="309600" y="2971800"/>
            <a:chExt cx="3805200" cy="3048120"/>
          </a:xfrm>
        </p:grpSpPr>
        <p:sp>
          <p:nvSpPr>
            <p:cNvPr id="261" name=""/>
            <p:cNvSpPr/>
            <p:nvPr/>
          </p:nvSpPr>
          <p:spPr>
            <a:xfrm>
              <a:off x="1300320" y="3024360"/>
              <a:ext cx="455400" cy="5569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600" y="42670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36040" y="3352680"/>
              <a:ext cx="7621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7520" y="3276720"/>
              <a:ext cx="136980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6800" y="4572000"/>
              <a:ext cx="23605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668240" y="3352680"/>
              <a:ext cx="1230120" cy="221004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55920" y="3276720"/>
              <a:ext cx="609480" cy="9903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744560" y="4572000"/>
              <a:ext cx="1992240" cy="9907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97280" y="297180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9040" y="4191120"/>
              <a:ext cx="455760" cy="53316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7080" y="548640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3240" y="5410080"/>
              <a:ext cx="45576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8600" y="439560"/>
            <a:ext cx="87631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任意两个顶点之间都存在一条有向路径，则称此有向图为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强连通图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09480" y="3809880"/>
            <a:ext cx="3505320" cy="2362320"/>
            <a:chOff x="609480" y="3809880"/>
            <a:chExt cx="3505320" cy="2362320"/>
          </a:xfrm>
        </p:grpSpPr>
        <p:sp>
          <p:nvSpPr>
            <p:cNvPr id="275" name=""/>
            <p:cNvSpPr/>
            <p:nvPr/>
          </p:nvSpPr>
          <p:spPr>
            <a:xfrm flipH="1">
              <a:off x="837720" y="4038480"/>
              <a:ext cx="129564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90720" y="518148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05120" y="586728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2514600" y="4267080"/>
              <a:ext cx="53352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90920" y="4038480"/>
              <a:ext cx="121896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066320" y="4952520"/>
              <a:ext cx="175284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676160" y="495288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3720" y="38098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480" y="47242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7600" y="47242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920" y="56386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19520" y="56386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105520" y="3809880"/>
            <a:ext cx="3504960" cy="2362320"/>
            <a:chOff x="5105520" y="3809880"/>
            <a:chExt cx="3504960" cy="2362320"/>
          </a:xfrm>
        </p:grpSpPr>
        <p:sp>
          <p:nvSpPr>
            <p:cNvPr id="288" name=""/>
            <p:cNvSpPr/>
            <p:nvPr/>
          </p:nvSpPr>
          <p:spPr>
            <a:xfrm flipH="1">
              <a:off x="5334120" y="4038480"/>
              <a:ext cx="12952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518148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0800" y="586728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4038480"/>
              <a:ext cx="121932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62720" y="4952520"/>
              <a:ext cx="175248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171840" y="495288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9400" y="3809880"/>
              <a:ext cx="457200" cy="53352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47242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53280" y="4724280"/>
              <a:ext cx="457200" cy="533520"/>
            </a:xfrm>
            <a:prstGeom prst="ellipse">
              <a:avLst/>
            </a:prstGeom>
            <a:solidFill>
              <a:srgbClr val="ffff99"/>
            </a:solidFill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43600" y="56386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5200" y="56386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381880" y="3048120"/>
            <a:ext cx="474840" cy="7617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914400" y="5176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有向图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205740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否则，其各个强连通子图称作它的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强连通分量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228600"/>
            <a:ext cx="8534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设一个连通图有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个顶点和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条边，其中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n-1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条边和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个顶点构成一个极小连通子图，称该极小连通子图为此连通图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生成树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3166920"/>
            <a:ext cx="38098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非连通图，则称由各个连通分量的生成树的集合为此非连通图的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生成森林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827360" y="3862440"/>
            <a:ext cx="1440" cy="1928880"/>
          </a:xfrm>
          <a:prstGeom prst="line">
            <a:avLst/>
          </a:prstGeom>
          <a:ln cap="sq" w="5724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9480" y="3276720"/>
            <a:ext cx="3805200" cy="3047760"/>
            <a:chOff x="609480" y="3276720"/>
            <a:chExt cx="3805200" cy="3047760"/>
          </a:xfrm>
        </p:grpSpPr>
        <p:sp>
          <p:nvSpPr>
            <p:cNvPr id="306" name=""/>
            <p:cNvSpPr/>
            <p:nvPr/>
          </p:nvSpPr>
          <p:spPr>
            <a:xfrm>
              <a:off x="1600200" y="3328920"/>
              <a:ext cx="455760" cy="55728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4572000"/>
              <a:ext cx="455760" cy="53352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36280" y="3657600"/>
              <a:ext cx="762120" cy="914400"/>
            </a:xfrm>
            <a:prstGeom prst="line">
              <a:avLst/>
            </a:prstGeom>
            <a:ln cap="sq" w="572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3581280"/>
              <a:ext cx="1370160" cy="2210040"/>
            </a:xfrm>
            <a:prstGeom prst="line">
              <a:avLst/>
            </a:prstGeom>
            <a:ln cap="sq" w="572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66680" y="4876920"/>
              <a:ext cx="2360880" cy="914400"/>
            </a:xfrm>
            <a:prstGeom prst="line">
              <a:avLst/>
            </a:prstGeom>
            <a:ln cap="sq"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68480" y="3657600"/>
              <a:ext cx="1230480" cy="2209680"/>
            </a:xfrm>
            <a:prstGeom prst="line">
              <a:avLst/>
            </a:prstGeom>
            <a:ln cap="sq" w="572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6160" y="3581280"/>
              <a:ext cx="609480" cy="990720"/>
            </a:xfrm>
            <a:prstGeom prst="line">
              <a:avLst/>
            </a:prstGeom>
            <a:ln cap="sq"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44800" y="4876920"/>
              <a:ext cx="1992240" cy="990360"/>
            </a:xfrm>
            <a:prstGeom prst="line">
              <a:avLst/>
            </a:prstGeom>
            <a:ln cap="sq" w="572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97160" y="3276720"/>
              <a:ext cx="455760" cy="53316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9280" y="4495680"/>
              <a:ext cx="455400" cy="53352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96960" y="5791320"/>
              <a:ext cx="455760" cy="53316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3480" y="5715000"/>
              <a:ext cx="455400" cy="53352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05920" y="2514600"/>
            <a:ext cx="474480" cy="762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08040" y="1488960"/>
            <a:ext cx="237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构的建立和销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1338480" y="3048120"/>
            <a:ext cx="210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插入或删除顶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1437120" y="4572000"/>
            <a:ext cx="210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邻接点的操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>
            <a:hlinkClick r:id="rId3" action="ppaction://hlinksldjump"/>
          </p:cNvPr>
          <p:cNvSpPr/>
          <p:nvPr/>
        </p:nvSpPr>
        <p:spPr>
          <a:xfrm>
            <a:off x="5317920" y="2286000"/>
            <a:ext cx="237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顶点的访问操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>
            <a:hlinkClick r:id="rId4" action="ppaction://hlinksldjump"/>
          </p:cNvPr>
          <p:cNvSpPr/>
          <p:nvPr/>
        </p:nvSpPr>
        <p:spPr>
          <a:xfrm>
            <a:off x="4759560" y="5334120"/>
            <a:ext cx="729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遍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>
            <a:hlinkClick r:id="rId5" action="ppaction://hlinksldjump"/>
          </p:cNvPr>
          <p:cNvSpPr/>
          <p:nvPr/>
        </p:nvSpPr>
        <p:spPr>
          <a:xfrm>
            <a:off x="5131800" y="3809880"/>
            <a:ext cx="182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插入和删除弧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800600" y="1905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4952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3429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96080" y="4191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91960"/>
            <a:ext cx="2498760" cy="76428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基本操作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2666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 flipH="1">
            <a:off x="8381880" y="6289560"/>
            <a:ext cx="457200" cy="33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77560" y="1660680"/>
            <a:ext cx="5787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CreatGraph(&amp;G, V, VR)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按定义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(V, VR)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构造图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47680" y="3718080"/>
            <a:ext cx="463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DestroyGraph(&amp;G)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销毁图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57960 w 381240"/>
              <a:gd name="textAreaRight" fmla="*/ 323280 w 381240"/>
              <a:gd name="textAreaTop" fmla="*/ 57960 h 380880"/>
              <a:gd name="textAreaBottom" fmla="*/ 3229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8320" y="3300"/>
                </a:lnTo>
                <a:lnTo>
                  <a:pt x="3300" y="33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8320" y="18300"/>
                </a:lnTo>
                <a:lnTo>
                  <a:pt x="18320" y="33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3300" y="18300"/>
                </a:lnTo>
                <a:lnTo>
                  <a:pt x="18320" y="183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3300" y="3300"/>
                </a:lnTo>
                <a:lnTo>
                  <a:pt x="3300" y="18300"/>
                </a:lnTo>
                <a:close/>
              </a:path>
              <a:path fill="darken" w="21620" h="21600">
                <a:moveTo>
                  <a:pt x="5220" y="8161"/>
                </a:moveTo>
                <a:lnTo>
                  <a:pt x="8019" y="8161"/>
                </a:lnTo>
                <a:lnTo>
                  <a:pt x="8019" y="12418"/>
                </a:lnTo>
                <a:cubicBezTo>
                  <a:pt x="8019" y="13154"/>
                  <a:pt x="8657" y="13738"/>
                  <a:pt x="9484" y="13738"/>
                </a:cubicBezTo>
                <a:lnTo>
                  <a:pt x="10810" y="13738"/>
                </a:lnTo>
                <a:cubicBezTo>
                  <a:pt x="11637" y="13738"/>
                  <a:pt x="12275" y="13154"/>
                  <a:pt x="12275" y="12418"/>
                </a:cubicBezTo>
                <a:lnTo>
                  <a:pt x="12275" y="8161"/>
                </a:lnTo>
                <a:lnTo>
                  <a:pt x="10810" y="8161"/>
                </a:lnTo>
                <a:lnTo>
                  <a:pt x="13609" y="5363"/>
                </a:lnTo>
                <a:lnTo>
                  <a:pt x="16539" y="8161"/>
                </a:lnTo>
                <a:lnTo>
                  <a:pt x="15074" y="8161"/>
                </a:lnTo>
                <a:lnTo>
                  <a:pt x="15074" y="12418"/>
                </a:lnTo>
                <a:cubicBezTo>
                  <a:pt x="15074" y="14626"/>
                  <a:pt x="13019" y="16668"/>
                  <a:pt x="10810" y="16668"/>
                </a:cubicBezTo>
                <a:lnTo>
                  <a:pt x="9484" y="16668"/>
                </a:lnTo>
                <a:cubicBezTo>
                  <a:pt x="7275" y="16668"/>
                  <a:pt x="5220" y="14626"/>
                  <a:pt x="5220" y="12418"/>
                </a:cubicBezTo>
                <a:close/>
              </a:path>
            </a:pathLst>
          </a:custGeom>
          <a:solidFill>
            <a:srgbClr val="e1e2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440" y="333360"/>
            <a:ext cx="286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构的建立和销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156480" y="360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顶点的访问操作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9680" y="1219320"/>
            <a:ext cx="850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LocateVex(G, u);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存在顶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则返回该顶点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图中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位置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；否则返回其它信息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8402760" y="6192720"/>
            <a:ext cx="360360" cy="360360"/>
          </a:xfrm>
          <a:custGeom>
            <a:avLst/>
            <a:gdLst>
              <a:gd name="textAreaLeft" fmla="*/ 63360 w 360360"/>
              <a:gd name="textAreaRight" fmla="*/ 297000 w 360360"/>
              <a:gd name="textAreaTop" fmla="*/ 63360 h 360360"/>
              <a:gd name="textAreaBottom" fmla="*/ 297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794" y="3806"/>
                </a:lnTo>
                <a:lnTo>
                  <a:pt x="3806" y="380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794" y="17794"/>
                </a:lnTo>
                <a:lnTo>
                  <a:pt x="17794" y="380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806" y="17794"/>
                </a:lnTo>
                <a:lnTo>
                  <a:pt x="17794" y="1779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806" y="3806"/>
                </a:lnTo>
                <a:lnTo>
                  <a:pt x="3806" y="17794"/>
                </a:lnTo>
                <a:close/>
              </a:path>
              <a:path fill="darken" w="21600" h="21600">
                <a:moveTo>
                  <a:pt x="5587" y="8339"/>
                </a:moveTo>
                <a:lnTo>
                  <a:pt x="8197" y="8339"/>
                </a:lnTo>
                <a:lnTo>
                  <a:pt x="8197" y="12309"/>
                </a:lnTo>
                <a:cubicBezTo>
                  <a:pt x="8197" y="12995"/>
                  <a:pt x="8792" y="13539"/>
                  <a:pt x="9563" y="13539"/>
                </a:cubicBezTo>
                <a:lnTo>
                  <a:pt x="10800" y="13539"/>
                </a:lnTo>
                <a:cubicBezTo>
                  <a:pt x="11571" y="13539"/>
                  <a:pt x="12166" y="12995"/>
                  <a:pt x="12166" y="12309"/>
                </a:cubicBezTo>
                <a:lnTo>
                  <a:pt x="12166" y="8339"/>
                </a:lnTo>
                <a:lnTo>
                  <a:pt x="10800" y="8339"/>
                </a:lnTo>
                <a:lnTo>
                  <a:pt x="13410" y="5729"/>
                </a:lnTo>
                <a:lnTo>
                  <a:pt x="16143" y="8339"/>
                </a:lnTo>
                <a:lnTo>
                  <a:pt x="14776" y="8339"/>
                </a:lnTo>
                <a:lnTo>
                  <a:pt x="14776" y="12309"/>
                </a:lnTo>
                <a:cubicBezTo>
                  <a:pt x="14776" y="14368"/>
                  <a:pt x="12859" y="16272"/>
                  <a:pt x="10800" y="16272"/>
                </a:cubicBezTo>
                <a:lnTo>
                  <a:pt x="9563" y="16272"/>
                </a:lnTo>
                <a:cubicBezTo>
                  <a:pt x="7504" y="16272"/>
                  <a:pt x="5587" y="14368"/>
                  <a:pt x="5587" y="12309"/>
                </a:cubicBezTo>
                <a:close/>
              </a:path>
            </a:pathLst>
          </a:custGeom>
          <a:solidFill>
            <a:srgbClr val="e1e2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56160" y="3809880"/>
            <a:ext cx="64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etVex(G, v);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返回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值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5920" y="4854600"/>
            <a:ext cx="502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utVex(&amp;G, v, value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赋值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alue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300840" y="2286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邻接点的操作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143000"/>
            <a:ext cx="87631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AdjVex(G, v);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返回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第一个邻接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 。若该顶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没有邻接点，则返回“空”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8478720" y="6269040"/>
            <a:ext cx="360360" cy="360360"/>
          </a:xfrm>
          <a:custGeom>
            <a:avLst/>
            <a:gdLst>
              <a:gd name="textAreaLeft" fmla="*/ 42840 w 360360"/>
              <a:gd name="textAreaRight" fmla="*/ 317520 w 360360"/>
              <a:gd name="textAreaTop" fmla="*/ 42840 h 360360"/>
              <a:gd name="textAreaBottom" fmla="*/ 317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031" y="2569"/>
                </a:lnTo>
                <a:lnTo>
                  <a:pt x="2569" y="256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031" y="19031"/>
                </a:lnTo>
                <a:lnTo>
                  <a:pt x="19031" y="256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569" y="19031"/>
                </a:lnTo>
                <a:lnTo>
                  <a:pt x="19031" y="1903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569" y="2569"/>
                </a:lnTo>
                <a:lnTo>
                  <a:pt x="2569" y="19031"/>
                </a:lnTo>
                <a:close/>
              </a:path>
              <a:path fill="darken" w="21600" h="21600">
                <a:moveTo>
                  <a:pt x="4665" y="7904"/>
                </a:moveTo>
                <a:lnTo>
                  <a:pt x="7736" y="7904"/>
                </a:lnTo>
                <a:lnTo>
                  <a:pt x="7736" y="12576"/>
                </a:lnTo>
                <a:cubicBezTo>
                  <a:pt x="7736" y="13384"/>
                  <a:pt x="8437" y="14024"/>
                  <a:pt x="9344" y="14024"/>
                </a:cubicBezTo>
                <a:lnTo>
                  <a:pt x="10800" y="14024"/>
                </a:lnTo>
                <a:cubicBezTo>
                  <a:pt x="11707" y="14024"/>
                  <a:pt x="12408" y="13384"/>
                  <a:pt x="12408" y="12576"/>
                </a:cubicBezTo>
                <a:lnTo>
                  <a:pt x="12408" y="7904"/>
                </a:lnTo>
                <a:lnTo>
                  <a:pt x="10800" y="7904"/>
                </a:lnTo>
                <a:lnTo>
                  <a:pt x="13871" y="4833"/>
                </a:lnTo>
                <a:lnTo>
                  <a:pt x="17088" y="7904"/>
                </a:lnTo>
                <a:lnTo>
                  <a:pt x="15479" y="7904"/>
                </a:lnTo>
                <a:lnTo>
                  <a:pt x="15479" y="12576"/>
                </a:lnTo>
                <a:cubicBezTo>
                  <a:pt x="15479" y="14999"/>
                  <a:pt x="13224" y="17240"/>
                  <a:pt x="10800" y="17240"/>
                </a:cubicBezTo>
                <a:lnTo>
                  <a:pt x="9344" y="17240"/>
                </a:lnTo>
                <a:cubicBezTo>
                  <a:pt x="6921" y="17240"/>
                  <a:pt x="4665" y="14999"/>
                  <a:pt x="4665" y="12576"/>
                </a:cubicBezTo>
                <a:close/>
              </a:path>
            </a:pathLst>
          </a:custGeom>
          <a:solidFill>
            <a:srgbClr val="e1e2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3505320"/>
            <a:ext cx="87631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NextAdjVex(G, v, w);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返回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（相对于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） 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下一个邻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。若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最后一个邻接点，则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返回“空”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300840" y="6094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插入或删除顶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05520" y="1693800"/>
            <a:ext cx="4435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sertVex(&amp;G, v);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图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增添新顶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8250120" y="6095880"/>
            <a:ext cx="360360" cy="360360"/>
          </a:xfrm>
          <a:custGeom>
            <a:avLst/>
            <a:gdLst>
              <a:gd name="textAreaLeft" fmla="*/ 42840 w 360360"/>
              <a:gd name="textAreaRight" fmla="*/ 317520 w 360360"/>
              <a:gd name="textAreaTop" fmla="*/ 42840 h 360360"/>
              <a:gd name="textAreaBottom" fmla="*/ 317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031" y="2569"/>
                </a:lnTo>
                <a:lnTo>
                  <a:pt x="2569" y="256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031" y="19031"/>
                </a:lnTo>
                <a:lnTo>
                  <a:pt x="19031" y="256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569" y="19031"/>
                </a:lnTo>
                <a:lnTo>
                  <a:pt x="19031" y="1903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569" y="2569"/>
                </a:lnTo>
                <a:lnTo>
                  <a:pt x="2569" y="19031"/>
                </a:lnTo>
                <a:close/>
              </a:path>
              <a:path fill="darken" w="21600" h="21600">
                <a:moveTo>
                  <a:pt x="4665" y="7904"/>
                </a:moveTo>
                <a:lnTo>
                  <a:pt x="7736" y="7904"/>
                </a:lnTo>
                <a:lnTo>
                  <a:pt x="7736" y="12576"/>
                </a:lnTo>
                <a:cubicBezTo>
                  <a:pt x="7736" y="13384"/>
                  <a:pt x="8437" y="14024"/>
                  <a:pt x="9344" y="14024"/>
                </a:cubicBezTo>
                <a:lnTo>
                  <a:pt x="10800" y="14024"/>
                </a:lnTo>
                <a:cubicBezTo>
                  <a:pt x="11707" y="14024"/>
                  <a:pt x="12408" y="13384"/>
                  <a:pt x="12408" y="12576"/>
                </a:cubicBezTo>
                <a:lnTo>
                  <a:pt x="12408" y="7904"/>
                </a:lnTo>
                <a:lnTo>
                  <a:pt x="10800" y="7904"/>
                </a:lnTo>
                <a:lnTo>
                  <a:pt x="13871" y="4833"/>
                </a:lnTo>
                <a:lnTo>
                  <a:pt x="17088" y="7904"/>
                </a:lnTo>
                <a:lnTo>
                  <a:pt x="15479" y="7904"/>
                </a:lnTo>
                <a:lnTo>
                  <a:pt x="15479" y="12576"/>
                </a:lnTo>
                <a:cubicBezTo>
                  <a:pt x="15479" y="14999"/>
                  <a:pt x="13224" y="17240"/>
                  <a:pt x="10800" y="17240"/>
                </a:cubicBezTo>
                <a:lnTo>
                  <a:pt x="9344" y="17240"/>
                </a:lnTo>
                <a:cubicBezTo>
                  <a:pt x="6921" y="17240"/>
                  <a:pt x="4665" y="14999"/>
                  <a:pt x="4665" y="12576"/>
                </a:cubicBezTo>
                <a:close/>
              </a:path>
            </a:pathLst>
          </a:custGeom>
          <a:solidFill>
            <a:srgbClr val="e1e2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81120" y="3718080"/>
            <a:ext cx="4211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eleteVex(&amp;G, v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删除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顶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及其相关的弧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62120" y="260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1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抽象数据类型图的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438280" y="1066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7.2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存储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873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3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遍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2438280" y="2666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4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最小生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762120" y="3429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5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重（双）连通图和关节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2457360" y="426708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6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两点之间的最短路径问题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76212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7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拓扑排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2432160" y="5791320"/>
            <a:ext cx="29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8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关键路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1" name="SY01265_" descr=""/>
          <p:cNvPicPr/>
          <p:nvPr/>
        </p:nvPicPr>
        <p:blipFill>
          <a:blip r:embed="rId8"/>
          <a:stretch/>
        </p:blipFill>
        <p:spPr>
          <a:xfrm>
            <a:off x="8153280" y="5791320"/>
            <a:ext cx="514440" cy="753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506040" y="4618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插入和删除弧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1589040"/>
            <a:ext cx="83772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sertArc(&amp;G, v, w)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增添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v,w&gt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若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无向的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则还增添对称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w,v&gt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962520"/>
            <a:ext cx="84027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eleteArc(&amp;G, v, w)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删除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v,w&gt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若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无向的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则还删除对称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w,v&gt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8478720" y="6192720"/>
            <a:ext cx="360360" cy="360360"/>
          </a:xfrm>
          <a:custGeom>
            <a:avLst/>
            <a:gdLst>
              <a:gd name="textAreaLeft" fmla="*/ 42840 w 360360"/>
              <a:gd name="textAreaRight" fmla="*/ 317520 w 360360"/>
              <a:gd name="textAreaTop" fmla="*/ 42840 h 360360"/>
              <a:gd name="textAreaBottom" fmla="*/ 317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031" y="2569"/>
                </a:lnTo>
                <a:lnTo>
                  <a:pt x="2569" y="256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031" y="19031"/>
                </a:lnTo>
                <a:lnTo>
                  <a:pt x="19031" y="256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569" y="19031"/>
                </a:lnTo>
                <a:lnTo>
                  <a:pt x="19031" y="1903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569" y="2569"/>
                </a:lnTo>
                <a:lnTo>
                  <a:pt x="2569" y="19031"/>
                </a:lnTo>
                <a:close/>
              </a:path>
              <a:path fill="darken" w="21600" h="21600">
                <a:moveTo>
                  <a:pt x="4665" y="7904"/>
                </a:moveTo>
                <a:lnTo>
                  <a:pt x="7736" y="7904"/>
                </a:lnTo>
                <a:lnTo>
                  <a:pt x="7736" y="12576"/>
                </a:lnTo>
                <a:cubicBezTo>
                  <a:pt x="7736" y="13384"/>
                  <a:pt x="8437" y="14024"/>
                  <a:pt x="9344" y="14024"/>
                </a:cubicBezTo>
                <a:lnTo>
                  <a:pt x="10800" y="14024"/>
                </a:lnTo>
                <a:cubicBezTo>
                  <a:pt x="11707" y="14024"/>
                  <a:pt x="12408" y="13384"/>
                  <a:pt x="12408" y="12576"/>
                </a:cubicBezTo>
                <a:lnTo>
                  <a:pt x="12408" y="7904"/>
                </a:lnTo>
                <a:lnTo>
                  <a:pt x="10800" y="7904"/>
                </a:lnTo>
                <a:lnTo>
                  <a:pt x="13871" y="4833"/>
                </a:lnTo>
                <a:lnTo>
                  <a:pt x="17088" y="7904"/>
                </a:lnTo>
                <a:lnTo>
                  <a:pt x="15479" y="7904"/>
                </a:lnTo>
                <a:lnTo>
                  <a:pt x="15479" y="12576"/>
                </a:lnTo>
                <a:cubicBezTo>
                  <a:pt x="15479" y="14999"/>
                  <a:pt x="13224" y="17240"/>
                  <a:pt x="10800" y="17240"/>
                </a:cubicBezTo>
                <a:lnTo>
                  <a:pt x="9344" y="17240"/>
                </a:lnTo>
                <a:cubicBezTo>
                  <a:pt x="6921" y="17240"/>
                  <a:pt x="4665" y="14999"/>
                  <a:pt x="4665" y="12576"/>
                </a:cubicBezTo>
                <a:close/>
              </a:path>
            </a:pathLst>
          </a:custGeom>
          <a:solidFill>
            <a:srgbClr val="e1e2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16560" y="423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遍   历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85600" y="1384200"/>
            <a:ext cx="5655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FSTraverse(G, v, Visit())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起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深度优先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遍历图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并对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个顶点调用函数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次且仅一次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8478720" y="6192720"/>
            <a:ext cx="360360" cy="360360"/>
          </a:xfrm>
          <a:custGeom>
            <a:avLst/>
            <a:gdLst>
              <a:gd name="textAreaLeft" fmla="*/ 42840 w 360360"/>
              <a:gd name="textAreaRight" fmla="*/ 317520 w 360360"/>
              <a:gd name="textAreaTop" fmla="*/ 42840 h 360360"/>
              <a:gd name="textAreaBottom" fmla="*/ 317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031" y="2569"/>
                </a:lnTo>
                <a:lnTo>
                  <a:pt x="2569" y="256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031" y="19031"/>
                </a:lnTo>
                <a:lnTo>
                  <a:pt x="19031" y="256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569" y="19031"/>
                </a:lnTo>
                <a:lnTo>
                  <a:pt x="19031" y="1903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569" y="2569"/>
                </a:lnTo>
                <a:lnTo>
                  <a:pt x="2569" y="19031"/>
                </a:lnTo>
                <a:close/>
              </a:path>
              <a:path fill="darken" w="21600" h="21600">
                <a:moveTo>
                  <a:pt x="4665" y="7904"/>
                </a:moveTo>
                <a:lnTo>
                  <a:pt x="7736" y="7904"/>
                </a:lnTo>
                <a:lnTo>
                  <a:pt x="7736" y="12576"/>
                </a:lnTo>
                <a:cubicBezTo>
                  <a:pt x="7736" y="13384"/>
                  <a:pt x="8437" y="14024"/>
                  <a:pt x="9344" y="14024"/>
                </a:cubicBezTo>
                <a:lnTo>
                  <a:pt x="10800" y="14024"/>
                </a:lnTo>
                <a:cubicBezTo>
                  <a:pt x="11707" y="14024"/>
                  <a:pt x="12408" y="13384"/>
                  <a:pt x="12408" y="12576"/>
                </a:cubicBezTo>
                <a:lnTo>
                  <a:pt x="12408" y="7904"/>
                </a:lnTo>
                <a:lnTo>
                  <a:pt x="10800" y="7904"/>
                </a:lnTo>
                <a:lnTo>
                  <a:pt x="13871" y="4833"/>
                </a:lnTo>
                <a:lnTo>
                  <a:pt x="17088" y="7904"/>
                </a:lnTo>
                <a:lnTo>
                  <a:pt x="15479" y="7904"/>
                </a:lnTo>
                <a:lnTo>
                  <a:pt x="15479" y="12576"/>
                </a:lnTo>
                <a:cubicBezTo>
                  <a:pt x="15479" y="14999"/>
                  <a:pt x="13224" y="17240"/>
                  <a:pt x="10800" y="17240"/>
                </a:cubicBezTo>
                <a:lnTo>
                  <a:pt x="9344" y="17240"/>
                </a:lnTo>
                <a:cubicBezTo>
                  <a:pt x="6921" y="17240"/>
                  <a:pt x="4665" y="14999"/>
                  <a:pt x="4665" y="12576"/>
                </a:cubicBezTo>
                <a:close/>
              </a:path>
            </a:pathLst>
          </a:custGeom>
          <a:solidFill>
            <a:srgbClr val="e1e2f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85600" y="3809880"/>
            <a:ext cx="5655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BFSTraverse(G, v, Visit())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起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广度优先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遍历图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并对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个顶点调用函数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次且仅一次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08000" y="609480"/>
            <a:ext cx="358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7.2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存储表示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1764360" y="1828800"/>
            <a:ext cx="566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</a:t>
            </a: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图的数组</a:t>
            </a: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邻接矩阵</a:t>
            </a: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存储表示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3422880" y="2895480"/>
            <a:ext cx="424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图的邻接表存储表示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6960" y="4038480"/>
            <a:ext cx="744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有向图的十字链表存储表示 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4489920" y="5135400"/>
            <a:ext cx="424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四、无向图的邻接多重表存储表示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 flipH="1">
            <a:off x="8381880" y="6289560"/>
            <a:ext cx="457200" cy="33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4135680" y="1371600"/>
            <a:ext cx="3938040" cy="1602000"/>
            <a:chOff x="4135680" y="1371600"/>
            <a:chExt cx="3938040" cy="1602000"/>
          </a:xfrm>
        </p:grpSpPr>
        <p:sp>
          <p:nvSpPr>
            <p:cNvPr id="365" name=""/>
            <p:cNvSpPr/>
            <p:nvPr/>
          </p:nvSpPr>
          <p:spPr>
            <a:xfrm>
              <a:off x="4135680" y="1477800"/>
              <a:ext cx="14364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0" lang="zh-CN" sz="4000" spc="-1" strike="noStrike" baseline="-25000">
                  <a:solidFill>
                    <a:srgbClr val="000099"/>
                  </a:solidFill>
                  <a:latin typeface="Times New Roman"/>
                </a:rPr>
                <a:t>ij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r>
                <a:rPr b="0" lang="zh-CN" sz="7200" spc="-1" strike="noStrike">
                  <a:solidFill>
                    <a:srgbClr val="000099"/>
                  </a:solidFill>
                  <a:latin typeface="Times New Roman"/>
                </a:rPr>
                <a:t>{</a:t>
              </a:r>
              <a:endParaRPr b="0" lang="en-US" sz="7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72080" y="1371600"/>
              <a:ext cx="25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0  (i,j)</a:t>
              </a:r>
              <a:r>
                <a:rPr b="0" lang="zh-CN" sz="4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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VR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72080" y="2270160"/>
              <a:ext cx="25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1  (i,j)</a:t>
              </a:r>
              <a:r>
                <a:rPr b="0" lang="en-US" sz="4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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VR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678320" y="144360"/>
            <a:ext cx="567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一、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图的数组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邻接矩阵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存储表示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04920" y="3200400"/>
            <a:ext cx="3805200" cy="2971800"/>
            <a:chOff x="304920" y="3200400"/>
            <a:chExt cx="3805200" cy="2971800"/>
          </a:xfrm>
        </p:grpSpPr>
        <p:sp>
          <p:nvSpPr>
            <p:cNvPr id="370" name=""/>
            <p:cNvSpPr/>
            <p:nvPr/>
          </p:nvSpPr>
          <p:spPr>
            <a:xfrm>
              <a:off x="1219320" y="3200400"/>
              <a:ext cx="455400" cy="55728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4920" y="4419720"/>
              <a:ext cx="455400" cy="53316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1360" y="3581280"/>
              <a:ext cx="7621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6520" y="3429000"/>
              <a:ext cx="136980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120" y="4800600"/>
              <a:ext cx="23605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63560" y="3581280"/>
              <a:ext cx="1230480" cy="221004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1840" y="3505320"/>
              <a:ext cx="609840" cy="9903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676520" y="4876920"/>
              <a:ext cx="1992240" cy="9903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447920" y="3786120"/>
              <a:ext cx="1440" cy="19288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24200" y="320040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54360" y="4419720"/>
              <a:ext cx="455760" cy="53316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56386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19520" y="56386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017360" y="1035000"/>
            <a:ext cx="27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定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矩阵的元素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495680" y="3276720"/>
          <a:ext cx="4307040" cy="31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76720"/>
                    <a:ext cx="430704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762120"/>
            <a:ext cx="4054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有向图的邻接矩阵为非对称矩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09480" y="3124080"/>
            <a:ext cx="3505320" cy="2362320"/>
            <a:chOff x="609480" y="3124080"/>
            <a:chExt cx="3505320" cy="2362320"/>
          </a:xfrm>
        </p:grpSpPr>
        <p:sp>
          <p:nvSpPr>
            <p:cNvPr id="388" name=""/>
            <p:cNvSpPr/>
            <p:nvPr/>
          </p:nvSpPr>
          <p:spPr>
            <a:xfrm flipH="1">
              <a:off x="837720" y="3352680"/>
              <a:ext cx="129564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449568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5120" y="518148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2514600" y="3581280"/>
              <a:ext cx="53352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0920" y="3352680"/>
              <a:ext cx="121896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1066320" y="4266720"/>
              <a:ext cx="175284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676160" y="426708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33720" y="31240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40384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600" y="40384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7920" y="49528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19520" y="495288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00" name=""/>
          <p:cNvGraphicFramePr/>
          <p:nvPr/>
        </p:nvGraphicFramePr>
        <p:xfrm>
          <a:off x="4986360" y="2014560"/>
          <a:ext cx="3014640" cy="28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014560"/>
                    <a:ext cx="301464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5120" y="306360"/>
            <a:ext cx="89488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rcCell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{ // </a:t>
            </a:r>
            <a:r>
              <a:rPr b="1" lang="zh-CN" sz="36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弧的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RType  adj;    // VRType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顶点关系类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无权图，用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或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表示相邻否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带权图，则为权值类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foType  *info;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该弧相关信息的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rcCell,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djMatrix[MAX_VERTEX_NUM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[MAX_VERTEX_NUM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28600" y="457200"/>
            <a:ext cx="8686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 { //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rtexType    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信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xs[MAX_VERTEX_NUM]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djMatrix    arcs;   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弧的信息 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vexnum, arcnum;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数，弧数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raphKind   kind;  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图的种类标志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MGraph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612720" cy="68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5105520" y="685800"/>
            <a:ext cx="3805200" cy="2971800"/>
            <a:chOff x="5105520" y="685800"/>
            <a:chExt cx="3805200" cy="2971800"/>
          </a:xfrm>
        </p:grpSpPr>
        <p:sp>
          <p:nvSpPr>
            <p:cNvPr id="406" name=""/>
            <p:cNvSpPr/>
            <p:nvPr/>
          </p:nvSpPr>
          <p:spPr>
            <a:xfrm>
              <a:off x="8454960" y="2057400"/>
              <a:ext cx="45576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19920" y="685800"/>
              <a:ext cx="455400" cy="55728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05520" y="1905120"/>
              <a:ext cx="455400" cy="53316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331960" y="1066680"/>
              <a:ext cx="7621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77120" y="914400"/>
              <a:ext cx="136980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2720" y="2286000"/>
              <a:ext cx="23605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464160" y="1066680"/>
              <a:ext cx="1230480" cy="221004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02440" y="990720"/>
              <a:ext cx="609840" cy="9903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477120" y="2362320"/>
              <a:ext cx="1992240" cy="9903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248520" y="1271520"/>
              <a:ext cx="1440" cy="19288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24800" y="68580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9920" y="31240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0120" y="3124080"/>
              <a:ext cx="455400" cy="533520"/>
            </a:xfrm>
            <a:prstGeom prst="ellipse">
              <a:avLst/>
            </a:prstGeom>
            <a:solidFill>
              <a:srgbClr val="b3e1b3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50720" y="272880"/>
            <a:ext cx="3969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图的邻接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存储表示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24560" y="2441520"/>
            <a:ext cx="5285520" cy="4416480"/>
            <a:chOff x="124560" y="2441520"/>
            <a:chExt cx="5285520" cy="4416480"/>
          </a:xfrm>
        </p:grpSpPr>
        <p:sp>
          <p:nvSpPr>
            <p:cNvPr id="421" name=""/>
            <p:cNvSpPr/>
            <p:nvPr/>
          </p:nvSpPr>
          <p:spPr>
            <a:xfrm>
              <a:off x="457200" y="2441520"/>
              <a:ext cx="49528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  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A       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1       4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B       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0       4        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C       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3       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D       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2       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E       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0        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1" lang="zh-CN" sz="4400" spc="-1" strike="noStrike">
                  <a:solidFill>
                    <a:srgbClr val="000099"/>
                  </a:solidFill>
                  <a:latin typeface="Times New Roman"/>
                </a:rPr>
                <a:t>F       </a:t>
              </a: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 1       2       3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14400" y="2494080"/>
              <a:ext cx="990720" cy="403848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14400" y="3103560"/>
              <a:ext cx="9907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3789360"/>
              <a:ext cx="9907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14400" y="4475160"/>
              <a:ext cx="9907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14400" y="5160960"/>
              <a:ext cx="9907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4400" y="5846760"/>
              <a:ext cx="99072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23880" y="2494080"/>
              <a:ext cx="0" cy="403848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29000" y="264636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9880" y="264636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287496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2320" y="32558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43200" y="32558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348444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32558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09880" y="32558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19520" y="34844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0" y="32558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32558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62520" y="34844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2320" y="39416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3200" y="39416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52480" y="417024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29000" y="39416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39416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19520" y="41702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2320" y="46274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46274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2480" y="485604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46274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09880" y="46274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19520" y="48560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62320" y="53132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43200" y="53132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52480" y="554184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29000" y="53132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53132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19520" y="55418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2320" y="264636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43200" y="264636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52480" y="287496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62320" y="59990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43200" y="59990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6227640"/>
              <a:ext cx="60984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29000" y="599904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09880" y="59990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19520" y="62276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5680" y="5999040"/>
              <a:ext cx="609840" cy="457200"/>
            </a:xfrm>
            <a:prstGeom prst="rect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6920" y="5999040"/>
              <a:ext cx="0" cy="4572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86200" y="6227640"/>
              <a:ext cx="60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809880" y="279864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86200" y="279864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809880" y="409428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6200" y="409428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809880" y="470376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6200" y="470376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952880" y="340848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29200" y="340848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886200" y="538956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2520" y="5389560"/>
              <a:ext cx="7596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952880" y="607536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9200" y="6075360"/>
              <a:ext cx="76320" cy="2286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4560" y="2514600"/>
              <a:ext cx="78984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800000"/>
                  </a:solidFill>
                  <a:latin typeface="Times New Roman"/>
                </a:rPr>
                <a:t>0 1 2 3 4 5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50720" y="272880"/>
            <a:ext cx="3969000" cy="885960"/>
          </a:xfrm>
          <a:prstGeom prst="rect">
            <a:avLst/>
          </a:prstGeom>
          <a:solidFill>
            <a:srgbClr val="959afd">
              <a:alpha val="50000"/>
            </a:srgbClr>
          </a:solidFill>
          <a:ln cap="sq" w="12600">
            <a:solidFill>
              <a:srgbClr val="be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向图的邻接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391640" y="2438280"/>
            <a:ext cx="4155120" cy="4114800"/>
            <a:chOff x="4391640" y="2438280"/>
            <a:chExt cx="4155120" cy="4114800"/>
          </a:xfrm>
        </p:grpSpPr>
        <p:sp>
          <p:nvSpPr>
            <p:cNvPr id="486" name=""/>
            <p:cNvSpPr/>
            <p:nvPr/>
          </p:nvSpPr>
          <p:spPr>
            <a:xfrm>
              <a:off x="6627960" y="25909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99"/>
                  </a:solidFill>
                  <a:latin typeface="Times New Roman"/>
                </a:rPr>
                <a:t>1        4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0200" y="266688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83360" y="266688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93000" y="289548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3200" y="266688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26360" y="266688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36000" y="289548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7960" y="3352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279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03920" y="48769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99"/>
                  </a:solidFill>
                  <a:latin typeface="Times New Roman"/>
                </a:rPr>
                <a:t>0        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03920" y="5638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0200" y="342900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83360" y="342900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3000" y="365760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50200" y="419112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83360" y="41911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93000" y="441972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0200" y="495288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83360" y="495288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3000" y="518148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50200" y="571500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83360" y="571500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3000" y="594360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93200" y="4952880"/>
              <a:ext cx="838080" cy="4572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26360" y="495288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36000" y="5181480"/>
              <a:ext cx="4572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91640" y="2514600"/>
              <a:ext cx="78984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Times New Roman"/>
                </a:rPr>
                <a:t>0  1  2  3  4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24600" y="2438280"/>
              <a:ext cx="1123920" cy="3902760"/>
            </a:xfrm>
            <a:prstGeom prst="rect">
              <a:avLst/>
            </a:prstGeom>
            <a:solidFill>
              <a:srgbClr val="a7e2ff">
                <a:alpha val="50000"/>
              </a:srgbClr>
            </a:solidFill>
            <a:ln cap="sq"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4400" y="2438280"/>
              <a:ext cx="0" cy="396252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02280" y="3276720"/>
              <a:ext cx="11462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02280" y="4038480"/>
              <a:ext cx="11462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02280" y="4800600"/>
              <a:ext cx="11462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02280" y="5562720"/>
              <a:ext cx="1146240" cy="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10880" y="2514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70760" y="33210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70760" y="40384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13760" y="4800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70760" y="55627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80880" y="1447920"/>
            <a:ext cx="3505320" cy="2361960"/>
            <a:chOff x="380880" y="1447920"/>
            <a:chExt cx="3505320" cy="2361960"/>
          </a:xfrm>
        </p:grpSpPr>
        <p:sp>
          <p:nvSpPr>
            <p:cNvPr id="525" name=""/>
            <p:cNvSpPr/>
            <p:nvPr/>
          </p:nvSpPr>
          <p:spPr>
            <a:xfrm flipH="1">
              <a:off x="609120" y="1676520"/>
              <a:ext cx="129564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2120" y="281952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6520" y="350532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2286000" y="1905120"/>
              <a:ext cx="53352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62320" y="1676520"/>
              <a:ext cx="121896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837720" y="2590920"/>
              <a:ext cx="1752840" cy="76176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1447560" y="259092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05120" y="14479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880" y="23623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23623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2767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90920" y="32767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80880" y="4191120"/>
            <a:ext cx="40388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见，在有向图的邻接表中不易找到指向该顶点的弧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5334120" y="152280"/>
            <a:ext cx="3504960" cy="2286000"/>
            <a:chOff x="5334120" y="152280"/>
            <a:chExt cx="3504960" cy="2286000"/>
          </a:xfrm>
        </p:grpSpPr>
        <p:sp>
          <p:nvSpPr>
            <p:cNvPr id="539" name=""/>
            <p:cNvSpPr/>
            <p:nvPr/>
          </p:nvSpPr>
          <p:spPr>
            <a:xfrm flipH="1">
              <a:off x="5562720" y="380880"/>
              <a:ext cx="12952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5000" y="1523880"/>
              <a:ext cx="457200" cy="5875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2209680"/>
              <a:ext cx="914400" cy="1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086240" y="533160"/>
              <a:ext cx="685800" cy="152388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15200" y="380880"/>
              <a:ext cx="12952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5791320" y="1294920"/>
              <a:ext cx="182880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400440" y="129528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152280"/>
              <a:ext cx="457200" cy="45720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1066680"/>
              <a:ext cx="457200" cy="45720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1880" y="1066680"/>
              <a:ext cx="457200" cy="45720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2200" y="1981080"/>
              <a:ext cx="457200" cy="45720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3800" y="1981080"/>
              <a:ext cx="457200" cy="45720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0880" y="272880"/>
            <a:ext cx="4654800" cy="885960"/>
          </a:xfrm>
          <a:prstGeom prst="rect">
            <a:avLst/>
          </a:prstGeom>
          <a:solidFill>
            <a:srgbClr val="be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向图的逆邻接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480920" y="2806560"/>
            <a:ext cx="4079160" cy="3751560"/>
            <a:chOff x="4480920" y="2806560"/>
            <a:chExt cx="4079160" cy="3751560"/>
          </a:xfrm>
        </p:grpSpPr>
        <p:sp>
          <p:nvSpPr>
            <p:cNvPr id="553" name=""/>
            <p:cNvSpPr/>
            <p:nvPr/>
          </p:nvSpPr>
          <p:spPr>
            <a:xfrm>
              <a:off x="4876920" y="2806560"/>
              <a:ext cx="1123920" cy="37515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cap="sq" w="316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A   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B   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C   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D   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E   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3492360"/>
              <a:ext cx="11430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6920" y="4254480"/>
              <a:ext cx="11430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6920" y="5016600"/>
              <a:ext cx="11430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6920" y="5778360"/>
              <a:ext cx="114300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62720" y="2806560"/>
              <a:ext cx="0" cy="37339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84960" y="3557520"/>
              <a:ext cx="853920" cy="52056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934320" y="3568680"/>
              <a:ext cx="0" cy="53352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91320" y="3873600"/>
              <a:ext cx="609480" cy="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80240" y="3568680"/>
              <a:ext cx="854280" cy="52056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29600" y="3579840"/>
              <a:ext cx="0" cy="53352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86600" y="3884760"/>
              <a:ext cx="609480" cy="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384960" y="2806560"/>
              <a:ext cx="853920" cy="52056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34320" y="2817720"/>
              <a:ext cx="0" cy="53352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1320" y="3122640"/>
              <a:ext cx="609480" cy="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84960" y="4319640"/>
              <a:ext cx="853920" cy="52056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34320" y="4330800"/>
              <a:ext cx="0" cy="53316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91320" y="4635360"/>
              <a:ext cx="609480" cy="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84960" y="5081760"/>
              <a:ext cx="853920" cy="52056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34320" y="5092560"/>
              <a:ext cx="0" cy="53352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91320" y="5397480"/>
              <a:ext cx="609480" cy="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854680"/>
              <a:ext cx="853920" cy="52056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34320" y="5865840"/>
              <a:ext cx="0" cy="53352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91320" y="6170760"/>
              <a:ext cx="609480" cy="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040" y="280656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62000" y="356868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08040" y="433080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08040" y="509256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08040" y="5854680"/>
              <a:ext cx="2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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80920" y="2825640"/>
              <a:ext cx="384840" cy="36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04920" y="1676520"/>
            <a:ext cx="40384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有向图的邻接表中，对每个顶点，链接的是指向该顶点的弧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2760" y="1187280"/>
            <a:ext cx="89312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图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由一个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顶点集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V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和一个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弧集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R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构成的数据结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Graph = (V, R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其中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VR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{&lt;v,w&gt;| v,w∈V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且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P(v,w)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&lt;v,w&gt;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表示从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到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的一条弧，并称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弧头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弧尾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谓词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P(v,w)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定义了弧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&lt;v,w&gt;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意义或信息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26960" y="228600"/>
            <a:ext cx="23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结构定义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38240" y="1905120"/>
            <a:ext cx="9005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rcNode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adjvex;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该弧所指向的顶点的位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rcNode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nextarc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指向下一条弧的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foType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fo;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该弧相关信息的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rcNode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580640" y="777960"/>
            <a:ext cx="4164480" cy="642600"/>
            <a:chOff x="4580640" y="777960"/>
            <a:chExt cx="4164480" cy="642600"/>
          </a:xfrm>
        </p:grpSpPr>
        <p:sp>
          <p:nvSpPr>
            <p:cNvPr id="586" name=""/>
            <p:cNvSpPr/>
            <p:nvPr/>
          </p:nvSpPr>
          <p:spPr>
            <a:xfrm>
              <a:off x="4580640" y="777960"/>
              <a:ext cx="4164480" cy="642600"/>
            </a:xfrm>
            <a:prstGeom prst="rect">
              <a:avLst/>
            </a:prstGeom>
            <a:solidFill>
              <a:srgbClr val="bec1fe">
                <a:alpha val="50000"/>
              </a:srgbClr>
            </a:solidFill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adjvex   nextarc   info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67440" y="809640"/>
              <a:ext cx="0" cy="60948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43960" y="809640"/>
              <a:ext cx="0" cy="60948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01640" y="609480"/>
            <a:ext cx="3336840" cy="70344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弧的结点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05280" y="1935000"/>
            <a:ext cx="8477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Node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rtexType  data;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信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rcNode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arc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指向第一条依附该顶点的弧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Node, AdjList[MAX_VERTEX_NUM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367240" y="762120"/>
            <a:ext cx="2692440" cy="761760"/>
            <a:chOff x="5367240" y="762120"/>
            <a:chExt cx="2692440" cy="761760"/>
          </a:xfrm>
        </p:grpSpPr>
        <p:sp>
          <p:nvSpPr>
            <p:cNvPr id="592" name=""/>
            <p:cNvSpPr/>
            <p:nvPr/>
          </p:nvSpPr>
          <p:spPr>
            <a:xfrm>
              <a:off x="5367240" y="806400"/>
              <a:ext cx="26924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data   firstar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92960" y="762120"/>
              <a:ext cx="0" cy="76176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853920" y="685800"/>
            <a:ext cx="3794400" cy="70344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顶点的结点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57200" y="1905120"/>
            <a:ext cx="82296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 {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djList  vertices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vexnum, arcnum;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kind;          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图的种类标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LGraph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34240" y="696960"/>
            <a:ext cx="4316400" cy="825120"/>
          </a:xfrm>
          <a:prstGeom prst="rect">
            <a:avLst/>
          </a:prstGeom>
          <a:solidFill>
            <a:srgbClr val="ffcc99">
              <a:alpha val="50000"/>
            </a:srgbClr>
          </a:solidFill>
          <a:ln cap="sq"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结构定义</a:t>
            </a: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邻接表</a:t>
            </a: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612720" cy="68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223520" y="15228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有向图的十字链表存储表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58720" y="1143000"/>
            <a:ext cx="1981440" cy="1994040"/>
            <a:chOff x="558720" y="1143000"/>
            <a:chExt cx="1981440" cy="1994040"/>
          </a:xfrm>
        </p:grpSpPr>
        <p:sp>
          <p:nvSpPr>
            <p:cNvPr id="600" name=""/>
            <p:cNvSpPr/>
            <p:nvPr/>
          </p:nvSpPr>
          <p:spPr>
            <a:xfrm>
              <a:off x="558720" y="1308240"/>
              <a:ext cx="533520" cy="533160"/>
            </a:xfrm>
            <a:prstGeom prst="ellipse">
              <a:avLst/>
            </a:prstGeom>
            <a:solidFill>
              <a:srgbClr val="ccffcc"/>
            </a:solidFill>
            <a:ln cap="sq"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44520" y="260352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06640" y="138420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39960" y="1765440"/>
              <a:ext cx="457200" cy="914400"/>
            </a:xfrm>
            <a:prstGeom prst="line">
              <a:avLst/>
            </a:prstGeom>
            <a:ln cap="sq" w="255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92240" y="1536840"/>
              <a:ext cx="990720" cy="0"/>
            </a:xfrm>
            <a:prstGeom prst="line">
              <a:avLst/>
            </a:prstGeom>
            <a:ln cap="sq" w="255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701720" y="1917720"/>
              <a:ext cx="533520" cy="838080"/>
            </a:xfrm>
            <a:prstGeom prst="line">
              <a:avLst/>
            </a:prstGeom>
            <a:ln cap="sq" w="255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39960" y="1143000"/>
              <a:ext cx="1371600" cy="241200"/>
            </a:xfrm>
            <a:custGeom>
              <a:avLst/>
              <a:gdLst/>
              <a:ahLst/>
              <a:rect l="l" t="t" r="r" b="b"/>
              <a:pathLst>
                <a:path w="864" h="152">
                  <a:moveTo>
                    <a:pt x="864" y="152"/>
                  </a:moveTo>
                  <a:cubicBezTo>
                    <a:pt x="696" y="84"/>
                    <a:pt x="528" y="16"/>
                    <a:pt x="384" y="8"/>
                  </a:cubicBezTo>
                  <a:cubicBezTo>
                    <a:pt x="240" y="0"/>
                    <a:pt x="120" y="52"/>
                    <a:pt x="0" y="104"/>
                  </a:cubicBezTo>
                </a:path>
              </a:pathLst>
            </a:custGeom>
            <a:noFill/>
            <a:ln cap="sq" w="25560">
              <a:solidFill>
                <a:srgbClr val="008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523880" y="3549600"/>
            <a:ext cx="1752840" cy="2557440"/>
            <a:chOff x="1523880" y="3549600"/>
            <a:chExt cx="1752840" cy="2557440"/>
          </a:xfrm>
        </p:grpSpPr>
        <p:sp>
          <p:nvSpPr>
            <p:cNvPr id="608" name=""/>
            <p:cNvSpPr/>
            <p:nvPr/>
          </p:nvSpPr>
          <p:spPr>
            <a:xfrm>
              <a:off x="1523880" y="3549600"/>
              <a:ext cx="1752840" cy="2557440"/>
            </a:xfrm>
            <a:prstGeom prst="rect">
              <a:avLst/>
            </a:prstGeom>
            <a:solidFill>
              <a:srgbClr val="ffff99"/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23880" y="4343400"/>
              <a:ext cx="1752840" cy="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23880" y="5257800"/>
              <a:ext cx="1752840" cy="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09680" y="3581280"/>
              <a:ext cx="0" cy="25146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3581280"/>
              <a:ext cx="0" cy="25146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42040" y="365760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</a:rPr>
              <a:t>0  1  2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80280" y="4495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71800" y="3581280"/>
            <a:ext cx="5562720" cy="2438280"/>
            <a:chOff x="2971800" y="3581280"/>
            <a:chExt cx="5562720" cy="2438280"/>
          </a:xfrm>
        </p:grpSpPr>
        <p:sp>
          <p:nvSpPr>
            <p:cNvPr id="616" name=""/>
            <p:cNvSpPr/>
            <p:nvPr/>
          </p:nvSpPr>
          <p:spPr>
            <a:xfrm>
              <a:off x="6705720" y="5352840"/>
              <a:ext cx="1828800" cy="642600"/>
            </a:xfrm>
            <a:prstGeom prst="rect">
              <a:avLst/>
            </a:prstGeom>
            <a:solidFill>
              <a:srgbClr val="ccff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0  2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∧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∧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09880" y="3600360"/>
              <a:ext cx="1828800" cy="642600"/>
            </a:xfrm>
            <a:prstGeom prst="rect">
              <a:avLst/>
            </a:prstGeom>
            <a:solidFill>
              <a:srgbClr val="ccff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0  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62920" y="533376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20120" y="533376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77320" y="533376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7080" y="358128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24280" y="358128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81480" y="358128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71800" y="3962160"/>
              <a:ext cx="8380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  <a:headEnd len="med" type="oval" w="med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0080" y="3962160"/>
              <a:ext cx="45720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67280" y="3962160"/>
              <a:ext cx="0" cy="167652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67280" y="5638680"/>
              <a:ext cx="83844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971800" y="3581280"/>
            <a:ext cx="5562720" cy="2438280"/>
            <a:chOff x="2971800" y="3581280"/>
            <a:chExt cx="5562720" cy="2438280"/>
          </a:xfrm>
        </p:grpSpPr>
        <p:sp>
          <p:nvSpPr>
            <p:cNvPr id="629" name=""/>
            <p:cNvSpPr/>
            <p:nvPr/>
          </p:nvSpPr>
          <p:spPr>
            <a:xfrm>
              <a:off x="3809880" y="5352840"/>
              <a:ext cx="1828800" cy="642600"/>
            </a:xfrm>
            <a:prstGeom prst="rect">
              <a:avLst/>
            </a:prstGeom>
            <a:solidFill>
              <a:srgbClr val="ccff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2  1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5720" y="3600360"/>
              <a:ext cx="1828800" cy="642600"/>
            </a:xfrm>
            <a:prstGeom prst="rect">
              <a:avLst/>
            </a:prstGeom>
            <a:solidFill>
              <a:srgbClr val="ccffff"/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Times New Roman"/>
                </a:rPr>
                <a:t>2  0 </a:t>
              </a: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∧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 ∧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67080" y="533376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4280" y="533376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81480" y="533376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62920" y="358128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20120" y="358128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77320" y="3581280"/>
              <a:ext cx="0" cy="685800"/>
            </a:xfrm>
            <a:prstGeom prst="line">
              <a:avLst/>
            </a:prstGeom>
            <a:ln cap="sq"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71800" y="5715000"/>
              <a:ext cx="8380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  <a:headEnd len="med" type="oval" w="med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410080" y="4952520"/>
              <a:ext cx="0" cy="68580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10080" y="4952880"/>
              <a:ext cx="60984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019920" y="3962160"/>
              <a:ext cx="0" cy="99072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19920" y="3962160"/>
              <a:ext cx="68580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362320" y="2819160"/>
            <a:ext cx="5410080" cy="1143000"/>
            <a:chOff x="2362320" y="2819160"/>
            <a:chExt cx="5410080" cy="1143000"/>
          </a:xfrm>
        </p:grpSpPr>
        <p:sp>
          <p:nvSpPr>
            <p:cNvPr id="643" name=""/>
            <p:cNvSpPr/>
            <p:nvPr/>
          </p:nvSpPr>
          <p:spPr>
            <a:xfrm flipV="1">
              <a:off x="2362320" y="2819160"/>
              <a:ext cx="0" cy="114300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62320" y="2819520"/>
              <a:ext cx="541008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72400" y="2819520"/>
              <a:ext cx="0" cy="8384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952880" y="3962520"/>
            <a:ext cx="0" cy="1371600"/>
          </a:xfrm>
          <a:prstGeom prst="line">
            <a:avLst/>
          </a:prstGeom>
          <a:ln cap="sq" w="28440">
            <a:solidFill>
              <a:srgbClr val="cc3300"/>
            </a:solidFill>
            <a:miter/>
            <a:headEnd len="med" type="oval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3048120"/>
            <a:ext cx="0" cy="1752480"/>
          </a:xfrm>
          <a:prstGeom prst="line">
            <a:avLst/>
          </a:prstGeom>
          <a:ln cap="sq" w="28440">
            <a:solidFill>
              <a:srgbClr val="cc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3048120"/>
            <a:ext cx="0" cy="609480"/>
          </a:xfrm>
          <a:prstGeom prst="line">
            <a:avLst/>
          </a:prstGeom>
          <a:ln cap="sq" w="28440">
            <a:solidFill>
              <a:srgbClr val="cc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2514600" y="5715000"/>
            <a:ext cx="5334120" cy="838080"/>
            <a:chOff x="2514600" y="5715000"/>
            <a:chExt cx="5334120" cy="838080"/>
          </a:xfrm>
        </p:grpSpPr>
        <p:sp>
          <p:nvSpPr>
            <p:cNvPr id="651" name=""/>
            <p:cNvSpPr/>
            <p:nvPr/>
          </p:nvSpPr>
          <p:spPr>
            <a:xfrm>
              <a:off x="2514600" y="5715000"/>
              <a:ext cx="0" cy="83808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14600" y="6553080"/>
              <a:ext cx="533412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848720" y="6019560"/>
              <a:ext cx="0" cy="53352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280" y="228600"/>
            <a:ext cx="304812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弧的结点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52280" y="1752480"/>
            <a:ext cx="8991720" cy="628920"/>
            <a:chOff x="152280" y="1752480"/>
            <a:chExt cx="8991720" cy="628920"/>
          </a:xfrm>
        </p:grpSpPr>
        <p:sp>
          <p:nvSpPr>
            <p:cNvPr id="656" name=""/>
            <p:cNvSpPr/>
            <p:nvPr/>
          </p:nvSpPr>
          <p:spPr>
            <a:xfrm>
              <a:off x="152280" y="1752480"/>
              <a:ext cx="8991720" cy="581400"/>
            </a:xfrm>
            <a:prstGeom prst="rect">
              <a:avLst/>
            </a:prstGeom>
            <a:solidFill>
              <a:srgbClr val="ccffff"/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  <a:ea typeface="楷体_GB2312"/>
                </a:rPr>
                <a:t>弧尾顶点位置 弧头顶点位置             弧的相关信息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43200" y="1771560"/>
              <a:ext cx="0" cy="609840"/>
            </a:xfrm>
            <a:prstGeom prst="line">
              <a:avLst/>
            </a:prstGeom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10080" y="1771560"/>
              <a:ext cx="0" cy="609840"/>
            </a:xfrm>
            <a:prstGeom prst="line">
              <a:avLst/>
            </a:prstGeom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77120" y="1771560"/>
              <a:ext cx="0" cy="609840"/>
            </a:xfrm>
            <a:prstGeom prst="line">
              <a:avLst/>
            </a:prstGeom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3600" y="1771560"/>
              <a:ext cx="0" cy="609840"/>
            </a:xfrm>
            <a:prstGeom prst="line">
              <a:avLst/>
            </a:prstGeom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638680" y="2076480"/>
            <a:ext cx="0" cy="685800"/>
          </a:xfrm>
          <a:prstGeom prst="line">
            <a:avLst/>
          </a:prstGeom>
          <a:ln cap="sq" w="3168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2076480"/>
            <a:ext cx="0" cy="685800"/>
          </a:xfrm>
          <a:prstGeom prst="line">
            <a:avLst/>
          </a:prstGeom>
          <a:ln cap="sq" w="3168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2514600"/>
            <a:ext cx="2133720" cy="94716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指向下一个</a:t>
            </a:r>
            <a:r>
              <a:rPr b="1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有相同弧尾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结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52680" y="2514600"/>
            <a:ext cx="2133720" cy="94716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指向下一个</a:t>
            </a:r>
            <a:r>
              <a:rPr b="1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有相同弧头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结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4175280"/>
            <a:ext cx="85345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rcBox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弧的结构表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tailvex, headvex;   InfoType  *info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uct ArcBox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hlink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*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link;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exNode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" y="11430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ailvex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99680" y="11430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headvex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52880" y="11430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hlin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4320" y="11430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lin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840" y="114300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80880" y="228600"/>
            <a:ext cx="342900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顶点的结点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38080" y="1536840"/>
            <a:ext cx="6019920" cy="628560"/>
            <a:chOff x="838080" y="1536840"/>
            <a:chExt cx="6019920" cy="628560"/>
          </a:xfrm>
        </p:grpSpPr>
        <p:sp>
          <p:nvSpPr>
            <p:cNvPr id="673" name=""/>
            <p:cNvSpPr/>
            <p:nvPr/>
          </p:nvSpPr>
          <p:spPr>
            <a:xfrm>
              <a:off x="838080" y="1536840"/>
              <a:ext cx="6019920" cy="581400"/>
            </a:xfrm>
            <a:prstGeom prst="rect">
              <a:avLst/>
            </a:prstGeom>
            <a:solidFill>
              <a:srgbClr val="ccffff"/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  <a:ea typeface="楷体_GB2312"/>
                </a:rPr>
                <a:t>顶点信息数据           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98840" y="1555920"/>
              <a:ext cx="0" cy="609480"/>
            </a:xfrm>
            <a:prstGeom prst="line">
              <a:avLst/>
            </a:prstGeom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1480" y="1555920"/>
              <a:ext cx="0" cy="609480"/>
            </a:xfrm>
            <a:prstGeom prst="line">
              <a:avLst/>
            </a:prstGeom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343400" y="1841400"/>
            <a:ext cx="0" cy="685800"/>
          </a:xfrm>
          <a:prstGeom prst="line">
            <a:avLst/>
          </a:prstGeom>
          <a:ln cap="sq" w="3168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1860480"/>
            <a:ext cx="0" cy="685800"/>
          </a:xfrm>
          <a:prstGeom prst="line">
            <a:avLst/>
          </a:prstGeom>
          <a:ln cap="sq" w="3168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28800" y="2317680"/>
            <a:ext cx="2362320" cy="52056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指向该顶点的</a:t>
            </a:r>
            <a:r>
              <a:rPr b="1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第一条入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2200" y="2317680"/>
            <a:ext cx="2362320" cy="52056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指向该顶点的</a:t>
            </a:r>
            <a:r>
              <a:rPr b="1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第一条出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27280" y="3559320"/>
            <a:ext cx="75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exNode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顶点的结构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rtexType  data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rcBox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in,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out;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exNode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31320" y="9144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at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36080" y="9144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i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59960" y="9144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ou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320" y="1371600"/>
            <a:ext cx="9219960" cy="47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 {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xNode  xlist[MAX_VERTEX_NUM];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结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表头向量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vexnum, arcnum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有向图的当前顶点数和弧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OLGraph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31240" y="338040"/>
            <a:ext cx="4541760" cy="703440"/>
          </a:xfrm>
          <a:prstGeom prst="rect">
            <a:avLst/>
          </a:prstGeom>
          <a:solidFill>
            <a:srgbClr val="ffcc99">
              <a:alpha val="50000"/>
            </a:srgbClr>
          </a:solidFill>
          <a:ln cap="sq"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有向图的结构表示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十字链表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612720" cy="68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4349160" y="228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四、无向图的邻接多重表存储表示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1801800"/>
            <a:ext cx="87631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Ebox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If       mark;   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访问标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ivex, jvex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该边依附的两个顶点的位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uc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EBox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link,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jlink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foType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fo;       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该边信息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EBox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96480" y="1143000"/>
            <a:ext cx="182664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边的结构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03000" y="4191120"/>
            <a:ext cx="7965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 {  //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邻接多重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xBox  adjmulist[MAX_VERTEX_NUM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vexnum, edgenum;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AMLGraph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57880" y="152280"/>
            <a:ext cx="210096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顶点的结构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27840" y="838080"/>
            <a:ext cx="43138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exBox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ertexType  data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EBox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irstedge; //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指向第一条依附该顶点的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exBox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19280" y="3352680"/>
            <a:ext cx="2375280" cy="75204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无向图的结构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612720" cy="68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286000" y="13644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3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图的遍历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153800" y="1287360"/>
            <a:ext cx="685548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图中某个顶点出发游历图，访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图中其余顶点，并且使图中的每个顶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仅被访问一次的过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676520" y="38098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深度优先搜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2835360" y="4800600"/>
            <a:ext cx="36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度优先搜索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4784760"/>
            <a:ext cx="457200" cy="533520"/>
          </a:xfrm>
          <a:custGeom>
            <a:avLst/>
            <a:gdLst>
              <a:gd name="textAreaLeft" fmla="*/ 153000 w 457200"/>
              <a:gd name="textAreaRight" fmla="*/ 304200 w 457200"/>
              <a:gd name="textAreaTop" fmla="*/ 178560 h 533520"/>
              <a:gd name="textAreaBottom" fmla="*/ 354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26" y="7226"/>
                </a:lnTo>
                <a:lnTo>
                  <a:pt x="10800" y="0"/>
                </a:lnTo>
                <a:lnTo>
                  <a:pt x="14374" y="7226"/>
                </a:lnTo>
                <a:lnTo>
                  <a:pt x="21600" y="10800"/>
                </a:lnTo>
                <a:lnTo>
                  <a:pt x="14374" y="14374"/>
                </a:lnTo>
                <a:lnTo>
                  <a:pt x="10800" y="21600"/>
                </a:lnTo>
                <a:lnTo>
                  <a:pt x="7226" y="14374"/>
                </a:lnTo>
                <a:lnTo>
                  <a:pt x="0" y="10800"/>
                </a:lnTo>
                <a:close/>
              </a:path>
            </a:pathLst>
          </a:custGeom>
          <a:solidFill>
            <a:srgbClr val="e23512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794040"/>
            <a:ext cx="457200" cy="457200"/>
          </a:xfrm>
          <a:custGeom>
            <a:avLst/>
            <a:gdLst>
              <a:gd name="textAreaLeft" fmla="*/ 153000 w 457200"/>
              <a:gd name="textAreaRight" fmla="*/ 304200 w 457200"/>
              <a:gd name="textAreaTop" fmla="*/ 153000 h 457200"/>
              <a:gd name="textAreaBottom" fmla="*/ 3042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26" y="7226"/>
                </a:lnTo>
                <a:lnTo>
                  <a:pt x="10800" y="0"/>
                </a:lnTo>
                <a:lnTo>
                  <a:pt x="14374" y="7226"/>
                </a:lnTo>
                <a:lnTo>
                  <a:pt x="21600" y="10800"/>
                </a:lnTo>
                <a:lnTo>
                  <a:pt x="14374" y="14374"/>
                </a:lnTo>
                <a:lnTo>
                  <a:pt x="10800" y="21600"/>
                </a:lnTo>
                <a:lnTo>
                  <a:pt x="7226" y="14374"/>
                </a:lnTo>
                <a:lnTo>
                  <a:pt x="0" y="10800"/>
                </a:lnTo>
                <a:close/>
              </a:path>
            </a:pathLst>
          </a:custGeom>
          <a:solidFill>
            <a:srgbClr val="e23512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1" name="">
            <a:hlinkClick r:id="rId2" action="ppaction://hlinksldjump"/>
          </p:cNvPr>
          <p:cNvSpPr/>
          <p:nvPr/>
        </p:nvSpPr>
        <p:spPr>
          <a:xfrm>
            <a:off x="3978360" y="5780160"/>
            <a:ext cx="371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遍历应用举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152640 w 457200"/>
              <a:gd name="textAreaRight" fmla="*/ 304560 w 457200"/>
              <a:gd name="textAreaTop" fmla="*/ 177840 h 533160"/>
              <a:gd name="textAreaBottom" fmla="*/ 3553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11" y="7211"/>
                </a:lnTo>
                <a:lnTo>
                  <a:pt x="10800" y="0"/>
                </a:lnTo>
                <a:lnTo>
                  <a:pt x="14389" y="7211"/>
                </a:lnTo>
                <a:lnTo>
                  <a:pt x="21600" y="10800"/>
                </a:lnTo>
                <a:lnTo>
                  <a:pt x="14389" y="14389"/>
                </a:lnTo>
                <a:lnTo>
                  <a:pt x="10800" y="21600"/>
                </a:lnTo>
                <a:lnTo>
                  <a:pt x="7211" y="14389"/>
                </a:lnTo>
                <a:lnTo>
                  <a:pt x="0" y="10800"/>
                </a:lnTo>
                <a:close/>
              </a:path>
            </a:pathLst>
          </a:custGeom>
          <a:solidFill>
            <a:srgbClr val="e23512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 flipH="1">
            <a:off x="8381880" y="6289560"/>
            <a:ext cx="457200" cy="33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04920"/>
            <a:ext cx="876312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由于“弧”是有方向的，因此称由顶点集和弧集构成的图为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有向图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200400"/>
            <a:ext cx="4038840" cy="2666880"/>
            <a:chOff x="380880" y="3200400"/>
            <a:chExt cx="4038840" cy="2666880"/>
          </a:xfrm>
        </p:grpSpPr>
        <p:sp>
          <p:nvSpPr>
            <p:cNvPr id="96" name=""/>
            <p:cNvSpPr/>
            <p:nvPr/>
          </p:nvSpPr>
          <p:spPr>
            <a:xfrm>
              <a:off x="3733920" y="419112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05120" y="32004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9320" y="52578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419112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5257800"/>
              <a:ext cx="685800" cy="609480"/>
            </a:xfrm>
            <a:prstGeom prst="ellipse">
              <a:avLst/>
            </a:prstGeom>
            <a:noFill/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914400" y="3581280"/>
              <a:ext cx="990720" cy="60984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4724280"/>
              <a:ext cx="380880" cy="60984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5120" y="5562720"/>
              <a:ext cx="83808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2438280" y="3733560"/>
              <a:ext cx="609840" cy="152388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90920" y="3505320"/>
              <a:ext cx="1295280" cy="76176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066320" y="4571640"/>
              <a:ext cx="175284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752480" y="4572000"/>
              <a:ext cx="198144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80880" y="1905120"/>
            <a:ext cx="17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981080"/>
            <a:ext cx="3429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= (V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, V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819520"/>
            <a:ext cx="426708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其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={A, B, C, D, E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R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={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lt;A,B&gt;, &lt;A,E&gt;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&lt;B,C&gt;, &lt;C,D&gt;, &lt;D,B&gt;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&lt;D,A&gt;, &lt;E,C&gt;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04920" y="2540160"/>
            <a:ext cx="8458200" cy="27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图中某个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顶点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V</a:t>
            </a:r>
            <a:r>
              <a:rPr b="1" lang="zh-CN" sz="36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出发，访问此顶点，然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依次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各个未被访问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邻接点出发深度优先搜索遍历图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直至图中所有和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有路径相通的顶点都被访问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28720" y="3808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深度优先搜索遍历图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4560" y="16606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连通图的深度优先搜索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07" name="Stained%20Glass%20Ball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304920" y="1600200"/>
            <a:ext cx="2438280" cy="1828800"/>
            <a:chOff x="304920" y="1600200"/>
            <a:chExt cx="2438280" cy="1828800"/>
          </a:xfrm>
        </p:grpSpPr>
        <p:sp>
          <p:nvSpPr>
            <p:cNvPr id="709" name=""/>
            <p:cNvSpPr/>
            <p:nvPr/>
          </p:nvSpPr>
          <p:spPr>
            <a:xfrm>
              <a:off x="304920" y="1600200"/>
              <a:ext cx="2438280" cy="182880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4080" y="2819520"/>
              <a:ext cx="73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G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523880" y="1676520"/>
            <a:ext cx="1828800" cy="1752480"/>
            <a:chOff x="1523880" y="1676520"/>
            <a:chExt cx="1828800" cy="1752480"/>
          </a:xfrm>
        </p:grpSpPr>
        <p:sp>
          <p:nvSpPr>
            <p:cNvPr id="712" name=""/>
            <p:cNvSpPr/>
            <p:nvPr/>
          </p:nvSpPr>
          <p:spPr>
            <a:xfrm>
              <a:off x="1523880" y="1676520"/>
              <a:ext cx="1828800" cy="17524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09680" y="28195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G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429000" y="1676520"/>
            <a:ext cx="914400" cy="1752480"/>
            <a:chOff x="3429000" y="1676520"/>
            <a:chExt cx="914400" cy="1752480"/>
          </a:xfrm>
        </p:grpSpPr>
        <p:sp>
          <p:nvSpPr>
            <p:cNvPr id="715" name=""/>
            <p:cNvSpPr/>
            <p:nvPr/>
          </p:nvSpPr>
          <p:spPr>
            <a:xfrm>
              <a:off x="3429000" y="1676520"/>
              <a:ext cx="914400" cy="17524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3600" y="2743200"/>
              <a:ext cx="73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G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84760" y="466560"/>
            <a:ext cx="43592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均为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邻接点，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SG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SG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和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SG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分别为含顶点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子图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50840" y="3819600"/>
            <a:ext cx="7026480" cy="2594520"/>
          </a:xfrm>
          <a:prstGeom prst="rect">
            <a:avLst/>
          </a:prstGeom>
          <a:solidFill>
            <a:srgbClr val="e1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访问顶点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 (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W</a:t>
            </a:r>
            <a:r>
              <a:rPr b="0" lang="zh-CN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若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该邻接点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W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未被访问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则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它出发进行深度优先搜索遍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38080" y="533520"/>
            <a:ext cx="3276720" cy="1828800"/>
            <a:chOff x="838080" y="533520"/>
            <a:chExt cx="3276720" cy="1828800"/>
          </a:xfrm>
        </p:grpSpPr>
        <p:sp>
          <p:nvSpPr>
            <p:cNvPr id="720" name=""/>
            <p:cNvSpPr/>
            <p:nvPr/>
          </p:nvSpPr>
          <p:spPr>
            <a:xfrm>
              <a:off x="2133720" y="533520"/>
              <a:ext cx="609480" cy="609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8080" y="1676520"/>
              <a:ext cx="533520" cy="609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66680" y="838080"/>
              <a:ext cx="1067040" cy="83844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209320" y="1143000"/>
              <a:ext cx="228600" cy="60948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838080"/>
              <a:ext cx="1143000" cy="9144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81280" y="1676520"/>
              <a:ext cx="533520" cy="609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8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05120" y="1752480"/>
              <a:ext cx="533160" cy="609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 flipH="1">
            <a:off x="609120" y="2057400"/>
            <a:ext cx="228600" cy="838080"/>
          </a:xfrm>
          <a:prstGeom prst="line">
            <a:avLst/>
          </a:prstGeom>
          <a:ln w="1260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09480" y="2285640"/>
            <a:ext cx="1371600" cy="609480"/>
          </a:xfrm>
          <a:prstGeom prst="line">
            <a:avLst/>
          </a:prstGeom>
          <a:ln w="1260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089000" y="609480"/>
            <a:ext cx="50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上页的图解可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5480" y="1600200"/>
            <a:ext cx="813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深度优先搜索遍历连通图的过程类似于树的先根遍历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64832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解决的办法是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每个顶点设立一个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访问标志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isited[w]”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57880" y="3565440"/>
            <a:ext cx="56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如何判别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邻接点是否被访问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304920" y="455760"/>
            <a:ext cx="88390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DFS(Graph G,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)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顶点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出发，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深度优先搜索遍历连通图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ed[v] =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TRUE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   VisitFunc(v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w=FirstAdjVex(G, v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0; w=NextAdjVex(G,v,w)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visited[w])  DFS(G, w)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尚未访问的邻接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递归调用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F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DF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457200" y="1981080"/>
            <a:ext cx="82296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首先将图中每个顶点的访问标志设为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ALSE,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之后搜索图中每个顶点，如果未被访问，则以该顶点为起始点，进行深度优先搜索遍历，否则继续检查下一顶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96240" y="746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非连通图的深度优先搜索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36" name="Stained%20Glass%20Ball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38240" y="76320"/>
            <a:ext cx="8853480" cy="6674760"/>
          </a:xfrm>
          <a:prstGeom prst="rect">
            <a:avLst/>
          </a:prstGeom>
          <a:solidFill>
            <a:srgbClr val="e1e2ff"/>
          </a:solidFill>
          <a:ln cap="sq" w="50760">
            <a:solidFill>
              <a:srgbClr val="959a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DFSTraverse(Graph G,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atus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)(int v)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图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作深度优先遍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Func = Visit;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v=0; v&lt;G.vexnum;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)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ed[v] =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ALSE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访问标志数组初始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v=0; v&lt;G.vexnum; ++v)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isited[v])  DFS(G, v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尚未访问的顶点调用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F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609480" y="685800"/>
            <a:ext cx="5181480" cy="3048120"/>
            <a:chOff x="609480" y="685800"/>
            <a:chExt cx="5181480" cy="3048120"/>
          </a:xfrm>
        </p:grpSpPr>
        <p:grpSp>
          <p:nvGrpSpPr>
            <p:cNvPr id="739" name=""/>
            <p:cNvGrpSpPr/>
            <p:nvPr/>
          </p:nvGrpSpPr>
          <p:grpSpPr>
            <a:xfrm>
              <a:off x="761760" y="1066680"/>
              <a:ext cx="5029200" cy="2667240"/>
              <a:chOff x="761760" y="1066680"/>
              <a:chExt cx="5029200" cy="2667240"/>
            </a:xfrm>
          </p:grpSpPr>
          <p:sp>
            <p:nvSpPr>
              <p:cNvPr id="740" name=""/>
              <p:cNvSpPr/>
              <p:nvPr/>
            </p:nvSpPr>
            <p:spPr>
              <a:xfrm>
                <a:off x="2590560" y="106668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62160" y="106668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760" y="220968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23880" y="327672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981080" y="220968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d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24080" y="220968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e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504960" y="3276720"/>
                <a:ext cx="53352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k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343400" y="2209680"/>
                <a:ext cx="53316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57800" y="1371600"/>
                <a:ext cx="533160" cy="45720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cap="sq"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</a:rPr>
                  <a:t>g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990000" y="1295280"/>
                <a:ext cx="1600200" cy="91440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90360" y="2666880"/>
                <a:ext cx="609840" cy="68580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057400" y="3505320"/>
                <a:ext cx="1447560" cy="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2286000" y="1447920"/>
                <a:ext cx="380880" cy="761760"/>
              </a:xfrm>
              <a:prstGeom prst="line">
                <a:avLst/>
              </a:prstGeom>
              <a:ln cap="sq"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1752480" y="2590920"/>
                <a:ext cx="380880" cy="68580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581280" y="2666880"/>
                <a:ext cx="152280" cy="60984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047760" y="1447920"/>
                <a:ext cx="304920" cy="761760"/>
              </a:xfrm>
              <a:prstGeom prst="line">
                <a:avLst/>
              </a:prstGeom>
              <a:ln cap="sq"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124080" y="1295280"/>
                <a:ext cx="1447920" cy="914400"/>
              </a:xfrm>
              <a:prstGeom prst="line">
                <a:avLst/>
              </a:prstGeom>
              <a:ln cap="sq"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4038120" y="2666880"/>
                <a:ext cx="609480" cy="76212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5680" y="1295280"/>
                <a:ext cx="762120" cy="22860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1981080" y="2590920"/>
                <a:ext cx="2438280" cy="761760"/>
              </a:xfrm>
              <a:prstGeom prst="line">
                <a:avLst/>
              </a:prstGeom>
              <a:ln cap="sq"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3733560" y="289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62160" y="685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7636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9568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10080" y="990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47560" y="289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14600" y="685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80094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666880" y="4114800"/>
            <a:ext cx="5540400" cy="1143000"/>
            <a:chOff x="2666880" y="4114800"/>
            <a:chExt cx="5540400" cy="1143000"/>
          </a:xfrm>
        </p:grpSpPr>
        <p:sp>
          <p:nvSpPr>
            <p:cNvPr id="770" name=""/>
            <p:cNvSpPr/>
            <p:nvPr/>
          </p:nvSpPr>
          <p:spPr>
            <a:xfrm>
              <a:off x="2666880" y="4564080"/>
              <a:ext cx="5540400" cy="642600"/>
            </a:xfrm>
            <a:prstGeom prst="rect">
              <a:avLst/>
            </a:prstGeom>
            <a:solidFill>
              <a:srgbClr val="ebebff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F   F   F   F   F   F   F   F   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5440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6388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7372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8320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9268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0252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1200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21480" y="4572000"/>
              <a:ext cx="0" cy="685800"/>
            </a:xfrm>
            <a:prstGeom prst="line">
              <a:avLst/>
            </a:prstGeom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65520" y="4114800"/>
              <a:ext cx="53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0      1      2      3      4      5      6      7     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274464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5448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396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57344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8328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276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44688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12080" y="4572000"/>
            <a:ext cx="4856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20120" y="4572000"/>
            <a:ext cx="488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66880" y="5607000"/>
            <a:ext cx="60984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276720" y="5607000"/>
            <a:ext cx="60948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5607000"/>
            <a:ext cx="60948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95680" y="5607000"/>
            <a:ext cx="60984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105520" y="5607000"/>
            <a:ext cx="55224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15000" y="5607000"/>
            <a:ext cx="60948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24480" y="5607000"/>
            <a:ext cx="60984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e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991200" y="5607000"/>
            <a:ext cx="55260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43800" y="5607000"/>
            <a:ext cx="685800" cy="642600"/>
          </a:xfrm>
          <a:prstGeom prst="rect">
            <a:avLst/>
          </a:prstGeom>
          <a:solidFill>
            <a:srgbClr val="959a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90920" y="1066680"/>
            <a:ext cx="53316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990360" y="1295280"/>
            <a:ext cx="1600200" cy="91440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2209680"/>
            <a:ext cx="53316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90720" y="2666880"/>
            <a:ext cx="609480" cy="68580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23880" y="3276720"/>
            <a:ext cx="53352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752120" y="2590920"/>
            <a:ext cx="381240" cy="68580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57400" y="3505320"/>
            <a:ext cx="14479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05320" y="3276720"/>
            <a:ext cx="53316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038480" y="2666880"/>
            <a:ext cx="609840" cy="76212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3400" y="2209680"/>
            <a:ext cx="53352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666880"/>
            <a:ext cx="152640" cy="60984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2209680"/>
            <a:ext cx="53352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2209680"/>
            <a:ext cx="53352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1066680"/>
            <a:ext cx="53316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1295280"/>
            <a:ext cx="762120" cy="22860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57800" y="1371600"/>
            <a:ext cx="533520" cy="457200"/>
          </a:xfrm>
          <a:prstGeom prst="ellipse">
            <a:avLst/>
          </a:prstGeom>
          <a:solidFill>
            <a:srgbClr val="ff00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86800" y="449568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访问标志</a:t>
            </a: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9840" y="563868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访问次序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60000" y="22860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例如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286000" y="1447920"/>
            <a:ext cx="380880" cy="761760"/>
          </a:xfrm>
          <a:prstGeom prst="line">
            <a:avLst/>
          </a:prstGeom>
          <a:ln cap="sq"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048120" y="1447920"/>
            <a:ext cx="304560" cy="761760"/>
          </a:xfrm>
          <a:prstGeom prst="line">
            <a:avLst/>
          </a:prstGeom>
          <a:ln cap="sq"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24080" y="1295280"/>
            <a:ext cx="1447920" cy="914400"/>
          </a:xfrm>
          <a:prstGeom prst="line">
            <a:avLst/>
          </a:prstGeom>
          <a:ln cap="sq"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981080" y="2590920"/>
            <a:ext cx="2438640" cy="761760"/>
          </a:xfrm>
          <a:prstGeom prst="line">
            <a:avLst/>
          </a:prstGeom>
          <a:ln cap="sq"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086600" y="228600"/>
            <a:ext cx="53352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91520" y="685800"/>
            <a:ext cx="0" cy="304920"/>
          </a:xfrm>
          <a:prstGeom prst="line">
            <a:avLst/>
          </a:prstGeom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86600" y="990720"/>
            <a:ext cx="53352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86600" y="1752480"/>
            <a:ext cx="53352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91520" y="1447920"/>
            <a:ext cx="0" cy="304560"/>
          </a:xfrm>
          <a:prstGeom prst="line">
            <a:avLst/>
          </a:prstGeom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53080" y="2514600"/>
            <a:ext cx="53352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20120" y="2514600"/>
            <a:ext cx="53316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86600" y="3276720"/>
            <a:ext cx="53352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153280" y="3276720"/>
            <a:ext cx="533520" cy="457200"/>
          </a:xfrm>
          <a:prstGeom prst="ellipse">
            <a:avLst/>
          </a:prstGeom>
          <a:solidFill>
            <a:srgbClr val="bdd7e5"/>
          </a:solidFill>
          <a:ln cap="sq"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857640" y="2057400"/>
            <a:ext cx="228600" cy="457200"/>
          </a:xfrm>
          <a:prstGeom prst="line">
            <a:avLst/>
          </a:prstGeom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20120" y="2057400"/>
            <a:ext cx="228600" cy="457200"/>
          </a:xfrm>
          <a:prstGeom prst="line">
            <a:avLst/>
          </a:prstGeom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391160" y="2819520"/>
            <a:ext cx="228600" cy="457200"/>
          </a:xfrm>
          <a:prstGeom prst="line">
            <a:avLst/>
          </a:prstGeom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153280" y="2819520"/>
            <a:ext cx="228600" cy="457200"/>
          </a:xfrm>
          <a:prstGeom prst="line">
            <a:avLst/>
          </a:prstGeom>
          <a:ln cap="sq"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344840" y="3808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广度优先搜索遍历图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80880" y="2209680"/>
            <a:ext cx="3581640" cy="3962520"/>
            <a:chOff x="380880" y="2209680"/>
            <a:chExt cx="3581640" cy="3962520"/>
          </a:xfrm>
        </p:grpSpPr>
        <p:sp>
          <p:nvSpPr>
            <p:cNvPr id="837" name=""/>
            <p:cNvSpPr/>
            <p:nvPr/>
          </p:nvSpPr>
          <p:spPr>
            <a:xfrm>
              <a:off x="1447920" y="3276720"/>
              <a:ext cx="711000" cy="6969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0880" y="2743200"/>
              <a:ext cx="533520" cy="609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8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1080" y="4343400"/>
              <a:ext cx="533520" cy="609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8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19520" y="3429000"/>
              <a:ext cx="533160" cy="60948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004c2b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0880" y="4038480"/>
              <a:ext cx="533520" cy="60984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004c2b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66680" y="5105520"/>
              <a:ext cx="533520" cy="60948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82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000082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57400" y="2209680"/>
              <a:ext cx="533520" cy="609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8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514600" y="5562720"/>
              <a:ext cx="533520" cy="60948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004c2b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14400" y="3048120"/>
              <a:ext cx="609480" cy="38088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05120" y="3962520"/>
              <a:ext cx="228600" cy="4572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904760" y="2743200"/>
              <a:ext cx="228600" cy="53352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480" y="3352680"/>
              <a:ext cx="0" cy="6858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2120" y="4648320"/>
              <a:ext cx="380880" cy="53316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00200" y="5410080"/>
              <a:ext cx="914400" cy="38124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86000" y="4952880"/>
              <a:ext cx="380880" cy="60984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2438280" y="3962520"/>
              <a:ext cx="457200" cy="53316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90920" y="2514600"/>
              <a:ext cx="457200" cy="9144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85800" y="2514240"/>
              <a:ext cx="1371600" cy="2286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29000" y="4648320"/>
              <a:ext cx="533520" cy="60948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82"/>
                  </a:solidFill>
                  <a:latin typeface="Times New Roman"/>
                </a:rPr>
                <a:t>w</a:t>
              </a:r>
              <a:r>
                <a:rPr b="1" lang="en-US" sz="3200" spc="-1" strike="noStrike" baseline="-25000">
                  <a:solidFill>
                    <a:srgbClr val="000082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6720" y="3962520"/>
              <a:ext cx="380880" cy="6858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47760" y="5181480"/>
              <a:ext cx="533160" cy="685800"/>
            </a:xfrm>
            <a:prstGeom prst="line">
              <a:avLst/>
            </a:prstGeom>
            <a:ln cap="sq"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3124080" y="1447920"/>
            <a:ext cx="6096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对连通图，从起始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到其余各顶点必定存在路径。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65480" y="2819520"/>
            <a:ext cx="6300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其中，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-&gt;w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V-&gt;w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V-&gt;w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路径长度为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049360" y="4038480"/>
            <a:ext cx="38030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V-&gt;w</a:t>
            </a:r>
            <a:r>
              <a:rPr b="0" lang="zh-CN" sz="32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V-&gt;w</a:t>
            </a:r>
            <a:r>
              <a:rPr b="0" lang="zh-CN" sz="32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V-&gt;w</a:t>
            </a:r>
            <a:r>
              <a:rPr b="0" lang="zh-CN" sz="32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5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路径长度为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35640" y="5257800"/>
            <a:ext cx="2825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-&gt;w</a:t>
            </a:r>
            <a:r>
              <a:rPr b="0" lang="zh-CN" sz="3200" spc="-1" strike="noStrike" baseline="-25000">
                <a:solidFill>
                  <a:srgbClr val="000082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, V-&gt;w</a:t>
            </a:r>
            <a:r>
              <a:rPr b="0" lang="zh-CN" sz="3200" spc="-1" strike="noStrike" baseline="-25000">
                <a:solidFill>
                  <a:srgbClr val="000082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的路径长度为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3048120"/>
            <a:ext cx="609480" cy="38088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0880" y="2743200"/>
            <a:ext cx="533520" cy="60948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904760" y="2743200"/>
            <a:ext cx="228600" cy="53352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3962520"/>
            <a:ext cx="228600" cy="45720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480" y="3352680"/>
            <a:ext cx="0" cy="68580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90920" y="2514600"/>
            <a:ext cx="457200" cy="91440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4952880"/>
            <a:ext cx="380880" cy="60984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2120" y="4648320"/>
            <a:ext cx="380880" cy="53316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76720" y="3962520"/>
            <a:ext cx="380880" cy="685800"/>
          </a:xfrm>
          <a:prstGeom prst="line">
            <a:avLst/>
          </a:prstGeom>
          <a:ln cap="sq"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3276720"/>
            <a:ext cx="711000" cy="69696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57400" y="2209680"/>
            <a:ext cx="533520" cy="60984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0880" y="4038480"/>
            <a:ext cx="533520" cy="60984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4c2b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66680" y="5105520"/>
            <a:ext cx="533520" cy="60948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0082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819520" y="3429000"/>
            <a:ext cx="533160" cy="60948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4c2b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81080" y="4343400"/>
            <a:ext cx="533520" cy="60948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14600" y="5562720"/>
            <a:ext cx="533520" cy="60948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4c2b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29000" y="4648320"/>
            <a:ext cx="533520" cy="60948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0082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4267080" y="6248520"/>
            <a:ext cx="304920" cy="304560"/>
          </a:xfrm>
          <a:custGeom>
            <a:avLst/>
            <a:gdLst>
              <a:gd name="textAreaLeft" fmla="*/ 58320 w 304920"/>
              <a:gd name="textAreaRight" fmla="*/ 246600 w 304920"/>
              <a:gd name="textAreaTop" fmla="*/ 58320 h 304560"/>
              <a:gd name="textAreaBottom" fmla="*/ 24624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17486" y="4140"/>
                </a:lnTo>
                <a:lnTo>
                  <a:pt x="4140" y="414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17486" y="17460"/>
                </a:lnTo>
                <a:lnTo>
                  <a:pt x="17486" y="414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4140" y="17460"/>
                </a:lnTo>
                <a:lnTo>
                  <a:pt x="17486" y="1746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4140" y="4140"/>
                </a:lnTo>
                <a:lnTo>
                  <a:pt x="4140" y="17460"/>
                </a:lnTo>
                <a:close/>
              </a:path>
              <a:path fill="darken" w="21626" h="21600">
                <a:moveTo>
                  <a:pt x="5849" y="5836"/>
                </a:moveTo>
                <a:lnTo>
                  <a:pt x="15777" y="10800"/>
                </a:lnTo>
                <a:lnTo>
                  <a:pt x="5849" y="15764"/>
                </a:lnTo>
                <a:close/>
              </a:path>
            </a:pathLst>
          </a:custGeom>
          <a:solidFill>
            <a:srgbClr val="bdb0fe"/>
          </a:solidFill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380880" y="276120"/>
            <a:ext cx="853452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图中的某个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出发，并在访问此顶点之后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依次访问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所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未被访问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过的邻接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之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按这些顶点被访问的先后次序依次访问它们的邻接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直至图中所有和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有路径相通的顶点都被访问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" y="388620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此时图中尚有顶点未被访问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则另选图中一个未曾被访问的顶点作起始点，重复上述过程，直至图中所有顶点都被访问到为止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304920" cy="304920"/>
          </a:xfrm>
          <a:custGeom>
            <a:avLst/>
            <a:gdLst>
              <a:gd name="textAreaLeft" fmla="*/ 67680 w 304920"/>
              <a:gd name="textAreaRight" fmla="*/ 237240 w 304920"/>
              <a:gd name="textAreaTop" fmla="*/ 67680 h 304920"/>
              <a:gd name="textAreaBottom" fmla="*/ 237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800" y="4800"/>
                </a:lnTo>
                <a:lnTo>
                  <a:pt x="4800" y="48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800" y="16800"/>
                </a:lnTo>
                <a:lnTo>
                  <a:pt x="16800" y="48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0" y="16800"/>
                </a:lnTo>
                <a:lnTo>
                  <a:pt x="16800" y="168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0" y="4800"/>
                </a:lnTo>
                <a:lnTo>
                  <a:pt x="4800" y="16800"/>
                </a:lnTo>
                <a:close/>
              </a:path>
              <a:path fill="darken" w="21600" h="21600">
                <a:moveTo>
                  <a:pt x="6328" y="10800"/>
                </a:moveTo>
                <a:lnTo>
                  <a:pt x="15272" y="6328"/>
                </a:lnTo>
                <a:lnTo>
                  <a:pt x="15272" y="15272"/>
                </a:lnTo>
                <a:close/>
              </a:path>
            </a:pathLst>
          </a:custGeom>
          <a:solidFill>
            <a:srgbClr val="bdb0fe"/>
          </a:solidFill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76320" y="54000"/>
            <a:ext cx="90676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oid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BFSTraverse(Graph G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atus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in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v)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v=0; v&lt;G.vexnum;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ed[v] =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ALSE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  //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初始化访问标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itQueue(Q)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//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置空的辅助队列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Q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 v=0;  v&lt;G.vexnum;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isited[v]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{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// v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尚未访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// BFSTraver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1219320" y="4800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… …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93760"/>
            <a:ext cx="6019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若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&lt;v, w&gt;</a:t>
            </a:r>
            <a:r>
              <a:rPr b="0" lang="zh-CN" sz="32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VR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必有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&lt;w, v&gt;</a:t>
            </a:r>
            <a:r>
              <a:rPr b="0" lang="zh-CN" sz="32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VR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则称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v,w)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为顶点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顶点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间存在一条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边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79800" y="3124080"/>
            <a:ext cx="3882960" cy="2995560"/>
            <a:chOff x="4879800" y="3124080"/>
            <a:chExt cx="3882960" cy="2995560"/>
          </a:xfrm>
        </p:grpSpPr>
        <p:sp>
          <p:nvSpPr>
            <p:cNvPr id="113" name=""/>
            <p:cNvSpPr/>
            <p:nvPr/>
          </p:nvSpPr>
          <p:spPr>
            <a:xfrm>
              <a:off x="5870520" y="3124080"/>
              <a:ext cx="455400" cy="55728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8920" y="3124080"/>
              <a:ext cx="455760" cy="48096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9800" y="4367160"/>
              <a:ext cx="455760" cy="53316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0520" y="5586120"/>
              <a:ext cx="455400" cy="53352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0720" y="5586120"/>
              <a:ext cx="455400" cy="53352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07360" y="4367160"/>
              <a:ext cx="455400" cy="480960"/>
            </a:xfrm>
            <a:prstGeom prst="ellipse">
              <a:avLst/>
            </a:prstGeom>
            <a:noFill/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106960" y="3452760"/>
              <a:ext cx="761760" cy="9144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27720" y="3376440"/>
              <a:ext cx="1369800" cy="220968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7000" y="4671720"/>
              <a:ext cx="2360520" cy="9144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238440" y="3452760"/>
              <a:ext cx="1230120" cy="220968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26120" y="3376440"/>
              <a:ext cx="609840" cy="99072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14400" y="4671720"/>
              <a:ext cx="1992600" cy="99072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096960" y="3657600"/>
              <a:ext cx="1800" cy="192852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477120" y="152280"/>
            <a:ext cx="2666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由顶点集和边集构成的图称作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无向图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951280"/>
            <a:ext cx="472428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例如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G</a:t>
            </a:r>
            <a:r>
              <a:rPr b="0" lang="zh-CN" sz="36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(V</a:t>
            </a:r>
            <a:r>
              <a:rPr b="0" lang="zh-CN" sz="36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VR</a:t>
            </a:r>
            <a:r>
              <a:rPr b="0" lang="zh-CN" sz="36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{A, B, C, D, E, F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R</a:t>
            </a:r>
            <a:r>
              <a:rPr b="0" lang="zh-CN" sz="36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{(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, B), (A, E)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(B, E), (C, D), (D, F)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(B, F), (C, F)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395280" y="193680"/>
            <a:ext cx="82915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visited[v] =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TRUE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;  Visit(v);    //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访问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EnQueue(Q, v)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v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入队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QueueEmpty(Q)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Queue(Q, u);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队头元素出队并置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for(w=FirstAdjVex(G, u); w!=0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w=NextAdjVex(G,u,w)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f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!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sited[w]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visited[w]=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TRUE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;  Visit(w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EnQueue(Q, w)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访问的顶点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入队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 // i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w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8534520" y="6400800"/>
            <a:ext cx="304560" cy="304920"/>
          </a:xfrm>
          <a:custGeom>
            <a:avLst/>
            <a:gdLst>
              <a:gd name="textAreaLeft" fmla="*/ 58680 w 304560"/>
              <a:gd name="textAreaRight" fmla="*/ 245880 w 30456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17437" y="4163"/>
                </a:lnTo>
                <a:lnTo>
                  <a:pt x="4163" y="4163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17437" y="17463"/>
                </a:lnTo>
                <a:lnTo>
                  <a:pt x="17437" y="4163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4163" y="17463"/>
                </a:lnTo>
                <a:lnTo>
                  <a:pt x="17437" y="17463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63"/>
                </a:lnTo>
                <a:close/>
              </a:path>
              <a:path fill="darken" w="21600" h="21626">
                <a:moveTo>
                  <a:pt x="5853" y="8478"/>
                </a:moveTo>
                <a:lnTo>
                  <a:pt x="8330" y="8478"/>
                </a:lnTo>
                <a:lnTo>
                  <a:pt x="8330" y="12245"/>
                </a:lnTo>
                <a:cubicBezTo>
                  <a:pt x="8330" y="12896"/>
                  <a:pt x="8895" y="13412"/>
                  <a:pt x="9626" y="13412"/>
                </a:cubicBezTo>
                <a:lnTo>
                  <a:pt x="10800" y="13412"/>
                </a:lnTo>
                <a:cubicBezTo>
                  <a:pt x="11531" y="13412"/>
                  <a:pt x="12097" y="12896"/>
                  <a:pt x="12097" y="12245"/>
                </a:cubicBezTo>
                <a:lnTo>
                  <a:pt x="12097" y="8478"/>
                </a:lnTo>
                <a:lnTo>
                  <a:pt x="10800" y="8478"/>
                </a:lnTo>
                <a:lnTo>
                  <a:pt x="13277" y="6001"/>
                </a:lnTo>
                <a:lnTo>
                  <a:pt x="15870" y="8478"/>
                </a:lnTo>
                <a:lnTo>
                  <a:pt x="14573" y="8478"/>
                </a:lnTo>
                <a:lnTo>
                  <a:pt x="14573" y="12245"/>
                </a:lnTo>
                <a:cubicBezTo>
                  <a:pt x="14573" y="14199"/>
                  <a:pt x="12754" y="16006"/>
                  <a:pt x="10800" y="16006"/>
                </a:cubicBezTo>
                <a:lnTo>
                  <a:pt x="9626" y="16006"/>
                </a:lnTo>
                <a:cubicBezTo>
                  <a:pt x="7672" y="16006"/>
                  <a:pt x="5853" y="14199"/>
                  <a:pt x="5853" y="12245"/>
                </a:cubicBezTo>
                <a:close/>
              </a:path>
            </a:pathLst>
          </a:custGeom>
          <a:solidFill>
            <a:srgbClr val="bec1f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905120" y="593640"/>
            <a:ext cx="556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三、遍历应用举例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1111320" y="2025720"/>
            <a:ext cx="688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求一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顶点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到顶点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简单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0" name="">
            <a:hlinkClick r:id="rId1" action="ppaction://hlinksldjump"/>
          </p:cNvPr>
          <p:cNvSpPr/>
          <p:nvPr/>
        </p:nvSpPr>
        <p:spPr>
          <a:xfrm>
            <a:off x="1127160" y="3930480"/>
            <a:ext cx="69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求两个顶点之间的一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度最短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1624680" y="152280"/>
            <a:ext cx="58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求一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顶点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到顶点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 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的简单路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800600" y="990720"/>
            <a:ext cx="4191120" cy="3733560"/>
            <a:chOff x="4800600" y="990720"/>
            <a:chExt cx="4191120" cy="3733560"/>
          </a:xfrm>
        </p:grpSpPr>
        <p:sp>
          <p:nvSpPr>
            <p:cNvPr id="894" name=""/>
            <p:cNvSpPr/>
            <p:nvPr/>
          </p:nvSpPr>
          <p:spPr>
            <a:xfrm>
              <a:off x="6705720" y="205740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62720" y="129528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00600" y="320040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638680" y="426708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95880" y="320040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238880" y="320040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20120" y="426708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58200" y="320040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5105160" y="2286000"/>
              <a:ext cx="1600200" cy="9144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5520" y="3657600"/>
              <a:ext cx="609480" cy="6858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53280" y="1219320"/>
              <a:ext cx="685800" cy="198108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400800" y="2438280"/>
              <a:ext cx="380880" cy="7621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5866920" y="3657600"/>
              <a:ext cx="304920" cy="60948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20120" y="3581280"/>
              <a:ext cx="228600" cy="6858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62920" y="2438280"/>
              <a:ext cx="304560" cy="7621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38880" y="2286000"/>
              <a:ext cx="1447920" cy="9144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153280" y="3657600"/>
              <a:ext cx="609840" cy="7621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20120" y="99072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095880" y="1218960"/>
              <a:ext cx="1524240" cy="2286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1676520"/>
              <a:ext cx="761760" cy="4572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162560" y="1447920"/>
              <a:ext cx="609480" cy="6858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5029200" y="1523880"/>
              <a:ext cx="533520" cy="16765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228600" y="8380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求从顶点 </a:t>
            </a: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b 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到顶点 </a:t>
            </a: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k 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的一条简单路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2280" y="19051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从顶点 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b</a:t>
            </a: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出发进行深度优先搜索遍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98520" y="8380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例如</a:t>
            </a: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0600" y="5257800"/>
            <a:ext cx="902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假设找到的第一个邻接点是</a:t>
            </a: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a,</a:t>
            </a: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且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得到的结点访问序列为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: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7800ee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d  h  c  </a:t>
            </a:r>
            <a:r>
              <a:rPr b="0" lang="zh-CN" sz="3200" spc="-1" strike="noStrike">
                <a:solidFill>
                  <a:srgbClr val="7800ee"/>
                </a:solidFill>
                <a:latin typeface="Times New Roman"/>
                <a:ea typeface="隶书"/>
              </a:rPr>
              <a:t>e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k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f  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048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假设找到的第一个邻接点是</a:t>
            </a:r>
            <a:r>
              <a:rPr b="1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c,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则得到的结点访问序列为</a:t>
            </a: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c  h  d  a  e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k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隶书"/>
              </a:rPr>
              <a:t>  f  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5029200" y="1600200"/>
            <a:ext cx="533520" cy="167652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105520" y="3657600"/>
            <a:ext cx="609480" cy="68580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866920" y="3657600"/>
            <a:ext cx="304920" cy="60948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6400800" y="2438280"/>
            <a:ext cx="380880" cy="76212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162920" y="2438280"/>
            <a:ext cx="304560" cy="76212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20120" y="3581280"/>
            <a:ext cx="228600" cy="68580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5029200"/>
            <a:ext cx="2590560" cy="0"/>
          </a:xfrm>
          <a:prstGeom prst="line">
            <a:avLst/>
          </a:prstGeom>
          <a:ln cap="sq"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1676520"/>
            <a:ext cx="761760" cy="457200"/>
          </a:xfrm>
          <a:prstGeom prst="line">
            <a:avLst/>
          </a:prstGeom>
          <a:ln cap="sq" w="57240">
            <a:solidFill>
              <a:srgbClr val="59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2438280"/>
            <a:ext cx="304920" cy="762120"/>
          </a:xfrm>
          <a:prstGeom prst="line">
            <a:avLst/>
          </a:prstGeom>
          <a:ln cap="sq" w="57240">
            <a:solidFill>
              <a:srgbClr val="59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96080" y="3581280"/>
            <a:ext cx="228600" cy="685800"/>
          </a:xfrm>
          <a:prstGeom prst="line">
            <a:avLst/>
          </a:prstGeom>
          <a:ln cap="sq" w="57240">
            <a:solidFill>
              <a:srgbClr val="59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90920" y="6477120"/>
            <a:ext cx="609480" cy="0"/>
          </a:xfrm>
          <a:prstGeom prst="line">
            <a:avLst/>
          </a:prstGeom>
          <a:ln cap="sq" w="38160">
            <a:solidFill>
              <a:srgbClr val="a04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6477120"/>
            <a:ext cx="685800" cy="0"/>
          </a:xfrm>
          <a:prstGeom prst="line">
            <a:avLst/>
          </a:prstGeom>
          <a:ln cap="sq" w="38160">
            <a:solidFill>
              <a:srgbClr val="a04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3" name="">
            <a:hlinkClick r:id="rId1" action="ppaction://hlinksldjump"/>
          </p:cNvPr>
          <p:cNvSpPr/>
          <p:nvPr/>
        </p:nvSpPr>
        <p:spPr>
          <a:xfrm>
            <a:off x="8534520" y="640080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650" y="4950"/>
                </a:lnTo>
                <a:lnTo>
                  <a:pt x="4950" y="49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650" y="16650"/>
                </a:lnTo>
                <a:lnTo>
                  <a:pt x="16650" y="49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6650" y="166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  <a:path fill="darken" w="21600" h="21600">
                <a:moveTo>
                  <a:pt x="6440" y="6440"/>
                </a:moveTo>
                <a:lnTo>
                  <a:pt x="15160" y="10800"/>
                </a:lnTo>
                <a:lnTo>
                  <a:pt x="6440" y="15160"/>
                </a:lnTo>
                <a:close/>
              </a:path>
            </a:pathLst>
          </a:custGeom>
          <a:solidFill>
            <a:srgbClr val="bec1f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304920" y="1155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1.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从顶点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i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到顶点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s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若存在路径，则从顶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i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出发进行深度优先搜索，必能搜索到顶点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s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880" y="32004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2.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遍历过程中搜索到的顶点不一定是路径上的顶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260280"/>
            <a:ext cx="182880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800ee"/>
                </a:solidFill>
                <a:latin typeface="Arial"/>
              </a:rPr>
              <a:t>结论</a:t>
            </a:r>
            <a:r>
              <a:rPr b="1" lang="zh-CN" sz="3600" spc="-1" strike="noStrike">
                <a:solidFill>
                  <a:srgbClr val="7800e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3.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由它出发进行的深度优先遍历已经完成的顶点不是路径上的顶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8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228600" cy="228600"/>
          </a:xfrm>
          <a:custGeom>
            <a:avLst/>
            <a:gdLst>
              <a:gd name="textAreaLeft" fmla="*/ 33120 w 228600"/>
              <a:gd name="textAreaRight" fmla="*/ 195480 w 228600"/>
              <a:gd name="textAreaTop" fmla="*/ 33120 h 228600"/>
              <a:gd name="textAreaBottom" fmla="*/ 1954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450" y="18450"/>
                </a:lnTo>
                <a:lnTo>
                  <a:pt x="18450" y="31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18450" y="184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  <a:path fill="darken" w="21600" h="21600">
                <a:moveTo>
                  <a:pt x="5098" y="8108"/>
                </a:moveTo>
                <a:lnTo>
                  <a:pt x="7953" y="8108"/>
                </a:lnTo>
                <a:lnTo>
                  <a:pt x="7953" y="12450"/>
                </a:lnTo>
                <a:cubicBezTo>
                  <a:pt x="7953" y="13201"/>
                  <a:pt x="8604" y="13796"/>
                  <a:pt x="9447" y="13796"/>
                </a:cubicBezTo>
                <a:lnTo>
                  <a:pt x="10800" y="13796"/>
                </a:lnTo>
                <a:cubicBezTo>
                  <a:pt x="11643" y="13796"/>
                  <a:pt x="12295" y="13201"/>
                  <a:pt x="12295" y="12450"/>
                </a:cubicBezTo>
                <a:lnTo>
                  <a:pt x="12295" y="8108"/>
                </a:lnTo>
                <a:lnTo>
                  <a:pt x="10800" y="8108"/>
                </a:lnTo>
                <a:lnTo>
                  <a:pt x="13655" y="5254"/>
                </a:lnTo>
                <a:lnTo>
                  <a:pt x="16644" y="8108"/>
                </a:lnTo>
                <a:lnTo>
                  <a:pt x="15149" y="8108"/>
                </a:lnTo>
                <a:lnTo>
                  <a:pt x="15149" y="12450"/>
                </a:lnTo>
                <a:cubicBezTo>
                  <a:pt x="15149" y="14703"/>
                  <a:pt x="13053" y="16785"/>
                  <a:pt x="10800" y="16785"/>
                </a:cubicBezTo>
                <a:lnTo>
                  <a:pt x="9447" y="16785"/>
                </a:lnTo>
                <a:cubicBezTo>
                  <a:pt x="7195" y="16785"/>
                  <a:pt x="5098" y="14703"/>
                  <a:pt x="5098" y="12450"/>
                </a:cubicBezTo>
                <a:close/>
              </a:path>
            </a:pathLst>
          </a:custGeom>
          <a:solidFill>
            <a:srgbClr val="bec1f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76320" y="76320"/>
            <a:ext cx="906768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oid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DFSearch(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v,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s,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char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*PATH) 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从第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顶点出发递归地深度优先遍历图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G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求得一条从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到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s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的简单路径，并记录在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PATH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中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isited[v] =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TRUE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;   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访问第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顶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(w=FirstAdjVex(v);  w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0           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w=NextAdjVex(v)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if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isited[w])  DFSearch(w, s, PATH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3120" cy="3049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661320" y="2598840"/>
            <a:ext cx="80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Append(PATH, getVertex(v))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第</a:t>
            </a:r>
            <a:r>
              <a:rPr b="0" lang="zh-CN" sz="28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v</a:t>
            </a:r>
            <a:r>
              <a:rPr b="0" lang="zh-CN" sz="28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个顶点加入路径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1960" y="320040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amp;&amp;!foun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59160" y="4327560"/>
            <a:ext cx="8114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(w=s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{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found = TRUE;  Append(PATH, w);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el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4360" y="5638680"/>
            <a:ext cx="78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!found)  Delete (PATH)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从路径上删除顶点 </a:t>
            </a:r>
            <a:r>
              <a:rPr b="0" lang="zh-CN" sz="3200" spc="-1" strike="noStrike">
                <a:solidFill>
                  <a:srgbClr val="7800ee"/>
                </a:solidFill>
                <a:latin typeface="Times New Roman"/>
                <a:ea typeface="楷体_GB2312"/>
              </a:rPr>
              <a:t>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441360" y="457200"/>
            <a:ext cx="8702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求两个顶点之间的一条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路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度最短</a:t>
            </a:r>
            <a:r>
              <a:rPr b="1" lang="zh-CN" sz="4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的路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30481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若两个顶点之间存在多条路径，则其中必有一条路径长度最短的路径。如何求得这条路径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228600" y="4560840"/>
            <a:ext cx="8763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因此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求路径长度最短的路径可以基于广度优先搜索遍历进行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但需要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修改链队列的结点结构及其入队列和出队列的算法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52280" y="457200"/>
            <a:ext cx="4343400" cy="3200400"/>
            <a:chOff x="152280" y="457200"/>
            <a:chExt cx="4343400" cy="3200400"/>
          </a:xfrm>
        </p:grpSpPr>
        <p:sp>
          <p:nvSpPr>
            <p:cNvPr id="949" name=""/>
            <p:cNvSpPr/>
            <p:nvPr/>
          </p:nvSpPr>
          <p:spPr>
            <a:xfrm>
              <a:off x="1828800" y="160020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3520" y="106668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2280" y="2133720"/>
              <a:ext cx="53352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90720" y="320040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76520" y="259092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819520" y="220968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62520" y="259092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76720" y="76212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85440" y="1905120"/>
              <a:ext cx="1143000" cy="38088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7200" y="2590920"/>
              <a:ext cx="609480" cy="6858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38280" y="685800"/>
              <a:ext cx="838440" cy="2286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1904760" y="2057400"/>
              <a:ext cx="228600" cy="5335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523520" y="2971800"/>
              <a:ext cx="228600" cy="38088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52680" y="2514600"/>
              <a:ext cx="609840" cy="3049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62320" y="1905120"/>
              <a:ext cx="609480" cy="38088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09880" y="1066680"/>
              <a:ext cx="457200" cy="152424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276720" y="1219320"/>
              <a:ext cx="304560" cy="106668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905120" y="457200"/>
              <a:ext cx="533160" cy="45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990720" y="685800"/>
              <a:ext cx="914400" cy="4572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90720" y="1371600"/>
              <a:ext cx="914400" cy="3049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2286000" y="1143000"/>
              <a:ext cx="990720" cy="53352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56840" y="1523880"/>
              <a:ext cx="152280" cy="60984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 flipH="1">
            <a:off x="456840" y="1447920"/>
            <a:ext cx="152280" cy="68580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" y="2590920"/>
            <a:ext cx="609480" cy="68580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1523520" y="2971800"/>
            <a:ext cx="228600" cy="38088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1904760" y="2057400"/>
            <a:ext cx="228600" cy="53352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62320" y="1905120"/>
            <a:ext cx="533160" cy="30456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2590920"/>
            <a:ext cx="609840" cy="304560"/>
          </a:xfrm>
          <a:prstGeom prst="line">
            <a:avLst/>
          </a:prstGeom>
          <a:ln cap="sq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1371600"/>
            <a:ext cx="914400" cy="304920"/>
          </a:xfrm>
          <a:prstGeom prst="line">
            <a:avLst/>
          </a:prstGeom>
          <a:ln cap="sq" w="57240">
            <a:solidFill>
              <a:srgbClr val="59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362320" y="1828800"/>
            <a:ext cx="685800" cy="380880"/>
          </a:xfrm>
          <a:prstGeom prst="line">
            <a:avLst/>
          </a:prstGeom>
          <a:ln cap="sq" w="57240">
            <a:solidFill>
              <a:srgbClr val="59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352680" y="2514600"/>
            <a:ext cx="609840" cy="304920"/>
          </a:xfrm>
          <a:prstGeom prst="line">
            <a:avLst/>
          </a:prstGeom>
          <a:ln cap="sq" w="57240">
            <a:solidFill>
              <a:srgbClr val="59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08440" y="152280"/>
            <a:ext cx="45118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深度优先搜索访问顶点的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次序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取决于图的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存储结构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而广度优先搜索访问顶点的次序是按“路径长度”渐增的次序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990720" y="685800"/>
            <a:ext cx="914400" cy="457200"/>
          </a:xfrm>
          <a:prstGeom prst="line">
            <a:avLst/>
          </a:prstGeom>
          <a:ln cap="sq" w="572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38280" y="685800"/>
            <a:ext cx="838440" cy="228600"/>
          </a:xfrm>
          <a:prstGeom prst="line">
            <a:avLst/>
          </a:prstGeom>
          <a:ln cap="sq" w="572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276720" y="1219320"/>
            <a:ext cx="304560" cy="1066680"/>
          </a:xfrm>
          <a:prstGeom prst="line">
            <a:avLst/>
          </a:prstGeom>
          <a:ln cap="sq" w="572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352680" y="2438280"/>
            <a:ext cx="609840" cy="304920"/>
          </a:xfrm>
          <a:prstGeom prst="line">
            <a:avLst/>
          </a:prstGeom>
          <a:ln cap="sq" w="572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" y="76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0094"/>
                </a:solidFill>
                <a:latin typeface="隶书"/>
                <a:ea typeface="隶书"/>
              </a:rPr>
              <a:t>例如</a:t>
            </a:r>
            <a:r>
              <a:rPr b="1" lang="zh-CN" sz="3200" spc="-1" strike="noStrike">
                <a:solidFill>
                  <a:srgbClr val="580094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298440" y="228600"/>
            <a:ext cx="45021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例如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求右图中顶点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至顶点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5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的一条最短路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9480" y="1866960"/>
            <a:ext cx="3353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链队列的状态如下所示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123720" y="4876920"/>
            <a:ext cx="3582000" cy="1676160"/>
            <a:chOff x="3123720" y="4876920"/>
            <a:chExt cx="3582000" cy="1676160"/>
          </a:xfrm>
        </p:grpSpPr>
        <p:sp>
          <p:nvSpPr>
            <p:cNvPr id="989" name=""/>
            <p:cNvSpPr/>
            <p:nvPr/>
          </p:nvSpPr>
          <p:spPr>
            <a:xfrm>
              <a:off x="6705720" y="4876920"/>
              <a:ext cx="0" cy="1676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3123720" y="6553080"/>
              <a:ext cx="358164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3124080" y="4876920"/>
              <a:ext cx="0" cy="167616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1980720" y="4876920"/>
            <a:ext cx="2134080" cy="914400"/>
            <a:chOff x="1980720" y="4876920"/>
            <a:chExt cx="2134080" cy="914400"/>
          </a:xfrm>
        </p:grpSpPr>
        <p:sp>
          <p:nvSpPr>
            <p:cNvPr id="993" name=""/>
            <p:cNvSpPr/>
            <p:nvPr/>
          </p:nvSpPr>
          <p:spPr>
            <a:xfrm>
              <a:off x="4114800" y="4876920"/>
              <a:ext cx="0" cy="9144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1980720" y="5791320"/>
              <a:ext cx="21337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1981080" y="4876920"/>
              <a:ext cx="0" cy="914400"/>
            </a:xfrm>
            <a:prstGeom prst="line">
              <a:avLst/>
            </a:prstGeom>
            <a:ln cap="sq" w="1260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0" y="3276720"/>
            <a:ext cx="5638680" cy="1143000"/>
            <a:chOff x="0" y="3276720"/>
            <a:chExt cx="5638680" cy="1143000"/>
          </a:xfrm>
        </p:grpSpPr>
        <p:sp>
          <p:nvSpPr>
            <p:cNvPr id="997" name=""/>
            <p:cNvSpPr/>
            <p:nvPr/>
          </p:nvSpPr>
          <p:spPr>
            <a:xfrm>
              <a:off x="0" y="4038840"/>
              <a:ext cx="5638680" cy="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38680" y="4038840"/>
              <a:ext cx="0" cy="380880"/>
            </a:xfrm>
            <a:prstGeom prst="line">
              <a:avLst/>
            </a:prstGeom>
            <a:ln cap="sq"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0560" y="3276720"/>
              <a:ext cx="151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Times New Roman"/>
                </a:rPr>
                <a:t>Q.front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61760" y="4876920"/>
            <a:ext cx="990720" cy="1295280"/>
            <a:chOff x="761760" y="4876920"/>
            <a:chExt cx="990720" cy="1295280"/>
          </a:xfrm>
        </p:grpSpPr>
        <p:sp>
          <p:nvSpPr>
            <p:cNvPr id="1001" name=""/>
            <p:cNvSpPr/>
            <p:nvPr/>
          </p:nvSpPr>
          <p:spPr>
            <a:xfrm>
              <a:off x="1752480" y="4876920"/>
              <a:ext cx="0" cy="12952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761760" y="6172200"/>
              <a:ext cx="9903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62120" y="4876920"/>
              <a:ext cx="0" cy="12952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638680" y="4876920"/>
            <a:ext cx="2286000" cy="457200"/>
            <a:chOff x="5638680" y="4876920"/>
            <a:chExt cx="2286000" cy="457200"/>
          </a:xfrm>
        </p:grpSpPr>
        <p:sp>
          <p:nvSpPr>
            <p:cNvPr id="1005" name=""/>
            <p:cNvSpPr/>
            <p:nvPr/>
          </p:nvSpPr>
          <p:spPr>
            <a:xfrm>
              <a:off x="7924680" y="4876920"/>
              <a:ext cx="0" cy="45720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5638680" y="5334120"/>
              <a:ext cx="2286000" cy="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5638680" y="4876920"/>
              <a:ext cx="0" cy="45720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533520" y="4311720"/>
            <a:ext cx="8153280" cy="642600"/>
            <a:chOff x="533520" y="4311720"/>
            <a:chExt cx="8153280" cy="642600"/>
          </a:xfrm>
        </p:grpSpPr>
        <p:sp>
          <p:nvSpPr>
            <p:cNvPr id="1009" name=""/>
            <p:cNvSpPr/>
            <p:nvPr/>
          </p:nvSpPr>
          <p:spPr>
            <a:xfrm>
              <a:off x="1676520" y="431172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82"/>
                  </a:solidFill>
                  <a:latin typeface="Times New Roman"/>
                  <a:ea typeface="楷体_GB2312"/>
                </a:rPr>
                <a:t>3        1         2         4         7         5</a:t>
              </a: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096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1460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524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52480" y="44197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52480" y="48769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526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65760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954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5480" y="44197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5480" y="48769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7200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7692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1480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14800" y="44197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14800" y="48769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672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100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10080" y="44197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48769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6292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674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0572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05720" y="4419720"/>
              <a:ext cx="7617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05720" y="4876920"/>
              <a:ext cx="7617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3818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68680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246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924680" y="44197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24680" y="4876920"/>
              <a:ext cx="762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52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3520" y="4419720"/>
              <a:ext cx="7617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3520" y="4876920"/>
              <a:ext cx="7617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3520" y="4419720"/>
              <a:ext cx="761760" cy="457200"/>
            </a:xfrm>
            <a:prstGeom prst="rect">
              <a:avLst/>
            </a:prstGeom>
            <a:solidFill>
              <a:srgbClr val="e1b7b7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90720" y="44197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43000" y="4648320"/>
              <a:ext cx="60948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62320" y="4648320"/>
              <a:ext cx="5331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505320" y="4648320"/>
              <a:ext cx="60948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24280" y="4648320"/>
              <a:ext cx="68580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19920" y="4648320"/>
              <a:ext cx="68580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15200" y="4648320"/>
              <a:ext cx="60948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495680" y="304920"/>
            <a:ext cx="4191120" cy="2361960"/>
            <a:chOff x="4495680" y="304920"/>
            <a:chExt cx="4191120" cy="2361960"/>
          </a:xfrm>
        </p:grpSpPr>
        <p:sp>
          <p:nvSpPr>
            <p:cNvPr id="1053" name=""/>
            <p:cNvSpPr/>
            <p:nvPr/>
          </p:nvSpPr>
          <p:spPr>
            <a:xfrm>
              <a:off x="5867280" y="457200"/>
              <a:ext cx="1524240" cy="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858000" y="609480"/>
              <a:ext cx="533520" cy="4572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91320" y="609480"/>
              <a:ext cx="761760" cy="457200"/>
            </a:xfrm>
            <a:prstGeom prst="line">
              <a:avLst/>
            </a:prstGeom>
            <a:ln cap="sq"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562360" y="1219320"/>
              <a:ext cx="990360" cy="533160"/>
            </a:xfrm>
            <a:prstGeom prst="line">
              <a:avLst/>
            </a:prstGeom>
            <a:ln cap="sq"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858000" y="1295280"/>
              <a:ext cx="838080" cy="4572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7315200" y="1905120"/>
              <a:ext cx="380880" cy="4572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077320" y="1828800"/>
              <a:ext cx="380880" cy="4572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800600" y="1981080"/>
              <a:ext cx="457200" cy="381240"/>
            </a:xfrm>
            <a:prstGeom prst="line">
              <a:avLst/>
            </a:prstGeom>
            <a:ln cap="sq"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2514600"/>
              <a:ext cx="990360" cy="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72200" y="2514600"/>
              <a:ext cx="838080" cy="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91520" y="2514600"/>
              <a:ext cx="914400" cy="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62720" y="1828800"/>
              <a:ext cx="380880" cy="4572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86400" y="304920"/>
              <a:ext cx="38088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391520" y="304920"/>
              <a:ext cx="38088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77120" y="990720"/>
              <a:ext cx="38088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181480" y="1600200"/>
              <a:ext cx="38124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96080" y="1600200"/>
              <a:ext cx="38124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95680" y="2286000"/>
              <a:ext cx="38124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91320" y="2286000"/>
              <a:ext cx="38088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10280" y="2286000"/>
              <a:ext cx="38124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305920" y="2286000"/>
              <a:ext cx="380880" cy="38088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805880" y="3276720"/>
            <a:ext cx="1338120" cy="1143000"/>
            <a:chOff x="7805880" y="3276720"/>
            <a:chExt cx="1338120" cy="1143000"/>
          </a:xfrm>
        </p:grpSpPr>
        <p:sp>
          <p:nvSpPr>
            <p:cNvPr id="1075" name=""/>
            <p:cNvSpPr/>
            <p:nvPr/>
          </p:nvSpPr>
          <p:spPr>
            <a:xfrm>
              <a:off x="8077320" y="3962520"/>
              <a:ext cx="1066680" cy="0"/>
            </a:xfrm>
            <a:prstGeom prst="line">
              <a:avLst/>
            </a:prstGeom>
            <a:ln cap="sq" w="38160">
              <a:solidFill>
                <a:srgbClr val="7800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077320" y="3962520"/>
              <a:ext cx="0" cy="457200"/>
            </a:xfrm>
            <a:prstGeom prst="line">
              <a:avLst/>
            </a:prstGeom>
            <a:ln cap="sq" w="38160">
              <a:solidFill>
                <a:srgbClr val="7800ee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05880" y="3276720"/>
              <a:ext cx="133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7800ee"/>
                  </a:solidFill>
                  <a:latin typeface="Times New Roman"/>
                </a:rPr>
                <a:t>Q.rear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1981080" y="4876920"/>
            <a:ext cx="914400" cy="457200"/>
            <a:chOff x="1981080" y="4876920"/>
            <a:chExt cx="914400" cy="457200"/>
          </a:xfrm>
        </p:grpSpPr>
        <p:sp>
          <p:nvSpPr>
            <p:cNvPr id="1079" name=""/>
            <p:cNvSpPr/>
            <p:nvPr/>
          </p:nvSpPr>
          <p:spPr>
            <a:xfrm>
              <a:off x="2895480" y="4876920"/>
              <a:ext cx="0" cy="45720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981080" y="5334120"/>
              <a:ext cx="914400" cy="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1981080" y="4876920"/>
              <a:ext cx="0" cy="45720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3124080" y="4876920"/>
            <a:ext cx="2286000" cy="1295280"/>
            <a:chOff x="3124080" y="4876920"/>
            <a:chExt cx="2286000" cy="1295280"/>
          </a:xfrm>
        </p:grpSpPr>
        <p:sp>
          <p:nvSpPr>
            <p:cNvPr id="1083" name=""/>
            <p:cNvSpPr/>
            <p:nvPr/>
          </p:nvSpPr>
          <p:spPr>
            <a:xfrm>
              <a:off x="5410080" y="4876920"/>
              <a:ext cx="0" cy="129528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3124080" y="6172200"/>
              <a:ext cx="2286000" cy="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124080" y="4876920"/>
              <a:ext cx="0" cy="129528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-533520" y="457200"/>
            <a:ext cx="952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宋体"/>
              </a:rPr>
              <a:t>1)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将链队列的结点改为“双链”结点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即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结点中包含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ext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和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priou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两个指针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-533520" y="2209680"/>
            <a:ext cx="952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宋体"/>
              </a:rPr>
              <a:t>2)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修改入队列的操作。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插入新的队尾结点时，令其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priou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域的指针指向刚刚出队列的结点，即当前的队头指针所指结点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04920" y="4648320"/>
            <a:ext cx="875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3)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修改出队列的操作。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出队列时，仅移 动队头指针，而不将队头结点从链表中删除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426240" y="0"/>
            <a:ext cx="7567200" cy="69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typedef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uLinkList QueuePtr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oid 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InitQueue(LinkQueue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&amp;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Q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Q.front = Q.rear = 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ew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QNode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Q.front-&gt;next = Q.rear-&gt;next = NULL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oid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EnQueue( LinkQueue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&amp;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Q, QelemType e 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p =  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ew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QNode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p-&gt;data = e;  p-&gt;next = 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ULL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-&gt;priou = Q.fron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Q.rear-&gt;next = p;  Q.rear = p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oid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DeQueue( LinkQueue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&amp;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Q, QelemType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&amp;</a:t>
            </a: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e )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Q.front = Q.front-&gt;next;  e = Q.front-&gt;da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8535960" y="6324480"/>
            <a:ext cx="3031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18320" y="131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名词和术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2240" y="10350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、子图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3200400" y="1187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4c2b"/>
          </a:solidFill>
          <a:ln cap="sq" w="12600">
            <a:solidFill>
              <a:srgbClr val="b3e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7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6172200" y="2057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4c2b"/>
          </a:solidFill>
          <a:ln cap="sq" w="12600">
            <a:solidFill>
              <a:srgbClr val="b3e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29280" y="182880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完全图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稀疏图、稠密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36360" y="263520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邻接点、度、入度、出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9320" y="3429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路径、路径长度、简单路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简单回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6200" y="4267080"/>
            <a:ext cx="59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连通图、连通分量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强连通图、强连通分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83400" y="56386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生成树、生成森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172200" y="2819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004c2b"/>
          </a:solidFill>
          <a:ln cap="sq" w="12600">
            <a:solidFill>
              <a:srgbClr val="b3e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458200" y="3657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4c2b"/>
          </a:solidFill>
          <a:ln cap="sq" w="12600">
            <a:solidFill>
              <a:srgbClr val="b3e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5638680" y="46483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004c2b"/>
          </a:solidFill>
          <a:ln cap="sq" w="12600">
            <a:solidFill>
              <a:srgbClr val="b3e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4724280" y="58672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4c2b"/>
          </a:solidFill>
          <a:ln cap="sq" w="12600">
            <a:solidFill>
              <a:srgbClr val="b3e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85680 w 381240"/>
              <a:gd name="textAreaRight" fmla="*/ 295560 w 381240"/>
              <a:gd name="textAreaTop" fmla="*/ 85680 h 380880"/>
              <a:gd name="textAreaBottom" fmla="*/ 2952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6760" y="4860"/>
                </a:lnTo>
                <a:lnTo>
                  <a:pt x="4860" y="486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6760" y="16740"/>
                </a:lnTo>
                <a:lnTo>
                  <a:pt x="16760" y="486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4860" y="16740"/>
                </a:lnTo>
                <a:lnTo>
                  <a:pt x="16760" y="1674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4860" y="4860"/>
                </a:lnTo>
                <a:lnTo>
                  <a:pt x="4860" y="16740"/>
                </a:lnTo>
                <a:close/>
              </a:path>
              <a:path fill="darken" w="21620" h="21600">
                <a:moveTo>
                  <a:pt x="6383" y="6373"/>
                </a:moveTo>
                <a:lnTo>
                  <a:pt x="15238" y="10800"/>
                </a:lnTo>
                <a:lnTo>
                  <a:pt x="6383" y="15228"/>
                </a:lnTo>
                <a:close/>
              </a:path>
            </a:pathLst>
          </a:custGeom>
          <a:solidFill>
            <a:srgbClr val="b3e1b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563480" y="474840"/>
            <a:ext cx="60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4  (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连通网的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最小生成树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0880" y="2606760"/>
            <a:ext cx="83980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假设要在 </a:t>
            </a:r>
            <a:r>
              <a:rPr b="0" i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城市之间建立通讯联络网，则连通 </a:t>
            </a:r>
            <a:r>
              <a:rPr b="0" i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城市只需要修建 </a:t>
            </a:r>
            <a:r>
              <a:rPr b="0" i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-1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条线路，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如何在最节省经费的前提下建立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这个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通讯网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77680" y="1676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问题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 flipH="1">
            <a:off x="8381880" y="6289560"/>
            <a:ext cx="457200" cy="33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65040" y="1066680"/>
            <a:ext cx="83217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构造网的一棵最小生成树，即：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条带权的边中选取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n-1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条边（不构成回路），使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权值之和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为最小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1962720" y="51339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算法二：（克鲁斯卡尔算法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18620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该问题等价于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457200" cy="423720"/>
          </a:xfrm>
          <a:prstGeom prst="rect">
            <a:avLst/>
          </a:prstGeom>
          <a:ln w="0">
            <a:noFill/>
          </a:ln>
        </p:spPr>
      </p:pic>
      <p:sp>
        <p:nvSpPr>
          <p:cNvPr id="1099" name="">
            <a:hlinkClick r:id="" action="ppaction://hlinkshowjump?jump=nextslide"/>
          </p:cNvPr>
          <p:cNvSpPr/>
          <p:nvPr/>
        </p:nvSpPr>
        <p:spPr>
          <a:xfrm>
            <a:off x="3177720" y="3962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算法一：（普里姆算法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228600" y="990720"/>
            <a:ext cx="8702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取图中任意一个顶点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作为生成树的根，之后往生成树上添加新的顶点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w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添加的顶点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w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和已经在生成树上的顶点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之间必定存在一条边，并且该边的权值在所有连通顶点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和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w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之间的边中取值最小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之后继续往生成树上添加顶点，直至生成树上含有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-1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顶点为止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09560" y="198360"/>
            <a:ext cx="38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普里姆算法的基本思想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1219320" y="1173240"/>
            <a:ext cx="5715000" cy="4389480"/>
            <a:chOff x="1219320" y="1173240"/>
            <a:chExt cx="5715000" cy="4389480"/>
          </a:xfrm>
        </p:grpSpPr>
        <p:sp>
          <p:nvSpPr>
            <p:cNvPr id="1103" name=""/>
            <p:cNvSpPr/>
            <p:nvPr/>
          </p:nvSpPr>
          <p:spPr>
            <a:xfrm>
              <a:off x="1828800" y="137160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8320" y="137160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00800" y="220968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6920" y="388620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00400" y="297180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19320" y="388620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5320" y="502920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62320" y="1676520"/>
              <a:ext cx="2286000" cy="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86000" y="1828800"/>
              <a:ext cx="990720" cy="12193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3657240" y="1828800"/>
              <a:ext cx="1066680" cy="12193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523880" y="1828800"/>
              <a:ext cx="457200" cy="20574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1752480" y="3352320"/>
              <a:ext cx="1524240" cy="7621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3352680"/>
              <a:ext cx="121896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81480" y="1676520"/>
              <a:ext cx="129564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5333760" y="2666880"/>
              <a:ext cx="1143000" cy="13716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52880" y="1905120"/>
              <a:ext cx="152640" cy="19810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76520" y="4343400"/>
              <a:ext cx="1828800" cy="8380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4038480" y="4343400"/>
              <a:ext cx="914400" cy="8380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32640" y="11732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9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63800" y="1477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67600" y="20574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19680" y="25336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270520" y="46674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33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94560" y="3219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23720" y="3067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7800" y="4648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2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68360" y="3352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10600" y="18590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014440" y="2381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90680" y="30492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828800" y="1371600"/>
            <a:ext cx="53352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1828800"/>
            <a:ext cx="990720" cy="121932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200400" y="2971800"/>
            <a:ext cx="53352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33920" y="3352680"/>
            <a:ext cx="121896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76920" y="388620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333760" y="2666880"/>
            <a:ext cx="114300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2209680"/>
            <a:ext cx="53352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181480" y="1676520"/>
            <a:ext cx="129564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648320" y="137160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752480" y="3352320"/>
            <a:ext cx="152424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219320" y="388620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038480" y="4343400"/>
            <a:ext cx="914400" cy="8380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05320" y="502920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686680" y="2057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039560" y="3048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563800" y="14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62240" y="335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210400" y="3200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8688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037880" y="5867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所得生成树权值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115160" y="591192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</a:rPr>
              <a:t>= 14+8+3+5+16+21 = 6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1523880" y="1905120"/>
            <a:ext cx="457200" cy="20574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0" y="1828800"/>
            <a:ext cx="990720" cy="12193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362320" y="1676520"/>
            <a:ext cx="2286000" cy="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752480" y="3352320"/>
            <a:ext cx="1524240" cy="76212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3657240" y="1828800"/>
            <a:ext cx="1066680" cy="121932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733920" y="3352680"/>
            <a:ext cx="1218960" cy="6858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1828800"/>
            <a:ext cx="152640" cy="198108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5333760" y="2666880"/>
            <a:ext cx="1143000" cy="13716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4038480" y="4343400"/>
            <a:ext cx="914400" cy="83808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181480" y="1676520"/>
            <a:ext cx="1295640" cy="6858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76520" y="4343400"/>
            <a:ext cx="1828800" cy="83808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228600" y="1069920"/>
            <a:ext cx="89154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     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在生成树的构造过程中，图中 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 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顶点分属两个集合：</a:t>
            </a:r>
            <a:r>
              <a:rPr b="0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已落在生成树上的顶点集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U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9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和尚未落在生成树上的顶点集</a:t>
            </a:r>
            <a:r>
              <a:rPr b="1" lang="zh-CN" sz="39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V-U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则应</a:t>
            </a:r>
            <a:r>
              <a:rPr b="1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在所有连通</a:t>
            </a:r>
            <a:r>
              <a:rPr b="1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1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中顶点和</a:t>
            </a:r>
            <a:r>
              <a:rPr b="1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-U</a:t>
            </a:r>
            <a:r>
              <a:rPr b="1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中顶点的边中选取权值最小的边</a:t>
            </a: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。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8600" y="336600"/>
            <a:ext cx="8718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</a:t>
            </a:r>
            <a:r>
              <a:rPr b="0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一般情况下所添加的顶点应满足下列条件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200400" y="5105520"/>
            <a:ext cx="304920" cy="30456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352680" y="6095880"/>
            <a:ext cx="304920" cy="30492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91320" y="4952880"/>
            <a:ext cx="304560" cy="3049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248520" y="5334120"/>
            <a:ext cx="304560" cy="30456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867280" y="6324480"/>
            <a:ext cx="304920" cy="3049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562720" y="5562720"/>
            <a:ext cx="304560" cy="30456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48520" y="5867280"/>
            <a:ext cx="304560" cy="3049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3581280" y="5105160"/>
            <a:ext cx="2210040" cy="15228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971800" y="5715000"/>
            <a:ext cx="3276720" cy="3049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57600" y="6248520"/>
            <a:ext cx="2209680" cy="22860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3657600" y="5715000"/>
            <a:ext cx="190512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05320" y="5257800"/>
            <a:ext cx="2743200" cy="22860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971800" y="5181480"/>
            <a:ext cx="281952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05320" y="5334120"/>
            <a:ext cx="2057400" cy="38088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05320" y="5334120"/>
            <a:ext cx="2057400" cy="380880"/>
          </a:xfrm>
          <a:prstGeom prst="line">
            <a:avLst/>
          </a:prstGeom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500200" y="4952880"/>
            <a:ext cx="1386000" cy="1601640"/>
            <a:chOff x="2500200" y="4952880"/>
            <a:chExt cx="1386000" cy="1601640"/>
          </a:xfrm>
        </p:grpSpPr>
        <p:sp>
          <p:nvSpPr>
            <p:cNvPr id="1184" name=""/>
            <p:cNvSpPr/>
            <p:nvPr/>
          </p:nvSpPr>
          <p:spPr>
            <a:xfrm>
              <a:off x="2514600" y="4952880"/>
              <a:ext cx="1371600" cy="1600200"/>
            </a:xfrm>
            <a:custGeom>
              <a:avLst/>
              <a:gdLst>
                <a:gd name="textAreaLeft" fmla="*/ 66960 w 1371600"/>
                <a:gd name="textAreaRight" fmla="*/ 1304640 w 1371600"/>
                <a:gd name="textAreaTop" fmla="*/ 66960 h 1600200"/>
                <a:gd name="textAreaBottom" fmla="*/ 1533240 h 1600200"/>
              </a:gdLst>
              <a:ahLst/>
              <a:rect l="textAreaLeft" t="textAreaTop" r="textAreaRight" b="textAreaBottom"/>
              <a:pathLst>
                <a:path w="21600" h="25199">
                  <a:moveTo>
                    <a:pt x="3600" y="0"/>
                  </a:moveTo>
                  <a:arcTo wR="3600" hR="3600" stAng="16200000" swAng="-5400000"/>
                  <a:lnTo>
                    <a:pt x="0" y="21599"/>
                  </a:lnTo>
                  <a:arcTo wR="3600" hR="3600" stAng="10800000" swAng="-5400000"/>
                  <a:lnTo>
                    <a:pt x="18000" y="251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00200" y="5911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U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5257800" y="4800600"/>
            <a:ext cx="2514600" cy="1981080"/>
            <a:chOff x="5257800" y="4800600"/>
            <a:chExt cx="2514600" cy="1981080"/>
          </a:xfrm>
        </p:grpSpPr>
        <p:sp>
          <p:nvSpPr>
            <p:cNvPr id="1187" name=""/>
            <p:cNvSpPr/>
            <p:nvPr/>
          </p:nvSpPr>
          <p:spPr>
            <a:xfrm>
              <a:off x="5257800" y="4800600"/>
              <a:ext cx="1523880" cy="1981080"/>
            </a:xfrm>
            <a:prstGeom prst="ellipse">
              <a:avLst/>
            </a:prstGeom>
            <a:noFill/>
            <a:ln cap="sq" w="12600">
              <a:solidFill>
                <a:srgbClr val="000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05720" y="5073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V-U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52280" y="303120"/>
            <a:ext cx="884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设置一个辅助数组，对当前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－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集中的每个顶点，记录和顶点集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中顶点相连接的代价最小的边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1680" y="3000240"/>
            <a:ext cx="770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struct 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ertexType  adjvex;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集中的顶点序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RType     lowcost;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边的权值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closedge[MAX_VERTEX_NUM]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00" y="746280"/>
            <a:ext cx="4348440" cy="2759040"/>
            <a:chOff x="306000" y="746280"/>
            <a:chExt cx="4348440" cy="2759040"/>
          </a:xfrm>
        </p:grpSpPr>
        <p:sp>
          <p:nvSpPr>
            <p:cNvPr id="1192" name=""/>
            <p:cNvSpPr/>
            <p:nvPr/>
          </p:nvSpPr>
          <p:spPr>
            <a:xfrm>
              <a:off x="615960" y="96048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901960" y="96048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7240" y="141768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587760" y="225576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16160" y="195120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3680" y="248436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39840" y="3094200"/>
              <a:ext cx="457200" cy="4111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73160" y="1189080"/>
              <a:ext cx="1828800" cy="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996840" y="1341360"/>
              <a:ext cx="129564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2521080" y="1341360"/>
              <a:ext cx="457200" cy="60984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91920" y="1417680"/>
              <a:ext cx="152280" cy="10666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920880" y="2255400"/>
              <a:ext cx="1295280" cy="38124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73360" y="2179800"/>
              <a:ext cx="914400" cy="2286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359160" y="1189080"/>
              <a:ext cx="838080" cy="3049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3968280" y="1798560"/>
              <a:ext cx="304920" cy="4572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82840" y="1341360"/>
              <a:ext cx="533520" cy="9907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20880" y="2789280"/>
              <a:ext cx="1218960" cy="4572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597040" y="2560680"/>
              <a:ext cx="99072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912320" y="7462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4c2b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41480" y="884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c2b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26520" y="1189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4c2b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6000" y="16462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4c2b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79160" y="26370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33"/>
                  </a:solidFill>
                  <a:latin typeface="Times New Roman"/>
                </a:rPr>
                <a:t>27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74240" y="2071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4c2b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03400" y="1889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c2b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74440" y="2498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4c2b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22720" y="1874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c2b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369520" y="11890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4c2b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436920" y="1494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c2b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221" name=""/>
          <p:cNvGraphicFramePr/>
          <p:nvPr/>
        </p:nvGraphicFramePr>
        <p:xfrm>
          <a:off x="457200" y="4005360"/>
          <a:ext cx="8196120" cy="24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05360"/>
                    <a:ext cx="819612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609480" y="990720"/>
            <a:ext cx="457200" cy="4111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666880" y="2209680"/>
            <a:ext cx="914400" cy="2286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09680" y="1981080"/>
            <a:ext cx="457200" cy="4111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66680" y="1371600"/>
            <a:ext cx="1295640" cy="6858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581280" y="2286000"/>
            <a:ext cx="457200" cy="4111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3962520" y="1828800"/>
            <a:ext cx="304560" cy="45720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91120" y="1417680"/>
            <a:ext cx="457200" cy="4111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429000" y="1219320"/>
            <a:ext cx="838080" cy="304560"/>
          </a:xfrm>
          <a:prstGeom prst="line">
            <a:avLst/>
          </a:prstGeom>
          <a:ln cap="sq"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95480" y="990720"/>
            <a:ext cx="457200" cy="4111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200400" y="487692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943600" y="487692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772400" y="484488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200400" y="553068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27760" y="556272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756560" y="553068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943600" y="5607000"/>
            <a:ext cx="853920" cy="642600"/>
          </a:xfrm>
          <a:prstGeom prst="rect">
            <a:avLst/>
          </a:prstGeom>
          <a:solidFill>
            <a:srgbClr val="fa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2240" y="15228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</a:rPr>
              <a:t>例如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00400" y="4876920"/>
            <a:ext cx="853920" cy="642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00400" y="5594400"/>
            <a:ext cx="853920" cy="642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13360" y="4876920"/>
            <a:ext cx="853920" cy="642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756560" y="4876920"/>
            <a:ext cx="853920" cy="642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13360" y="5594400"/>
            <a:ext cx="853920" cy="642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772400" y="5594400"/>
            <a:ext cx="853920" cy="642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29200" y="5594400"/>
            <a:ext cx="853920" cy="642600"/>
          </a:xfrm>
          <a:prstGeom prst="rect">
            <a:avLst/>
          </a:prstGeom>
          <a:solidFill>
            <a:srgbClr val="fa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14800" y="4876920"/>
            <a:ext cx="853920" cy="6426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14800" y="5594400"/>
            <a:ext cx="853920" cy="6426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00400" y="4876920"/>
            <a:ext cx="853920" cy="6426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58000" y="4876920"/>
            <a:ext cx="853920" cy="6426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200400" y="5594400"/>
            <a:ext cx="853920" cy="6426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0" y="5594400"/>
            <a:ext cx="853920" cy="6426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5594400"/>
            <a:ext cx="853920" cy="642600"/>
          </a:xfrm>
          <a:prstGeom prst="rect">
            <a:avLst/>
          </a:prstGeom>
          <a:solidFill>
            <a:srgbClr val="fa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00400" y="4876920"/>
            <a:ext cx="853920" cy="6426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00400" y="5594400"/>
            <a:ext cx="853920" cy="6426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0400" y="5594400"/>
            <a:ext cx="853920" cy="642600"/>
          </a:xfrm>
          <a:prstGeom prst="rect">
            <a:avLst/>
          </a:prstGeom>
          <a:solidFill>
            <a:srgbClr val="fa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00600" y="163440"/>
            <a:ext cx="4191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m  m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m 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9       5   7   1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m   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m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5        3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m   m   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m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7   3         8    2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4  1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m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 m 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m   m  m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m      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8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m  m  m  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16  2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347040" y="73080"/>
            <a:ext cx="859464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void MiniSpanTree_P(MGraph G, VertexType u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用普里姆算法从顶点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出发构造网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G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的最小生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k = LocateVex ( G, u )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for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( j=0; j&lt;G.vexnum;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j )  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辅助数组初始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(j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k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losedge[j] = { u, G.arcs[k][j].adj }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closedge[k].lowcost = 0;      //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初始，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{u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(i=0; i&lt;G.vexnum; ++i)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9" name="">
            <a:hlinkClick r:id="" action="ppaction://hlinkshowjump?jump=nextslide"/>
          </p:cNvPr>
          <p:cNvSpPr/>
          <p:nvPr/>
        </p:nvSpPr>
        <p:spPr>
          <a:xfrm>
            <a:off x="1741680" y="5545080"/>
            <a:ext cx="3459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继续向生成树上添加顶点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-152280" y="304920"/>
            <a:ext cx="937260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k = minimum(closedge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求出加入生成树的下一个顶点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(k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printf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(closedge[k].adjvex, G.vexs[k])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输出生成树上一条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closedge[k].lowcost = 0;    // 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第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k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顶点并入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U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(j=0; j&lt;G.vexnum;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j)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//</a:t>
            </a:r>
            <a:r>
              <a:rPr b="0" lang="zh-CN" sz="32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修改其它顶点的最小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 (G.arcs[k][j].adj &lt; closedge[j].lowcost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losedge[j] = { G.vexs[k], G.arcs[k][j].adj };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2" name="">
            <a:hlinkClick r:id="" action="ppaction://hlinkshowjump?jump=previous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60120 w 381240"/>
              <a:gd name="textAreaRight" fmla="*/ 321120 w 38124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80" y="3420"/>
                </a:lnTo>
                <a:lnTo>
                  <a:pt x="3420" y="342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80" y="18180"/>
                </a:lnTo>
                <a:lnTo>
                  <a:pt x="18180" y="342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20" y="18180"/>
                </a:lnTo>
                <a:lnTo>
                  <a:pt x="18180" y="1818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20" y="3420"/>
                </a:lnTo>
                <a:lnTo>
                  <a:pt x="3420" y="18180"/>
                </a:lnTo>
                <a:close/>
              </a:path>
              <a:path fill="darken" w="21600" h="21600">
                <a:moveTo>
                  <a:pt x="5299" y="8203"/>
                </a:moveTo>
                <a:lnTo>
                  <a:pt x="8053" y="8203"/>
                </a:lnTo>
                <a:lnTo>
                  <a:pt x="8053" y="12392"/>
                </a:lnTo>
                <a:cubicBezTo>
                  <a:pt x="8053" y="13117"/>
                  <a:pt x="8682" y="13691"/>
                  <a:pt x="9495" y="13691"/>
                </a:cubicBezTo>
                <a:lnTo>
                  <a:pt x="10800" y="13691"/>
                </a:lnTo>
                <a:cubicBezTo>
                  <a:pt x="11613" y="13691"/>
                  <a:pt x="12242" y="13117"/>
                  <a:pt x="12242" y="12392"/>
                </a:cubicBezTo>
                <a:lnTo>
                  <a:pt x="12242" y="8203"/>
                </a:lnTo>
                <a:lnTo>
                  <a:pt x="10800" y="8203"/>
                </a:lnTo>
                <a:lnTo>
                  <a:pt x="13554" y="5450"/>
                </a:lnTo>
                <a:lnTo>
                  <a:pt x="16438" y="8203"/>
                </a:lnTo>
                <a:lnTo>
                  <a:pt x="14996" y="8203"/>
                </a:lnTo>
                <a:lnTo>
                  <a:pt x="14996" y="12392"/>
                </a:lnTo>
                <a:cubicBezTo>
                  <a:pt x="14996" y="14565"/>
                  <a:pt x="12973" y="16574"/>
                  <a:pt x="10800" y="16574"/>
                </a:cubicBezTo>
                <a:lnTo>
                  <a:pt x="9495" y="16574"/>
                </a:lnTo>
                <a:cubicBezTo>
                  <a:pt x="7322" y="16574"/>
                  <a:pt x="5299" y="14565"/>
                  <a:pt x="5299" y="12392"/>
                </a:cubicBezTo>
                <a:close/>
              </a:path>
            </a:pathLst>
          </a:custGeom>
          <a:solidFill>
            <a:srgbClr val="bec1f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304920" y="3635280"/>
            <a:ext cx="883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具体做法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先构造一个只含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个顶点的子图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SG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然后从权值最小的边开始，若它的添加不使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SG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中产生回路，则在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SG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上加上这条边，如此重复，直至加上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n-1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条边为止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0880" y="1066680"/>
            <a:ext cx="8458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考虑问题的出发点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为使生成树上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边的权值之和达到最小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则应使生成树中每一条边的权值尽可能地小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34120" y="152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克鲁斯卡尔算法的基本思想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685800" y="685800"/>
            <a:ext cx="3504960" cy="2362320"/>
            <a:chOff x="685800" y="685800"/>
            <a:chExt cx="3504960" cy="2362320"/>
          </a:xfrm>
        </p:grpSpPr>
        <p:sp>
          <p:nvSpPr>
            <p:cNvPr id="144" name=""/>
            <p:cNvSpPr/>
            <p:nvPr/>
          </p:nvSpPr>
          <p:spPr>
            <a:xfrm flipH="1">
              <a:off x="914400" y="914400"/>
              <a:ext cx="12952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2057400"/>
              <a:ext cx="45720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81080" y="274320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590560" y="1143000"/>
              <a:ext cx="53352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914400"/>
              <a:ext cx="121932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1143000" y="1828440"/>
              <a:ext cx="1752480" cy="76212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752120" y="1828800"/>
              <a:ext cx="198108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9680" y="6858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16002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560" y="16002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25146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5146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553080" y="4114800"/>
            <a:ext cx="2209680" cy="2362320"/>
            <a:chOff x="6553080" y="4114800"/>
            <a:chExt cx="2209680" cy="2362320"/>
          </a:xfrm>
        </p:grpSpPr>
        <p:sp>
          <p:nvSpPr>
            <p:cNvPr id="157" name=""/>
            <p:cNvSpPr/>
            <p:nvPr/>
          </p:nvSpPr>
          <p:spPr>
            <a:xfrm>
              <a:off x="6553080" y="6172200"/>
              <a:ext cx="914400" cy="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162560" y="4572000"/>
              <a:ext cx="533520" cy="13716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38880" y="4343400"/>
              <a:ext cx="1219320" cy="68580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1680" y="41148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05560" y="50292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5943600"/>
              <a:ext cx="457200" cy="53352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7800" y="3429000"/>
            <a:ext cx="457200" cy="533520"/>
          </a:xfrm>
          <a:prstGeom prst="ellipse">
            <a:avLst/>
          </a:prstGeom>
          <a:solidFill>
            <a:srgbClr val="a7e2ff">
              <a:alpha val="50000"/>
            </a:srgbClr>
          </a:solidFill>
          <a:ln cap="sq"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952880" y="4648320"/>
            <a:ext cx="1295280" cy="1447200"/>
            <a:chOff x="4952880" y="4648320"/>
            <a:chExt cx="1295280" cy="1447200"/>
          </a:xfrm>
        </p:grpSpPr>
        <p:sp>
          <p:nvSpPr>
            <p:cNvPr id="165" name=""/>
            <p:cNvSpPr/>
            <p:nvPr/>
          </p:nvSpPr>
          <p:spPr>
            <a:xfrm>
              <a:off x="5333760" y="5105160"/>
              <a:ext cx="457200" cy="685440"/>
            </a:xfrm>
            <a:prstGeom prst="line">
              <a:avLst/>
            </a:prstGeom>
            <a:ln cap="sq" w="25560">
              <a:solidFill>
                <a:srgbClr val="0000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464832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0960" y="5562360"/>
              <a:ext cx="457200" cy="533160"/>
            </a:xfrm>
            <a:prstGeom prst="ellipse">
              <a:avLst/>
            </a:prstGeom>
            <a:solidFill>
              <a:srgbClr val="a7e2ff">
                <a:alpha val="50000"/>
              </a:srgbClr>
            </a:solidFill>
            <a:ln cap="sq"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09480" y="3657600"/>
            <a:ext cx="3962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设图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G=(V,{VR})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图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=(V</a:t>
            </a:r>
            <a:r>
              <a:rPr b="0" lang="zh-CN" sz="32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,{VR</a:t>
            </a:r>
            <a:r>
              <a:rPr b="0" lang="zh-CN" sz="32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})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且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333333"/>
                </a:solidFill>
                <a:latin typeface="Symbol"/>
                <a:ea typeface="Symbol"/>
              </a:rPr>
              <a:t>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V, VR</a:t>
            </a:r>
            <a:r>
              <a:rPr b="0" lang="zh-CN" sz="3200" spc="-1" strike="noStrike">
                <a:solidFill>
                  <a:srgbClr val="333333"/>
                </a:solidFill>
                <a:latin typeface="Symbol"/>
                <a:ea typeface="Symbol"/>
              </a:rPr>
              <a:t>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VR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则称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为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G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子图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80520" y="762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685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1640" y="16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7080" y="1752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4280" y="1295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1124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30200" y="260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533520"/>
            <a:ext cx="36576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弧或边带权的图分别称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有向网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无向网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305920" y="2971800"/>
            <a:ext cx="474480" cy="762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1905120" y="1371600"/>
            <a:ext cx="5715000" cy="4389480"/>
            <a:chOff x="1905120" y="1371600"/>
            <a:chExt cx="5715000" cy="4389480"/>
          </a:xfrm>
        </p:grpSpPr>
        <p:sp>
          <p:nvSpPr>
            <p:cNvPr id="1269" name=""/>
            <p:cNvSpPr/>
            <p:nvPr/>
          </p:nvSpPr>
          <p:spPr>
            <a:xfrm>
              <a:off x="2514600" y="156996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34120" y="156996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86600" y="2408400"/>
              <a:ext cx="533520" cy="53316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62720" y="408456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86200" y="3170160"/>
              <a:ext cx="53352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05120" y="408456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91120" y="5227560"/>
              <a:ext cx="533160" cy="533520"/>
            </a:xfrm>
            <a:prstGeom prst="ellipse">
              <a:avLst/>
            </a:prstGeom>
            <a:solidFill>
              <a:srgbClr val="ccffcc"/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48120" y="1874880"/>
              <a:ext cx="2286000" cy="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71800" y="2027160"/>
              <a:ext cx="990720" cy="12193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4343040" y="2027160"/>
              <a:ext cx="1066680" cy="121932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2209680" y="2027160"/>
              <a:ext cx="457200" cy="20574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2438280" y="3551400"/>
              <a:ext cx="1524240" cy="76176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19720" y="3551400"/>
              <a:ext cx="121896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67280" y="1874880"/>
              <a:ext cx="129564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019560" y="2865600"/>
              <a:ext cx="1143000" cy="13716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638680" y="2103480"/>
              <a:ext cx="152640" cy="19810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62320" y="4541760"/>
              <a:ext cx="1828800" cy="83844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724280" y="4541760"/>
              <a:ext cx="914400" cy="83844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440" y="13716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9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9600" y="1676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3400" y="22557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05480" y="27320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956320" y="48657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33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880360" y="34178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152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53600" y="48466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2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86040" y="3494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496400" y="20574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4c2b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00240" y="257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4c2b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2514600" y="1600200"/>
            <a:ext cx="53352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971800" y="2027160"/>
            <a:ext cx="990720" cy="1219320"/>
          </a:xfrm>
          <a:prstGeom prst="line">
            <a:avLst/>
          </a:prstGeom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86200" y="3170160"/>
            <a:ext cx="53352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19720" y="3551400"/>
            <a:ext cx="1218960" cy="685800"/>
          </a:xfrm>
          <a:prstGeom prst="line">
            <a:avLst/>
          </a:prstGeom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408456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6019560" y="2865600"/>
            <a:ext cx="1143000" cy="1371600"/>
          </a:xfrm>
          <a:prstGeom prst="line">
            <a:avLst/>
          </a:prstGeom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086600" y="2408400"/>
            <a:ext cx="533520" cy="53316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867280" y="1874880"/>
            <a:ext cx="1295640" cy="685800"/>
          </a:xfrm>
          <a:prstGeom prst="line">
            <a:avLst/>
          </a:prstGeom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334120" y="156996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438280" y="3551400"/>
            <a:ext cx="1524240" cy="761760"/>
          </a:xfrm>
          <a:prstGeom prst="line">
            <a:avLst/>
          </a:prstGeom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408456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4724280" y="4541760"/>
            <a:ext cx="914400" cy="838440"/>
          </a:xfrm>
          <a:prstGeom prst="line">
            <a:avLst/>
          </a:prstGeom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91120" y="5227560"/>
            <a:ext cx="533160" cy="533520"/>
          </a:xfrm>
          <a:prstGeom prst="ellipse">
            <a:avLst/>
          </a:prstGeom>
          <a:solidFill>
            <a:srgbClr val="ffff99"/>
          </a:solidFill>
          <a:ln cap="sq"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53400" y="2255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871520" y="342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249600" y="167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395400" y="3505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896200" y="3398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0" y="484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0800" y="44136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000082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38680" y="2103480"/>
            <a:ext cx="152640" cy="1981080"/>
          </a:xfrm>
          <a:prstGeom prst="line">
            <a:avLst/>
          </a:prstGeom>
          <a:ln cap="sq" w="28440">
            <a:solidFill>
              <a:srgbClr val="dfa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4343040" y="2027160"/>
            <a:ext cx="1066680" cy="1219320"/>
          </a:xfrm>
          <a:prstGeom prst="line">
            <a:avLst/>
          </a:prstGeom>
          <a:ln cap="sq" w="28440">
            <a:solidFill>
              <a:srgbClr val="dfa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209680" y="2027160"/>
            <a:ext cx="457200" cy="2057400"/>
          </a:xfrm>
          <a:prstGeom prst="line">
            <a:avLst/>
          </a:prstGeom>
          <a:ln cap="sq" w="28440">
            <a:solidFill>
              <a:srgbClr val="dfa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48120" y="1874880"/>
            <a:ext cx="2286000" cy="0"/>
          </a:xfrm>
          <a:prstGeom prst="line">
            <a:avLst/>
          </a:prstGeom>
          <a:ln cap="sq" w="28440">
            <a:solidFill>
              <a:srgbClr val="dfa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6080" y="2590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af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96400" y="2057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af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054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af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734280" y="1371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afff"/>
                </a:solidFill>
                <a:latin typeface="Times New Roman"/>
              </a:rPr>
              <a:t>1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772200" y="22860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算法描述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936360" y="917640"/>
            <a:ext cx="713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构造非连通图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ST=( V,{ }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k = i = 0;    // k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计选中的边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(k&lt;n-1)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++i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检查边集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E 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第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i 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条权值最小的边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(u,v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u,v)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加入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ST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后不使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ST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中产生回路</a:t>
            </a: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则  输出边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u,v);</a:t>
            </a:r>
            <a:r>
              <a:rPr b="0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且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k++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82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34066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普里姆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86400" y="1260360"/>
            <a:ext cx="35053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克鲁斯卡尔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26560" y="3032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间复杂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18280" y="3048120"/>
            <a:ext cx="13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O(n</a:t>
            </a:r>
            <a:r>
              <a:rPr b="1" lang="en-US" sz="4000" spc="-1" strike="noStrike" baseline="30000">
                <a:solidFill>
                  <a:srgbClr val="590096"/>
                </a:solidFill>
                <a:latin typeface="Times New Roman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250320" y="3048120"/>
            <a:ext cx="20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O(eloge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666240" y="4572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稠密图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714360" y="4572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稀疏图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105560" y="1584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算法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951120" y="4556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适应范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bec1f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48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比较两种算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277360" y="314280"/>
            <a:ext cx="4600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5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重（双）连通图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和关节点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3200400"/>
            <a:ext cx="8153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从一个连通图中删去任何一个顶点及其相关联的边，它仍为一个连通图的话，则该连通图被称为重（双）连通图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53640" y="2311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问题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033200" y="1957320"/>
            <a:ext cx="7007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连通图中的某个顶点和其相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联的边被删去之后，该连通图被分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成两个或两个以上的连通分量，则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此顶点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关节点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75560" y="556272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没有关节点的连通图为双连通图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04920" y="344520"/>
            <a:ext cx="86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何判别给定的连通图是否是双连通图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066680" y="1523880"/>
            <a:ext cx="2438640" cy="3810240"/>
            <a:chOff x="1066680" y="1523880"/>
            <a:chExt cx="2438640" cy="3810240"/>
          </a:xfrm>
        </p:grpSpPr>
        <p:sp>
          <p:nvSpPr>
            <p:cNvPr id="1347" name=""/>
            <p:cNvSpPr/>
            <p:nvPr/>
          </p:nvSpPr>
          <p:spPr>
            <a:xfrm>
              <a:off x="2057400" y="243828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66680" y="152388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52388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57400" y="39625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066680" y="320040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48120" y="320040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066680" y="48769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48120" y="48769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523880" y="1752480"/>
              <a:ext cx="15242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3880" y="5105520"/>
              <a:ext cx="15242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447920" y="1981080"/>
              <a:ext cx="609480" cy="6098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2437920" y="1905120"/>
              <a:ext cx="685800" cy="68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1447560" y="2819520"/>
              <a:ext cx="609480" cy="533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47920" y="3581280"/>
              <a:ext cx="68580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438280" y="2743200"/>
              <a:ext cx="68580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2514240" y="3581280"/>
              <a:ext cx="60948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1447560" y="4343400"/>
              <a:ext cx="685800" cy="609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438280" y="4267080"/>
              <a:ext cx="685800" cy="68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4892760" y="1498680"/>
            <a:ext cx="3504960" cy="4343400"/>
            <a:chOff x="4892760" y="1498680"/>
            <a:chExt cx="3504960" cy="4343400"/>
          </a:xfrm>
        </p:grpSpPr>
        <p:sp>
          <p:nvSpPr>
            <p:cNvPr id="1366" name=""/>
            <p:cNvSpPr/>
            <p:nvPr/>
          </p:nvSpPr>
          <p:spPr>
            <a:xfrm>
              <a:off x="6797520" y="149868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654520" y="233676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54520" y="340344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892760" y="431784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92760" y="538488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416640" y="431784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940520" y="233676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940520" y="340344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5883120" y="1727280"/>
              <a:ext cx="91440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83120" y="27939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5121000" y="3632040"/>
              <a:ext cx="53316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111720" y="3632040"/>
              <a:ext cx="53352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21360" y="4775040"/>
              <a:ext cx="0" cy="609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54720" y="1727280"/>
              <a:ext cx="91440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169120" y="27939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6645240" y="1955880"/>
            <a:ext cx="495360" cy="3479760"/>
          </a:xfrm>
          <a:custGeom>
            <a:avLst/>
            <a:gdLst/>
            <a:ahLst/>
            <a:rect l="l" t="t" r="r" b="b"/>
            <a:pathLst>
              <a:path w="312" h="2192">
                <a:moveTo>
                  <a:pt x="0" y="1776"/>
                </a:moveTo>
                <a:cubicBezTo>
                  <a:pt x="24" y="1840"/>
                  <a:pt x="48" y="1904"/>
                  <a:pt x="96" y="1920"/>
                </a:cubicBezTo>
                <a:cubicBezTo>
                  <a:pt x="144" y="1936"/>
                  <a:pt x="264" y="2192"/>
                  <a:pt x="288" y="1872"/>
                </a:cubicBezTo>
                <a:cubicBezTo>
                  <a:pt x="312" y="1552"/>
                  <a:pt x="276" y="776"/>
                  <a:pt x="24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102440" y="1955880"/>
            <a:ext cx="1066680" cy="2666880"/>
          </a:xfrm>
          <a:custGeom>
            <a:avLst/>
            <a:gdLst/>
            <a:ahLst/>
            <a:rect l="l" t="t" r="r" b="b"/>
            <a:pathLst>
              <a:path w="672" h="1680">
                <a:moveTo>
                  <a:pt x="0" y="0"/>
                </a:moveTo>
                <a:cubicBezTo>
                  <a:pt x="144" y="600"/>
                  <a:pt x="288" y="1200"/>
                  <a:pt x="384" y="1440"/>
                </a:cubicBezTo>
                <a:cubicBezTo>
                  <a:pt x="480" y="1680"/>
                  <a:pt x="528" y="1480"/>
                  <a:pt x="576" y="1440"/>
                </a:cubicBezTo>
                <a:cubicBezTo>
                  <a:pt x="624" y="1400"/>
                  <a:pt x="648" y="1300"/>
                  <a:pt x="672" y="12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630480" y="1060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496840" y="1909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1116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725360" y="389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25360" y="4946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55416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002080" y="182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154360" y="297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121360" y="3860640"/>
            <a:ext cx="888840" cy="2692440"/>
          </a:xfrm>
          <a:custGeom>
            <a:avLst/>
            <a:gdLst/>
            <a:ahLst/>
            <a:rect l="l" t="t" r="r" b="b"/>
            <a:pathLst>
              <a:path w="560" h="1696">
                <a:moveTo>
                  <a:pt x="0" y="1248"/>
                </a:moveTo>
                <a:cubicBezTo>
                  <a:pt x="100" y="1376"/>
                  <a:pt x="200" y="1504"/>
                  <a:pt x="288" y="1536"/>
                </a:cubicBezTo>
                <a:cubicBezTo>
                  <a:pt x="376" y="1568"/>
                  <a:pt x="496" y="1696"/>
                  <a:pt x="528" y="1440"/>
                </a:cubicBezTo>
                <a:cubicBezTo>
                  <a:pt x="560" y="1184"/>
                  <a:pt x="488" y="240"/>
                  <a:pt x="48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4720" y="549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274720" y="442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792480" y="44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960520" y="3586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6840" y="2413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316360" y="3556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24652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103520" y="1681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979560" y="349200"/>
            <a:ext cx="31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例如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下列连通图中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61960" y="5638680"/>
            <a:ext cx="38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和顶点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关节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380880" y="62485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bdd7e5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41160" y="304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</a:rPr>
              <a:t>深度优先生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534520" y="4648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b3e1b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010280" y="609588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406" name=""/>
          <p:cNvSpPr/>
          <p:nvPr/>
        </p:nvSpPr>
        <p:spPr>
          <a:xfrm>
            <a:off x="8381880" y="54864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4c2b"/>
          </a:solidFill>
          <a:ln cap="sq" w="1260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274760" y="441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关节点有何特征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69960" y="2498760"/>
            <a:ext cx="816912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假设从某个顶点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40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出发对连通图进行深度优先搜索遍历，则可得到一棵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度优先生成树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树上包含图的所有顶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652120" y="15685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需借助图的深度优先生成树来分析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0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381240" cy="380880"/>
          </a:xfrm>
          <a:custGeom>
            <a:avLst/>
            <a:gdLst>
              <a:gd name="textAreaLeft" fmla="*/ 9504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6220" y="5400"/>
                </a:lnTo>
                <a:lnTo>
                  <a:pt x="5400" y="5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6220" y="16200"/>
                </a:lnTo>
                <a:lnTo>
                  <a:pt x="16220" y="5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20" y="16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20" h="21600">
                <a:moveTo>
                  <a:pt x="6785" y="10800"/>
                </a:moveTo>
                <a:lnTo>
                  <a:pt x="14835" y="6775"/>
                </a:lnTo>
                <a:lnTo>
                  <a:pt x="14835" y="14825"/>
                </a:lnTo>
                <a:close/>
              </a:path>
            </a:pathLst>
          </a:custGeom>
          <a:solidFill>
            <a:srgbClr val="bdd7e5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09480" y="30492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5000"/>
              </a:lnSpc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生成树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结点，有两个或两个以上的分支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则此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生成树的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必为关节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289548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生成树上的任意一个“顶点”，若其某棵子树的根或子树中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其它“顶点”没有和其祖先相通的回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则该“顶点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必为关节点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381880" y="624852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cap="sq"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990720" y="175248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上述两个判定准则在算法中如何实现？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228600" y="304920"/>
            <a:ext cx="8915400" cy="62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)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设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40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深度优先遍历的出发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 = G.vertices[0].firstarc;   v = p-&gt;adjvex;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FSArticul(G, v)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第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顶点出发深度优先搜索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f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count &lt; G.vexnum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生成树的根有至少两棵子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printf </a:t>
            </a: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0, G.vertices[0].data)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根是关节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假设图中有</a:t>
            </a:r>
            <a:r>
              <a:rPr b="0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个顶点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条边，则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2193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含有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=n(n-1)/2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条边的无向图称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完全图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040" y="2940120"/>
            <a:ext cx="84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含有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=n(n-1)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条弧的有向图称作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有向完全图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7242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若边或弧的个数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&lt;nlogn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则称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稀疏图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否则称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稠密图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305920" y="5867280"/>
            <a:ext cx="474480" cy="762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199800" y="152280"/>
            <a:ext cx="88142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80094"/>
                </a:solidFill>
                <a:latin typeface="Times New Roman"/>
                <a:ea typeface="楷体_GB2312"/>
              </a:rPr>
              <a:t>2) </a:t>
            </a:r>
            <a:r>
              <a:rPr b="0" lang="zh-CN" sz="4000" spc="-1" strike="noStrike">
                <a:solidFill>
                  <a:srgbClr val="580094"/>
                </a:solidFill>
                <a:latin typeface="Times New Roman"/>
                <a:ea typeface="楷体_GB2312"/>
              </a:rPr>
              <a:t>定义函数</a:t>
            </a:r>
            <a:r>
              <a:rPr b="0" lang="zh-CN" sz="4000" spc="-1" strike="noStrike">
                <a:solidFill>
                  <a:srgbClr val="580094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ow(v) = Min{visited[v], low[w], visited[k]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其中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顶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w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是生成树上顶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孩子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顶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k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是生成树上和顶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由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回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相联接的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祖先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visited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记录深度优先遍历时的访问次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80094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对顶点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在生成树上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存在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个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子树根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且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low[w]  </a:t>
            </a:r>
            <a:r>
              <a:rPr b="0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≥ 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visited[v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则顶点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关节点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7696080" y="6172200"/>
            <a:ext cx="1092240" cy="426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2231280" y="1922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深度优先遍历算法作如下修改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" y="1143000"/>
            <a:ext cx="855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。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visited[v]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的值改为遍历过程中顶点的访问次序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ount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值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55880" y="2819520"/>
            <a:ext cx="898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590096"/>
                </a:solidFill>
                <a:latin typeface="楷体_GB2312"/>
                <a:ea typeface="楷体_GB2312"/>
              </a:rPr>
              <a:t>遍历过程中求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low[v]=</a:t>
            </a:r>
            <a:r>
              <a:rPr b="1" lang="zh-CN" sz="4000" spc="-1" strike="noStrike">
                <a:solidFill>
                  <a:srgbClr val="590096"/>
                </a:solidFill>
                <a:latin typeface="Times New Roman"/>
              </a:rPr>
              <a:t>Min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{visited[v]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low[w]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578963"/>
                </a:solidFill>
                <a:latin typeface="Times New Roman"/>
              </a:rPr>
              <a:t>visited[k]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47280" y="4648320"/>
            <a:ext cx="483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</a:rPr>
              <a:t>。</a:t>
            </a: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从子树遍历返回时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判别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low[w]≥visited[v]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552600" y="2968560"/>
            <a:ext cx="8591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(p=G.vertices[v0].firstarc;   p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                                         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p=p-&gt;nextarc) 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590096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59009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0096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 flipH="1">
            <a:off x="8381880" y="6289560"/>
            <a:ext cx="457200" cy="33984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152280" y="120600"/>
            <a:ext cx="7772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void  DFSArticul(ALGraph G, int v0)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从第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0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个顶点出发深度优先遍历图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查找并输出关节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 // DFSArticu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0880" y="1676520"/>
            <a:ext cx="87631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min =visited[v0] =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ount;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oun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访问的顶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并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ow[v0]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初值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m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6" name="">
            <a:hlinkClick r:id="" action="ppaction://hlinkshowjump?jump=nextslide"/>
          </p:cNvPr>
          <p:cNvSpPr/>
          <p:nvPr/>
        </p:nvSpPr>
        <p:spPr>
          <a:xfrm>
            <a:off x="1331640" y="4083120"/>
            <a:ext cx="36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009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检查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v0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每个邻接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56200" y="53132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ow[v0] = min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501840" y="262080"/>
            <a:ext cx="76003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0096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w = p-&gt;adjvex;       // w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v0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邻接顶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visited[w]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=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)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// w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未曾被访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DFSArticul(G, w);  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返回前求得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low[w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else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// w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是回边上的顶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12000" y="2330280"/>
            <a:ext cx="64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low[w] &lt; min)   min = low[w];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48880" y="2909880"/>
            <a:ext cx="7982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low[w]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=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visited[v0]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rintf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v0, G.vertices[v0].data)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/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输出关节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41680" y="5770440"/>
            <a:ext cx="74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(visited[w] &lt; min)   min = visited[w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2" name="">
            <a:hlinkClick r:id="" action="ppaction://hlinkshowjump?jump=previousslide"/>
          </p:cNvPr>
          <p:cNvSpPr/>
          <p:nvPr/>
        </p:nvSpPr>
        <p:spPr>
          <a:xfrm>
            <a:off x="8458200" y="640080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dd7e5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639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6 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两点之间的</a:t>
            </a:r>
            <a:br>
              <a:rPr sz="6000"/>
            </a:b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最短路径问题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求从某个源点到其余各点的最短路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5" name="">
            <a:hlinkClick r:id="rId1" action="ppaction://hlinksldjump"/>
          </p:cNvPr>
          <p:cNvSpPr/>
          <p:nvPr/>
        </p:nvSpPr>
        <p:spPr>
          <a:xfrm>
            <a:off x="685800" y="4952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每一对顶点之间的最短路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2"/>
          <a:stretch/>
        </p:blipFill>
        <p:spPr>
          <a:xfrm flipH="1">
            <a:off x="8381880" y="6289560"/>
            <a:ext cx="457200" cy="339840"/>
          </a:xfrm>
          <a:prstGeom prst="rect">
            <a:avLst/>
          </a:prstGeom>
          <a:ln w="0">
            <a:noFill/>
          </a:ln>
        </p:spPr>
      </p:pic>
      <p:sp>
        <p:nvSpPr>
          <p:cNvPr id="1437" name="">
            <a:hlinkClick r:id="" action="ppaction://hlinkshowjump?jump=nextslide"/>
          </p:cNvPr>
          <p:cNvSpPr/>
          <p:nvPr/>
        </p:nvSpPr>
        <p:spPr>
          <a:xfrm>
            <a:off x="479520" y="304812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457200" y="304920"/>
            <a:ext cx="824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求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从源点到其余各点的最短路径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算法的基本思想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57200" y="19652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依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隶书"/>
              </a:rPr>
              <a:t>最短路径的长度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递增的次序求得各条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38080" y="4419720"/>
            <a:ext cx="990720" cy="609480"/>
          </a:xfrm>
          <a:prstGeom prst="ellipse">
            <a:avLst/>
          </a:prstGeom>
          <a:solidFill>
            <a:srgbClr val="99ccff">
              <a:alpha val="50000"/>
            </a:srgbClr>
          </a:solidFill>
          <a:ln cap="sq"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源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86000" y="3429000"/>
            <a:ext cx="533520" cy="5335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267080" y="5715000"/>
            <a:ext cx="457200" cy="457200"/>
          </a:xfrm>
          <a:prstGeom prst="ellipse">
            <a:avLst/>
          </a:prstGeom>
          <a:noFill/>
          <a:ln cap="sq"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886200" y="4800600"/>
            <a:ext cx="457200" cy="457200"/>
          </a:xfrm>
          <a:prstGeom prst="ellipse">
            <a:avLst/>
          </a:prstGeom>
          <a:noFill/>
          <a:ln cap="sq"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780000" y="4038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1676520" y="3809520"/>
            <a:ext cx="685800" cy="6858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28800" y="4800600"/>
            <a:ext cx="2041560" cy="228600"/>
          </a:xfrm>
          <a:prstGeom prst="line">
            <a:avLst/>
          </a:prstGeom>
          <a:ln cap="sq"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36640" y="4876920"/>
            <a:ext cx="2575080" cy="990360"/>
          </a:xfrm>
          <a:prstGeom prst="line">
            <a:avLst/>
          </a:prstGeom>
          <a:ln cap="sq"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334120" y="3444840"/>
            <a:ext cx="3733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其中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从源点到顶点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最短路径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是所有最短路径中长度最短者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1828800" y="4038480"/>
            <a:ext cx="1371600" cy="60984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457200" y="990720"/>
            <a:ext cx="86868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这条路径上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必定只含一条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并且这条弧的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权值最小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462320" y="2982960"/>
            <a:ext cx="5628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下一条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路径长度次短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最短路径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特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457200"/>
            <a:ext cx="380880" cy="152280"/>
          </a:xfrm>
          <a:custGeom>
            <a:avLst/>
            <a:gdLst>
              <a:gd name="textAreaLeft" fmla="*/ 95040 w 380880"/>
              <a:gd name="textAreaRight" fmla="*/ 285840 w 380880"/>
              <a:gd name="textAreaTop" fmla="*/ 0 h 152280"/>
              <a:gd name="textAreaBottom" fmla="*/ 133560 h 152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cap="sq"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995840" y="349200"/>
            <a:ext cx="42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路径长度最短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最短路径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特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4920" y="3200400"/>
            <a:ext cx="380880" cy="152280"/>
          </a:xfrm>
          <a:custGeom>
            <a:avLst/>
            <a:gdLst>
              <a:gd name="textAreaLeft" fmla="*/ 95040 w 380880"/>
              <a:gd name="textAreaRight" fmla="*/ 285840 w 380880"/>
              <a:gd name="textAreaTop" fmla="*/ 0 h 152280"/>
              <a:gd name="textAreaBottom" fmla="*/ 133560 h 152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cap="sq"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" y="3733920"/>
            <a:ext cx="855036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它只可能有两种情况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或者是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接从源点到该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只含一条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； 或者是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源点经过顶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再到达该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由两条弧组成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1646280" y="3930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其余最短路径的特点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370880" y="163440"/>
            <a:ext cx="626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再下一条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路径长度次短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最短路径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特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04920" y="304920"/>
            <a:ext cx="380880" cy="152280"/>
          </a:xfrm>
          <a:custGeom>
            <a:avLst/>
            <a:gdLst>
              <a:gd name="textAreaLeft" fmla="*/ 95040 w 380880"/>
              <a:gd name="textAreaRight" fmla="*/ 285840 w 380880"/>
              <a:gd name="textAreaTop" fmla="*/ 0 h 152280"/>
              <a:gd name="textAreaBottom" fmla="*/ 133560 h 152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cap="sq"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920" y="914400"/>
            <a:ext cx="8839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它可能有三种情况：或者是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接从源点到该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只含一条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； 或者是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源点经过顶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再到达该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由两条弧组成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；或者是，从源点经过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 baseline="-25000">
                <a:solidFill>
                  <a:srgbClr val="000099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再到达该顶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920" y="4038480"/>
            <a:ext cx="380880" cy="152640"/>
          </a:xfrm>
          <a:custGeom>
            <a:avLst/>
            <a:gdLst>
              <a:gd name="textAreaLeft" fmla="*/ 95040 w 380880"/>
              <a:gd name="textAreaRight" fmla="*/ 285840 w 380880"/>
              <a:gd name="textAreaTop" fmla="*/ 0 h 152640"/>
              <a:gd name="textAreaBottom" fmla="*/ 133560 h 152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cap="sq"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3640" y="4637160"/>
            <a:ext cx="855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它或者是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接从源点到该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只含一条弧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； 或者是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源点经过已求得最短路径的顶点，再到达该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1815120" y="1206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求最短路径的迪杰斯特拉算法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-533520" y="3159000"/>
            <a:ext cx="10144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般情况下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ist[k] = &lt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源点到顶点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弧上的权值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g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或者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= &lt;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源点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其它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路径长度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g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&lt;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其它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到顶点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弧上的权值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&g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-609480" y="838080"/>
            <a:ext cx="96012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设置辅助数组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is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其中每个分量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ist[k]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表示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当前所求得的从源点到其余各顶点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k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的最短路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380880" y="152280"/>
            <a:ext cx="8534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在所有从源点出发的弧中选取一条权值最小的弧，即为第一条最短路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80988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）修改其它各顶点的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is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[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]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值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假设求得最短路径的顶点为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 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Dist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[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u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]+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G.arcs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[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u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][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k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]&lt;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Dist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[</a:t>
            </a:r>
            <a:r>
              <a:rPr b="1" i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k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则将 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is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[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]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改为 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Dis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[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]+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.arcs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[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u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][</a:t>
            </a:r>
            <a:r>
              <a:rPr b="0" i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k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457200" y="1590840"/>
                <a:ext cx="556272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s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k</m:t>
                              </m:r>
                              <m:r>
                                <m:t xml:space="preserve">]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FINITY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9" name=""/>
          <p:cNvSpPr/>
          <p:nvPr/>
        </p:nvSpPr>
        <p:spPr>
          <a:xfrm>
            <a:off x="5905080" y="1600200"/>
            <a:ext cx="26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V0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间存在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33800" y="2286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V0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间不存在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940040" y="294156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其中的最小值即为最短路径的长度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228600"/>
            <a:ext cx="862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假若顶点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顶点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w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之间存在一条边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则称顶点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v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w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互为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邻接点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" y="347328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例如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3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D(B) =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5073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D(A) = 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0480" y="1609560"/>
            <a:ext cx="6094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边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(v,w)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顶点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w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相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关联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顶点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v 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关联的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边的数目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定义为边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度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03840" y="3352680"/>
            <a:ext cx="3805200" cy="3048120"/>
            <a:chOff x="4803840" y="3352680"/>
            <a:chExt cx="3805200" cy="3048120"/>
          </a:xfrm>
        </p:grpSpPr>
        <p:sp>
          <p:nvSpPr>
            <p:cNvPr id="189" name=""/>
            <p:cNvSpPr/>
            <p:nvPr/>
          </p:nvSpPr>
          <p:spPr>
            <a:xfrm>
              <a:off x="4803840" y="4648320"/>
              <a:ext cx="455400" cy="53316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030280" y="3733920"/>
              <a:ext cx="7621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51400" y="3657600"/>
              <a:ext cx="137016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61040" y="4952880"/>
              <a:ext cx="236052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162480" y="3733920"/>
              <a:ext cx="1230120" cy="22096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0160" y="3657600"/>
              <a:ext cx="609480" cy="9907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238800" y="4952880"/>
              <a:ext cx="1992240" cy="9907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21360" y="3938760"/>
              <a:ext cx="1440" cy="1928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3352680"/>
              <a:ext cx="455400" cy="5335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53280" y="4572000"/>
              <a:ext cx="455760" cy="5335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5867280"/>
              <a:ext cx="455400" cy="5335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67480" y="5791320"/>
              <a:ext cx="455760" cy="53316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1320" y="3352680"/>
              <a:ext cx="455400" cy="5335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00200" y="3473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右侧图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4116600" y="533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求每一对顶点之间的最短路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687320" y="1889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弗洛伊德算法的基本思想是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33520" y="2743200"/>
            <a:ext cx="83055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  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从 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v</a:t>
            </a:r>
            <a:r>
              <a:rPr b="0" lang="zh-CN" sz="6000" spc="-1" strike="noStrike" baseline="-25000">
                <a:solidFill>
                  <a:srgbClr val="800000"/>
                </a:solidFill>
                <a:latin typeface="隶书"/>
                <a:ea typeface="隶书"/>
              </a:rPr>
              <a:t>i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到 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v</a:t>
            </a:r>
            <a:r>
              <a:rPr b="0" lang="zh-CN" sz="6000" spc="-1" strike="noStrike" baseline="-25000">
                <a:solidFill>
                  <a:srgbClr val="800000"/>
                </a:solidFill>
                <a:latin typeface="隶书"/>
                <a:ea typeface="隶书"/>
              </a:rPr>
              <a:t>j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的所有可能存在的路径中，选出一条长度最短的路径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152280" y="131760"/>
            <a:ext cx="8839440" cy="561168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若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lt;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gt;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存在，则存在路径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路径中不含其它顶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若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lt;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gt;,&lt;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gt;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存在，则存在路径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路径中所含顶点序号不大于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若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…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, {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…,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存在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则存在一条路径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, 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v</a:t>
            </a:r>
            <a:r>
              <a:rPr b="0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路径中所含顶点序号不大于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8600" y="5486400"/>
            <a:ext cx="8686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依次类推，则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i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至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j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最短路径应是上述这些路径中，路径长度最小者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457200" cy="365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2837520" y="152280"/>
            <a:ext cx="333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7.7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拓扑排序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14440" y="1066680"/>
            <a:ext cx="1839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5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问题</a:t>
            </a:r>
            <a:r>
              <a:rPr b="1" lang="zh-CN" sz="5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: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62120" y="18892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假设以有向图表示一个工程的施工图或程序的数据流图，则图中不允许出现回路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80880" y="441972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检查有向图中是否存在回路的方法之一，是对有向图进行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拓扑排序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1507680" y="450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何谓“拓扑排序”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47240" y="160020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有向图进行如下操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57200" y="2438280"/>
            <a:ext cx="83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按照有向图给出的次序关系，将图中顶点排成一个线性序列，对于有向图中没有限定次序关系的顶点，则可以人为加上任意的次序关系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550880" y="18129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例如：对于下列有向图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371600" y="2908440"/>
            <a:ext cx="3048120" cy="1587240"/>
            <a:chOff x="1371600" y="2908440"/>
            <a:chExt cx="3048120" cy="1587240"/>
          </a:xfrm>
        </p:grpSpPr>
        <p:sp>
          <p:nvSpPr>
            <p:cNvPr id="1488" name=""/>
            <p:cNvSpPr/>
            <p:nvPr/>
          </p:nvSpPr>
          <p:spPr>
            <a:xfrm>
              <a:off x="2666880" y="29084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96252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7160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66688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1828800" y="3124080"/>
              <a:ext cx="838080" cy="45720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752480" y="3886200"/>
              <a:ext cx="914400" cy="38088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124080" y="3200400"/>
              <a:ext cx="914400" cy="38088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3124080" y="3886200"/>
              <a:ext cx="914400" cy="380880"/>
            </a:xfrm>
            <a:prstGeom prst="line">
              <a:avLst/>
            </a:prstGeom>
            <a:ln cap="sq"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380880" y="4648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可求得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拓扑有序序列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A B C D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A C B 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22860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隶书"/>
              </a:rPr>
              <a:t>由此所得顶点的线性序列称之为</a:t>
            </a: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拓扑有序序列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"/>
          <p:cNvGrpSpPr/>
          <p:nvPr/>
        </p:nvGrpSpPr>
        <p:grpSpPr>
          <a:xfrm>
            <a:off x="1523880" y="1752480"/>
            <a:ext cx="3048120" cy="1524240"/>
            <a:chOff x="1523880" y="1752480"/>
            <a:chExt cx="3048120" cy="1524240"/>
          </a:xfrm>
        </p:grpSpPr>
        <p:sp>
          <p:nvSpPr>
            <p:cNvPr id="1499" name=""/>
            <p:cNvSpPr/>
            <p:nvPr/>
          </p:nvSpPr>
          <p:spPr>
            <a:xfrm>
              <a:off x="2819520" y="1752480"/>
              <a:ext cx="457200" cy="45720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114800" y="2286000"/>
              <a:ext cx="457200" cy="45720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23880" y="2286000"/>
              <a:ext cx="457200" cy="45720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819520" y="2819520"/>
              <a:ext cx="457200" cy="45720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cap="sq" w="1260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1981080" y="2057040"/>
              <a:ext cx="838440" cy="3049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05120" y="2666880"/>
              <a:ext cx="914400" cy="38124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3276720" y="2666520"/>
              <a:ext cx="914400" cy="38124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 flipV="1">
              <a:off x="3276720" y="1981080"/>
              <a:ext cx="914400" cy="4572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48120" y="2209680"/>
              <a:ext cx="0" cy="60984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1703520" y="685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反之，对于下列有向图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941640" y="3657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能求得它的拓扑有序序列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35720" y="4724280"/>
            <a:ext cx="29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因为图中存在一个回路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{B, C, D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2935440" y="2286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如何进行拓扑排序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" y="1263600"/>
            <a:ext cx="809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、从有向图中选取一个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没有前驱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顶点，并输出之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4920" y="46926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重复上述两步，直至图空，或者图不空但找不到无前驱的顶点为止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961640" y="3016080"/>
            <a:ext cx="51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二、从有向图中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删去此顶点以及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有以它为尾的弧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"/>
          <p:cNvGrpSpPr/>
          <p:nvPr/>
        </p:nvGrpSpPr>
        <p:grpSpPr>
          <a:xfrm>
            <a:off x="1447920" y="228600"/>
            <a:ext cx="5257800" cy="2971800"/>
            <a:chOff x="1447920" y="228600"/>
            <a:chExt cx="5257800" cy="2971800"/>
          </a:xfrm>
        </p:grpSpPr>
        <p:sp>
          <p:nvSpPr>
            <p:cNvPr id="1516" name=""/>
            <p:cNvSpPr/>
            <p:nvPr/>
          </p:nvSpPr>
          <p:spPr>
            <a:xfrm>
              <a:off x="1447920" y="762120"/>
              <a:ext cx="609480" cy="5331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447920" y="2133720"/>
              <a:ext cx="609480" cy="5331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048120" y="228600"/>
              <a:ext cx="609480" cy="5335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48120" y="1447920"/>
              <a:ext cx="609480" cy="5331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48120" y="2666880"/>
              <a:ext cx="609480" cy="5335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572000" y="762120"/>
              <a:ext cx="609480" cy="5331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72000" y="2133720"/>
              <a:ext cx="609480" cy="5331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095880" y="1447920"/>
              <a:ext cx="609840" cy="5331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2057400" y="533520"/>
              <a:ext cx="990720" cy="38088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57400" y="1143000"/>
              <a:ext cx="990720" cy="38088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2057400" y="1828800"/>
              <a:ext cx="1066680" cy="45720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57400" y="2514600"/>
              <a:ext cx="990720" cy="38088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57600" y="457200"/>
              <a:ext cx="990720" cy="38088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657600" y="1143000"/>
              <a:ext cx="914400" cy="45720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57600" y="1828800"/>
              <a:ext cx="990720" cy="45720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3657600" y="2590920"/>
              <a:ext cx="990720" cy="30456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181480" y="990720"/>
              <a:ext cx="914400" cy="53316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5181480" y="1828800"/>
              <a:ext cx="914400" cy="533520"/>
            </a:xfrm>
            <a:prstGeom prst="line">
              <a:avLst/>
            </a:prstGeom>
            <a:ln cap="sq"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976320" y="3413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754640" y="3413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535480" y="3413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78160" y="34131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964320" y="3413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44800" y="3413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488200" y="34131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73640" y="34131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371600" y="68580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133720" y="457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133720" y="1143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371600" y="205740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133720" y="182880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33720" y="2514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971800" y="259092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657600" y="25146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971800" y="2286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733920" y="380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495680" y="6094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57600" y="990720"/>
            <a:ext cx="91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181480" y="9144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971800" y="137160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733920" y="1752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495680" y="205740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105520" y="18288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943600" y="129528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921320" y="426708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算法中需要用定量的描述替代定性的概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58080" y="5181480"/>
            <a:ext cx="55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没有前驱的顶点 </a:t>
            </a:r>
            <a:r>
              <a:rPr b="1" lang="zh-CN" sz="3200" spc="-1" strike="noStrike">
                <a:solidFill>
                  <a:srgbClr val="800000"/>
                </a:solidFill>
                <a:latin typeface="Symbol"/>
                <a:ea typeface="Symbol"/>
              </a:rPr>
              <a:t>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入度为零的顶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74640" y="5954760"/>
            <a:ext cx="62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删除顶点及以它为尾的弧 </a:t>
            </a:r>
            <a:r>
              <a:rPr b="1" lang="zh-CN" sz="3200" spc="-1" strike="noStrike">
                <a:solidFill>
                  <a:srgbClr val="800000"/>
                </a:solidFill>
                <a:latin typeface="Symbol"/>
                <a:ea typeface="Symbol"/>
              </a:rPr>
              <a:t>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弧头顶点的入度减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170440" y="76320"/>
            <a:ext cx="528552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取入度为零的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hile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v&lt;&gt;0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rintf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v);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m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:=FirstAdj(v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hile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w&lt;&gt;0)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nDegree[w]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--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w:=nextAdj(v,w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取下一个入度为零的顶点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v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m&lt;n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rintf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“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图中有回路”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3320" y="-1306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算法描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afd"/>
            </a:gs>
            <a:gs pos="100000">
              <a:srgbClr val="ebe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>
            <a:off x="324000" y="228600"/>
            <a:ext cx="882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为避免每次都要搜索入度为零的顶点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算法中设置一个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栈”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，以保存“入度为零”的顶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12360" y="2351160"/>
            <a:ext cx="5537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ountInDegree(G,indegree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各顶点求入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InitStack(S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( i=0; i&lt;G.vexnum; ++i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f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!indegree[i])  Push(S, i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//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入度为零的顶点入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1T01:50:26Z</dcterms:created>
  <dc:creator>thcic</dc:creator>
  <dc:description/>
  <dc:language>en-US</dc:language>
  <cp:lastModifiedBy>yanwm</cp:lastModifiedBy>
  <dcterms:modified xsi:type="dcterms:W3CDTF">2001-04-09T01:21:24Z</dcterms:modified>
  <cp:revision>100</cp:revision>
  <dc:subject/>
  <dc:title>没有幻灯片标题</dc:title>
</cp:coreProperties>
</file>