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0FDC-B382-494B-9AE3-D0C91FB3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2E50-4B2D-433B-9758-F4B96856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5CC4-E122-4132-A889-08556622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67FD-3F0B-4532-8043-5122901B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FBE0-E2A7-4F68-8345-436E1E02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D986-584C-4AC1-8F19-6F26D408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1CE3-F9B0-4562-9E15-57597E25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98CA-82BE-4E57-B745-077AB093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E7F0-361D-4F49-A4FA-80029291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68CF-215C-454F-AD5A-F93C686D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86B9-4538-43CC-BEE0-2EC74E3B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9763-7934-4222-B91F-2FB3847A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C7CB-42E5-473E-88DE-B39B5AFE2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1.xml"/><Relationship Id="rId6" Type="http://schemas.openxmlformats.org/officeDocument/2006/relationships/slide" Target="slide15.xml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 action="ppaction://hlinksldjump"/>
          </p:cNvPr>
          <p:cNvSpPr/>
          <p:nvPr/>
        </p:nvSpPr>
        <p:spPr>
          <a:xfrm>
            <a:off x="1066680" y="990720"/>
            <a:ext cx="1524240" cy="581400"/>
          </a:xfrm>
          <a:prstGeom prst="rect">
            <a:avLst/>
          </a:prstGeom>
          <a:solidFill>
            <a:srgbClr val="008080"/>
          </a:solidFill>
          <a:ln w="25560">
            <a:solidFill>
              <a:srgbClr val="ccff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.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4495680" y="990720"/>
            <a:ext cx="1524240" cy="581400"/>
          </a:xfrm>
          <a:prstGeom prst="rect">
            <a:avLst/>
          </a:prstGeom>
          <a:solidFill>
            <a:srgbClr val="008080"/>
          </a:solidFill>
          <a:ln w="25560">
            <a:solidFill>
              <a:srgbClr val="ccff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.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1828800" y="2900520"/>
            <a:ext cx="1523880" cy="581400"/>
          </a:xfrm>
          <a:prstGeom prst="rect">
            <a:avLst/>
          </a:prstGeom>
          <a:solidFill>
            <a:srgbClr val="008080"/>
          </a:solidFill>
          <a:ln w="25560">
            <a:solidFill>
              <a:srgbClr val="ccff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.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5257800" y="2895480"/>
            <a:ext cx="1523880" cy="581400"/>
          </a:xfrm>
          <a:prstGeom prst="rect">
            <a:avLst/>
          </a:prstGeom>
          <a:solidFill>
            <a:srgbClr val="008080"/>
          </a:solidFill>
          <a:ln w="25560">
            <a:solidFill>
              <a:srgbClr val="ccff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.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2590920" y="4805280"/>
            <a:ext cx="1523880" cy="581400"/>
          </a:xfrm>
          <a:prstGeom prst="rect">
            <a:avLst/>
          </a:prstGeom>
          <a:solidFill>
            <a:srgbClr val="008080"/>
          </a:solidFill>
          <a:ln w="25560">
            <a:solidFill>
              <a:srgbClr val="ccff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.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6019920" y="4805280"/>
            <a:ext cx="1523880" cy="581400"/>
          </a:xfrm>
          <a:prstGeom prst="rect">
            <a:avLst/>
          </a:prstGeom>
          <a:solidFill>
            <a:srgbClr val="008080"/>
          </a:solidFill>
          <a:ln w="25560">
            <a:solidFill>
              <a:srgbClr val="ccff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.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001000" y="5943600"/>
            <a:ext cx="806400" cy="60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90600" y="1050840"/>
            <a:ext cx="871668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Status 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DeQueue(CLQueue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Q, QElemType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e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//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若队列不空，则删除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Q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的队头元素，以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e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带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// 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其值，并返回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OK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，否则返回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if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(Q-&gt;next == Q)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return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(ERROR);    //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空队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p = Q-&gt;next-&gt;next;   e = p-&gt;data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Q-&gt;next-&gt;next = p-&gt;next;       //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删除队头元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if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(p == Q)  Q = Q-&gt;next;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delete p;  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return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OK;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    //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释放被删结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25280" y="304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出队列操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05920" y="5867280"/>
            <a:ext cx="474480" cy="685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12193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判别读入的字符序列是否为“回文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209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cdedcba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ccba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回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5040" y="3200400"/>
            <a:ext cx="8474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由于回文的字符序列中的分界线不明确，因此无法判定字符序列的“中间位置”，即只能按照回文的定义从字符的两头出发进行判别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03040"/>
            <a:ext cx="1828800" cy="703440"/>
          </a:xfrm>
          <a:prstGeom prst="rect">
            <a:avLst/>
          </a:prstGeom>
          <a:solidFill>
            <a:srgbClr val="008080"/>
          </a:solidFill>
          <a:ln w="25560">
            <a:solidFill>
              <a:srgbClr val="ccff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题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3.3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98320" y="4114800"/>
            <a:ext cx="29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算法的基本思想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9080" y="4937040"/>
            <a:ext cx="855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将依次读入的字符分别插入栈和队列，然后依次比较“栈顶”和“队头”的字符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040" y="212760"/>
            <a:ext cx="855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然而，按照题目的要求，这个字符序列是从外部环境输入的。为了在输入结束的时候，同时能得到序列的“头”和“尾”，因此算法中，除了需要用一个栈之外，还需要一个队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152280"/>
            <a:ext cx="9144000" cy="65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ex331( )  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若从终端依次输入的字符序列是“回文”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/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则返回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RUE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否则返回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InitStack(S);  InitQueue(Q)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scanf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ch)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ch!=</a:t>
            </a:r>
            <a:r>
              <a:rPr b="0" lang="zh-CN" sz="4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@</a:t>
            </a:r>
            <a:r>
              <a:rPr b="0" lang="zh-CN" sz="4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) 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Push(S, ch);  EnQueue(Q, ch)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scanf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ch)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41960" y="328680"/>
            <a:ext cx="76633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state=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StackEmpty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&amp;&amp;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state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GetTop(S)==GetHead(Q)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{ Pop(S);  DeQueue(Q); 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state=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state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229600" y="5715000"/>
            <a:ext cx="631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157320"/>
            <a:ext cx="1524240" cy="581400"/>
          </a:xfrm>
          <a:prstGeom prst="rect">
            <a:avLst/>
          </a:prstGeom>
          <a:solidFill>
            <a:srgbClr val="008080"/>
          </a:solidFill>
          <a:ln w="25560">
            <a:solidFill>
              <a:srgbClr val="ccff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.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17600" y="1004760"/>
            <a:ext cx="668340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k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阶斐波那契函数的定义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f</a:t>
            </a:r>
            <a:r>
              <a:rPr b="0" lang="zh-CN" sz="3200" spc="-1" strike="noStrike" baseline="-25000">
                <a:solidFill>
                  <a:srgbClr val="006666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= f</a:t>
            </a:r>
            <a:r>
              <a:rPr b="0" lang="zh-CN" sz="3200" spc="-1" strike="noStrike" baseline="-25000">
                <a:solidFill>
                  <a:srgbClr val="006666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= …… = f</a:t>
            </a:r>
            <a:r>
              <a:rPr b="0" lang="zh-CN" sz="3200" spc="-1" strike="noStrike" baseline="-25000">
                <a:solidFill>
                  <a:srgbClr val="006666"/>
                </a:solidFill>
                <a:latin typeface="Times New Roman"/>
              </a:rPr>
              <a:t>k-2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= 0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， 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f</a:t>
            </a:r>
            <a:r>
              <a:rPr b="0" lang="zh-CN" sz="3200" spc="-1" strike="noStrike" baseline="-25000">
                <a:solidFill>
                  <a:srgbClr val="006666"/>
                </a:solidFill>
                <a:latin typeface="Times New Roman"/>
              </a:rPr>
              <a:t>k-1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= 1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f</a:t>
            </a:r>
            <a:r>
              <a:rPr b="0" lang="zh-CN" sz="3200" spc="-1" strike="noStrike" baseline="-25000">
                <a:solidFill>
                  <a:srgbClr val="006666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= f</a:t>
            </a:r>
            <a:r>
              <a:rPr b="0" lang="zh-CN" sz="3200" spc="-1" strike="noStrike" baseline="-25000">
                <a:solidFill>
                  <a:srgbClr val="006666"/>
                </a:solidFill>
                <a:latin typeface="Times New Roman"/>
              </a:rPr>
              <a:t>n-1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+f</a:t>
            </a:r>
            <a:r>
              <a:rPr b="0" lang="zh-CN" sz="3200" spc="-1" strike="noStrike" baseline="-25000">
                <a:solidFill>
                  <a:srgbClr val="006666"/>
                </a:solidFill>
                <a:latin typeface="Times New Roman"/>
              </a:rPr>
              <a:t>n-2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+…… + f</a:t>
            </a:r>
            <a:r>
              <a:rPr b="0" lang="zh-CN" sz="3200" spc="-1" strike="noStrike" baseline="-25000">
                <a:solidFill>
                  <a:srgbClr val="006666"/>
                </a:solidFill>
                <a:latin typeface="Times New Roman"/>
              </a:rPr>
              <a:t>n-k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     n ≥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040" y="3311640"/>
            <a:ext cx="8778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由于题目要求循环队列的容量为 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k, 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即当前队列中 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k 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个元素之和为下一个函数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4835520"/>
            <a:ext cx="792504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利用公式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f</a:t>
            </a:r>
            <a:r>
              <a:rPr b="1" lang="zh-CN" sz="3200" spc="-1" strike="noStrike" baseline="-25000">
                <a:solidFill>
                  <a:srgbClr val="663300"/>
                </a:solidFill>
                <a:latin typeface="Times New Roman"/>
                <a:ea typeface="楷体_GB2312"/>
              </a:rPr>
              <a:t>n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 = 2f</a:t>
            </a:r>
            <a:r>
              <a:rPr b="1" lang="zh-CN" sz="3200" spc="-1" strike="noStrike" baseline="-25000">
                <a:solidFill>
                  <a:srgbClr val="663300"/>
                </a:solidFill>
                <a:latin typeface="Times New Roman"/>
                <a:ea typeface="楷体_GB2312"/>
              </a:rPr>
              <a:t>n-1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 - f</a:t>
            </a:r>
            <a:r>
              <a:rPr b="1" lang="zh-CN" sz="3200" spc="-1" strike="noStrike" baseline="-25000">
                <a:solidFill>
                  <a:srgbClr val="663300"/>
                </a:solidFill>
                <a:latin typeface="Times New Roman"/>
                <a:ea typeface="楷体_GB2312"/>
              </a:rPr>
              <a:t>n-k-1 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可以简化计算，但需要队列的容量为 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k+1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75160" y="131760"/>
            <a:ext cx="7707600" cy="65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void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k_Fib(CQueue Q, 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int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k, 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int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max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for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(i=0; i&lt;k-1;  i++)  Q.elem[i] = 0; 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//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赋初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Q.elem[k-1] = 1;  Q.rear = 0;  f = 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while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( f &lt;= max 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cout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&lt;&lt; Q.elem[Q.rear];      //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输出队头元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Q.elem[Q.rear] = f;          //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插入新的队尾元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Q.rear ++;                   //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队尾指针增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f = 0;                          //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计算下一个函数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for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( i=0; i&lt;k; i++)  f+= Q.elem[i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继续输出循环队列中的其余函数值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153280" y="5715000"/>
            <a:ext cx="631800" cy="914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34440" y="76320"/>
            <a:ext cx="7239960" cy="67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void</a:t>
            </a: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  k_Fib(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int</a:t>
            </a: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 k, 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int</a:t>
            </a: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 max)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InitQueue(Q);   //</a:t>
            </a: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附设含</a:t>
            </a: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k+1</a:t>
            </a: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个分量的循环队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for</a:t>
            </a: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 (i=0; i&lt;k-1;  i++)  EnQueue(Q, 0)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EnQueue(Q, 1);   f = 1;                             </a:t>
            </a:r>
            <a:r>
              <a:rPr b="0" lang="zh-CN" sz="2800" spc="-1" strike="noStrike">
                <a:solidFill>
                  <a:srgbClr val="663300"/>
                </a:solidFill>
                <a:latin typeface="Times New Roman"/>
              </a:rPr>
              <a:t>//</a:t>
            </a:r>
            <a:r>
              <a:rPr b="0" lang="zh-CN" sz="2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赋初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while</a:t>
            </a: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 ( f &lt;= max )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DeQueue(Q, 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cout</a:t>
            </a: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 &lt;&lt; e &lt;&lt;‘,’;          // 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输出队头元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EnQueue(Q, f );          // 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插入新的队尾元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f = 2*f - e;                   // 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计算下一个函数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}</a:t>
            </a: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 // w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while</a:t>
            </a: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(! QueueEmpty (Q))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DeQueue( Q, e);  cout &lt;&lt; e &lt;&lt; ‘e’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                 </a:t>
            </a:r>
            <a:r>
              <a:rPr b="1" lang="zh-CN" sz="24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//     </a:t>
            </a:r>
            <a:r>
              <a:rPr b="1" lang="zh-CN" sz="24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继续输出循环队列中的其余函数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    </a:t>
            </a:r>
            <a:r>
              <a:rPr b="1" lang="zh-CN" sz="16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66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76320"/>
            <a:ext cx="1524240" cy="581400"/>
          </a:xfrm>
          <a:prstGeom prst="rect">
            <a:avLst/>
          </a:prstGeom>
          <a:solidFill>
            <a:srgbClr val="008080"/>
          </a:solidFill>
          <a:ln w="25560">
            <a:solidFill>
              <a:srgbClr val="ccff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.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685800"/>
            <a:ext cx="8763120" cy="61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int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 matching(SqList exp)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// 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顺序表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exp</a:t>
            </a:r>
            <a:r>
              <a:rPr b="0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中存有数据元素为字符的表达式</a:t>
            </a:r>
            <a:r>
              <a:rPr b="0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// </a:t>
            </a:r>
            <a:r>
              <a:rPr b="0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若表达式中三种括弧正确嵌套，则返回 </a:t>
            </a:r>
            <a:r>
              <a:rPr b="0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// </a:t>
            </a:r>
            <a:r>
              <a:rPr b="0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否则返回 </a:t>
            </a:r>
            <a:r>
              <a:rPr b="0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0</a:t>
            </a:r>
            <a:r>
              <a:rPr b="0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6280" y="3124080"/>
            <a:ext cx="77119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state = 1;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i = 1;  InitStack(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while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(i&lt;=exp.length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&amp;&amp;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state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{                          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if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(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state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&amp;&amp;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StackEmpty(S))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 return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else  return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0;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1676520" y="428616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35240" y="152280"/>
            <a:ext cx="7392600" cy="66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witch o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exp.elem[i]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左括弧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{Push(S, exp.elem[i]); i++;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;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 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StackEmpty(S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amp;&amp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GetTop(S)=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{ Pop(S,e);  i++;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state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; 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 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StackEmpty(S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amp;&amp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GetTop(S)=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{ Pop(S,e);  i++;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state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; 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05920" y="5867280"/>
            <a:ext cx="474480" cy="685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362320" y="15228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识别读入的一个字符序列是否为反对称的字符序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2760" y="1981080"/>
            <a:ext cx="8931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abc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amp;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dcb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@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反对称字符序列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ab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&amp;@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或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ab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ab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@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或 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ba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@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都不是反对称字符序列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03040"/>
            <a:ext cx="1828800" cy="703440"/>
          </a:xfrm>
          <a:prstGeom prst="rect">
            <a:avLst/>
          </a:prstGeom>
          <a:solidFill>
            <a:srgbClr val="008080"/>
          </a:solidFill>
          <a:ln w="25560">
            <a:solidFill>
              <a:srgbClr val="ccff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题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3.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4692600"/>
            <a:ext cx="870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则这个算法和“判别括弧是否正确匹配”的算法极其相似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10960" y="380880"/>
            <a:ext cx="8931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同样，在算法过程中需要用到一个栈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由于序列中必定出现字符</a:t>
            </a:r>
            <a:r>
              <a:rPr b="0" lang="zh-CN" sz="4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amp; </a:t>
            </a:r>
            <a:r>
              <a:rPr b="0" lang="zh-CN" sz="4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则可将</a:t>
            </a: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在字符</a:t>
            </a:r>
            <a:r>
              <a:rPr b="0" lang="zh-CN" sz="4000" spc="-1" strike="noStrike">
                <a:solidFill>
                  <a:srgbClr val="9900cc"/>
                </a:solidFill>
                <a:latin typeface="Symbol"/>
                <a:ea typeface="Symbol"/>
              </a:rPr>
              <a:t></a:t>
            </a: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&amp;</a:t>
            </a:r>
            <a:r>
              <a:rPr b="0" lang="zh-CN" sz="4000" spc="-1" strike="noStrike">
                <a:solidFill>
                  <a:srgbClr val="9900cc"/>
                </a:solidFill>
                <a:latin typeface="Symbol"/>
                <a:ea typeface="Symbol"/>
              </a:rPr>
              <a:t></a:t>
            </a: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出现之前的所有字符均入栈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滤去字符</a:t>
            </a:r>
            <a:r>
              <a:rPr b="0" lang="zh-CN" sz="4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amp;</a:t>
            </a:r>
            <a:r>
              <a:rPr b="0" lang="zh-CN" sz="4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之后</a:t>
            </a: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再读入的字符则应和栈顶的字符相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当然，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首先必须判别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此时的“栈”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是否为“空栈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080" y="5105520"/>
            <a:ext cx="8854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此题的参数仅为一个字符序列，可以设为元素为字符的数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76320"/>
            <a:ext cx="8763120" cy="66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int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 symmetry(char Ch[] )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// 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若 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Ch[] 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为反对称字符序列</a:t>
            </a:r>
            <a:r>
              <a:rPr b="0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，则返回 </a:t>
            </a:r>
            <a:r>
              <a:rPr b="0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//</a:t>
            </a:r>
            <a:r>
              <a:rPr b="0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否则返回 </a:t>
            </a:r>
            <a:r>
              <a:rPr b="0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0</a:t>
            </a:r>
            <a:r>
              <a:rPr b="0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00200"/>
            <a:ext cx="8229600" cy="43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p = Ch;  InitStack(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while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(*p!=‘&amp;’)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{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Push(S,*p);  p++;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state = 1;  p++;   // 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滤去字符‘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&amp;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while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(*p!=‘@’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&amp;&amp;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state )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if 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NOT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 StackEmpty(S)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&amp;&amp;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GetTop(S)==*p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{ 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Pop(S,e);  p++;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else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state = 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4800" y="5867280"/>
            <a:ext cx="58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return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(StackEmpty(S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&amp;&amp;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state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05920" y="5867280"/>
            <a:ext cx="474480" cy="685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467480" y="152280"/>
            <a:ext cx="1524240" cy="581400"/>
          </a:xfrm>
          <a:prstGeom prst="rect">
            <a:avLst/>
          </a:prstGeom>
          <a:solidFill>
            <a:srgbClr val="008080"/>
          </a:solidFill>
          <a:ln w="25560">
            <a:solidFill>
              <a:srgbClr val="ccff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.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4640" y="152280"/>
            <a:ext cx="7364880" cy="67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valuation(SqList suffixal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niStack(S);  p=suffixal.elem;  ch=*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( ch != 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(!IN(ch,OP))  Push(S,ch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Pop(S,b);  Pop(S,a);  x=value(a,ch,b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=setvar(x);  // e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为其值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变量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Push(S,e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h=*p++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Pop(S,e);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val(e));  //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变量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81880" y="5943600"/>
            <a:ext cx="474840" cy="685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315200" y="228600"/>
            <a:ext cx="1523880" cy="581400"/>
          </a:xfrm>
          <a:prstGeom prst="rect">
            <a:avLst/>
          </a:prstGeom>
          <a:solidFill>
            <a:srgbClr val="008080"/>
          </a:solidFill>
          <a:ln w="25560">
            <a:solidFill>
              <a:srgbClr val="ccff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.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09360" y="762120"/>
            <a:ext cx="51156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typedef 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QueuePtr CLQueue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//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指向队尾结点的指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80880" y="2743200"/>
            <a:ext cx="72154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Status 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InitQueue(CLQueue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Q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//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构造空队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Q =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new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Qnode;      //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生成头结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if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(!Q)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exit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(OVERFLOW);    //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存储分配失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Q-&gt;next = Q;          //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自成循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return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O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38960" y="76320"/>
            <a:ext cx="1887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定义循环链队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73000" y="2163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初始化操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7120" y="1050840"/>
            <a:ext cx="833400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Status 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EnQueue(CLQueue &amp;Q, QElemType e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//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插入元素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e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为新的队尾元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p =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new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Qnode;      //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生成新的结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if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(!p)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exit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(OVERFLOW);    //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存储分配失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p-&gt;data = e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p-&gt;next= Q-&gt;next;    Q-&gt;next = p;  //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插入队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Q = p;         //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修改队尾指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return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O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25280" y="304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入队列操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4T04:57:15Z</dcterms:created>
  <dc:creator>WeiminYan</dc:creator>
  <dc:description/>
  <dc:language>en-US</dc:language>
  <cp:lastModifiedBy>yanweimin</cp:lastModifiedBy>
  <dcterms:modified xsi:type="dcterms:W3CDTF">1999-10-13T04:07:22Z</dcterms:modified>
  <cp:revision>9</cp:revision>
  <dc:subject/>
  <dc:title>没有幻灯片标题</dc:title>
</cp:coreProperties>
</file>