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6012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B691-1123-4C51-9744-4D6A0FB311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68B-CC0C-4F75-B69F-97BAC7FA20B8}" type="slidenum">
              <a:rPr b="0" lang="zh-CN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58680" y="622440"/>
            <a:ext cx="4953240" cy="3714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517320" y="4687560"/>
            <a:ext cx="5908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DE63-BF3B-479D-8A58-F2ECB690E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96324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542C-D28E-425F-8C25-989D08F67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E9EB-08C8-4BA3-A8F5-7729DD111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7DB8-2177-4595-867C-6165A1F5F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6655B-1902-48CD-BFA7-3A2094DC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9322-D97D-4A96-BE65-EE50B29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03D2-553B-4EFB-8490-E2D3FBBF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E3DB2-F969-42A9-8B3A-BBB7F8EA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92168-CBFA-4181-9A1D-3992EB2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D9BCC-FEA4-4B7D-AEA6-EDE0DE4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E1737-D3F7-4760-B077-C398455B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7B4E-2E91-4631-A1C6-0392323D1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137A8-EAB0-49E6-A11D-71BD94D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F690-96D8-4027-8A8A-651EFEA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96324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C7A01-5382-4E13-832C-7B05EAF1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CEE9E-9622-47F8-9D55-EE2BCBC3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13148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963240"/>
            <a:ext cx="2747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51EF8-7ABA-4761-A5E9-25DEF29C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2DE7-015C-4A02-966B-2FE47479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E22D-AC3B-44D5-B188-888AAA828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9FCF-1DE8-4A4A-883C-D13AB16D6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0D87-605B-48FA-8632-75E42D276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E377-6881-4DDD-8042-81437B269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96324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2CF7-92C7-4DFE-8171-E253EB2A0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131480"/>
            <a:ext cx="4164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63240"/>
            <a:ext cx="85341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6A0E-3944-4B2D-97B4-F730BDB07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5E0-4CDE-4BE8-B6F0-102A3B5129C5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378d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0ED-843F-4371-8E79-AAFE5A1DF1C4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CD93-5226-47C5-936E-71EE85E8FC0D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回顾：课程内容在计算机系统中的位置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87960" y="3465360"/>
            <a:ext cx="12826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624040" y="5537160"/>
            <a:ext cx="25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078640" y="3465360"/>
            <a:ext cx="1243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001960" y="3456000"/>
            <a:ext cx="3809880" cy="55548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287960" y="3465360"/>
            <a:ext cx="1440" cy="59220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458800" y="2133720"/>
            <a:ext cx="1118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459160" y="2689200"/>
            <a:ext cx="1295280" cy="48096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982320" y="1913040"/>
            <a:ext cx="1207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810600" y="2133720"/>
            <a:ext cx="1640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(Windows 2K)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3220920" y="1688760"/>
            <a:ext cx="1800" cy="44460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3227400" y="1689120"/>
            <a:ext cx="2203560" cy="324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430960" y="1689120"/>
            <a:ext cx="1440" cy="153684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2380320" y="1171440"/>
            <a:ext cx="2872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Application (ex: browser)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 flipV="1">
            <a:off x="2154240" y="1023840"/>
            <a:ext cx="1440" cy="210816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5278320" y="1033560"/>
            <a:ext cx="1800" cy="64764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902320" y="4778280"/>
            <a:ext cx="1653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Digital Desig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440080" y="4732200"/>
            <a:ext cx="2654280" cy="50004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839680" y="5203800"/>
            <a:ext cx="1677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ircuit Design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2611440" y="5241960"/>
            <a:ext cx="2247840" cy="44280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554040" y="3132000"/>
            <a:ext cx="5371920" cy="28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 flipH="1">
            <a:off x="5613480" y="3306600"/>
            <a:ext cx="2502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3333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d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d3333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2160720" y="1023840"/>
            <a:ext cx="3117600" cy="180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2610000" y="4098960"/>
            <a:ext cx="230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Datapath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&amp; Control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2313000" y="4029120"/>
            <a:ext cx="2882880" cy="64764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2992320" y="5656320"/>
            <a:ext cx="1668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transistors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2693880" y="5694480"/>
            <a:ext cx="2044800" cy="43488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3297240" y="3465360"/>
            <a:ext cx="1440" cy="592200"/>
          </a:xfrm>
          <a:prstGeom prst="line">
            <a:avLst/>
          </a:prstGeom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3285000" y="3465360"/>
            <a:ext cx="100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477720" y="335448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477360" y="25779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 flipV="1">
            <a:off x="1849320" y="1689120"/>
            <a:ext cx="1800" cy="144288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>
            <a:off x="1849320" y="3429000"/>
            <a:ext cx="1800" cy="155412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2471760" y="2133720"/>
            <a:ext cx="1143000" cy="48096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38"/>
          <p:cNvSpPr/>
          <p:nvPr/>
        </p:nvSpPr>
        <p:spPr>
          <a:xfrm>
            <a:off x="2459160" y="268920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4" name="Oval 40"/>
          <p:cNvSpPr/>
          <p:nvPr/>
        </p:nvSpPr>
        <p:spPr>
          <a:xfrm>
            <a:off x="14400" y="2676600"/>
            <a:ext cx="8102520" cy="2035080"/>
          </a:xfrm>
          <a:prstGeom prst="ellipse">
            <a:avLst/>
          </a:prstGeom>
          <a:solidFill>
            <a:srgbClr val="cc99ff">
              <a:alpha val="40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5" name="矩形 37"/>
          <p:cNvSpPr/>
          <p:nvPr/>
        </p:nvSpPr>
        <p:spPr>
          <a:xfrm>
            <a:off x="5600880" y="936720"/>
            <a:ext cx="3301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计算机系统的“基石”</a:t>
            </a:r>
            <a:endParaRPr b="0" lang="en-US" sz="2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计算机软件的“立足点”</a:t>
            </a:r>
            <a:endParaRPr b="0" lang="en-US" sz="2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黑体"/>
                <a:ea typeface="黑体"/>
              </a:rPr>
              <a:t>计算机学生的“专长区”</a:t>
            </a:r>
            <a:endParaRPr b="0" lang="en-US" sz="2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76280" y="6237360"/>
            <a:ext cx="79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问题→算法→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程序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黑体"/>
              </a:rPr>
              <a:t>→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指令集体系结构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黑体"/>
              </a:rPr>
              <a:t>→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微结构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→电路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866C-D816-4887-B8B6-0F77CAE4224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四章 存储器分层结构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2000"/>
                </a:solidFill>
                <a:latin typeface="Arial"/>
                <a:ea typeface="黑体"/>
              </a:rPr>
              <a:t>高速缓冲存储器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程序访问局部化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时间局部性：同一单元在一段时间内经常被访问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空间局部性：某一单元的邻近单元在一段时间内经常被访问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映射关系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直接映射：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Cach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槽号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=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主存块号 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MOD Cach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槽数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相联映射：一个主存块可映射到任意一个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Cach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槽中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页组映射：组内相联、组间直接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Cach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组号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=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主存块号 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MOD Cach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组数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替换策略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FIFO / LRU / 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随机 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写策略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Write Back / Write Through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  <a:ea typeface="黑体"/>
              </a:rPr>
              <a:t>Cache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组织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L1 Cache / L2 Cache 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64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分离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Cache /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联合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Cache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AA6-A7D7-4D13-8E18-380EA99C85C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四章  存储器分层结构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7560" y="914040"/>
            <a:ext cx="8110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为什么要进行存储管理？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多道程序设计系统中，要求最大限度地利用主存空间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早期的存储管理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固定分区／变长分区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加界重定位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分页：所有页面全部调入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虚拟存储器管理：“按需调页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分页式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页表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：按固定大小划分为“页”和“页框”，按页分配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分段式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段表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：按程序的逻辑结构划分为“段”，按段分配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段页式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段表＋页表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：先按段分，段内再按页分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段表和页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用来记录虚拟段（页）在主存的存放位置及其他访问属性和特征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快表（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  <a:ea typeface="黑体"/>
              </a:rPr>
              <a:t>TLB</a:t>
            </a: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将当前经常使用的若干页表项存放在一个特殊的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Cache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中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地址转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将虚拟地址转换为物理地址的过程，需要访问段表和页表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存储保护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越界检查：访问的地址与程序模块的上下界比较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访问权限检查：访问的类型与页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段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表中的存取权限比较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22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键保护／环保护：程序的访问权限与存储区的访问权限比较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F9C-502D-44CC-861A-1C56CE7BBB66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0920" y="151920"/>
            <a:ext cx="5635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3333"/>
                </a:solidFill>
                <a:latin typeface="Arial"/>
              </a:rPr>
              <a:t>虚拟地址空间</a:t>
            </a:r>
            <a:endParaRPr b="0" lang="en-US" sz="3200" spc="-1" strike="noStrike">
              <a:solidFill>
                <a:srgbClr val="cd3333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3740040" y="228600"/>
            <a:ext cx="5403960" cy="6543720"/>
            <a:chOff x="3740040" y="228600"/>
            <a:chExt cx="5403960" cy="6543720"/>
          </a:xfrm>
        </p:grpSpPr>
        <p:pic>
          <p:nvPicPr>
            <p:cNvPr id="198" name="Picture 3" descr=""/>
            <p:cNvPicPr/>
            <p:nvPr/>
          </p:nvPicPr>
          <p:blipFill>
            <a:blip r:embed="rId1"/>
            <a:stretch/>
          </p:blipFill>
          <p:spPr>
            <a:xfrm>
              <a:off x="3740040" y="228600"/>
              <a:ext cx="5403960" cy="65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4"/>
            <p:cNvSpPr/>
            <p:nvPr/>
          </p:nvSpPr>
          <p:spPr>
            <a:xfrm>
              <a:off x="4673520" y="505800"/>
              <a:ext cx="2438640" cy="608004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480" y="901440"/>
            <a:ext cx="3962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3040" indent="-203040">
              <a:lnSpc>
                <a:spcPct val="115000"/>
              </a:lnSpc>
              <a:spcBef>
                <a:spcPts val="587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Linux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操作系统的虚拟地址空间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marL="203040" indent="0">
              <a:lnSpc>
                <a:spcPct val="115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   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（其他</a:t>
            </a: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Unix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系统的设计类此）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内核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Kernel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用户栈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User Stack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共享库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Shared Libraries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堆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heap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可读写数据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ead/Write Data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只读数据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ead-only Data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spcBef>
                <a:spcPts val="58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代码（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Code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427120" y="4092480"/>
            <a:ext cx="2170440" cy="13795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276640" y="4456080"/>
            <a:ext cx="2320920" cy="1073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2050920" y="3473280"/>
            <a:ext cx="2551320" cy="1484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2050920" y="3068640"/>
            <a:ext cx="2592360" cy="1206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3932280" y="2585880"/>
            <a:ext cx="655560" cy="154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3267000" y="1359000"/>
            <a:ext cx="1320840" cy="900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2592360" y="684360"/>
            <a:ext cx="2067120" cy="1170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3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272360" y="3114720"/>
            <a:ext cx="1666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黑体"/>
              </a:rPr>
              <a:t>可执行文件的相关内容“复制”到代码段和数据段，然后跳转到程序入口。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4800600" y="190440"/>
            <a:ext cx="21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72960" y="4923000"/>
            <a:ext cx="265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问题：加载时是否真正从磁盘调入信息到主存？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12840" y="5600880"/>
            <a:ext cx="324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Arial"/>
                <a:ea typeface="黑体"/>
              </a:rPr>
              <a:t>实际上加载时不从磁盘调入，只是将代码和数据与虚拟空间建立对应关系，称为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  <a:ea typeface="黑体"/>
              </a:rPr>
              <a:t>“</a:t>
            </a:r>
            <a:r>
              <a:rPr b="1" lang="zh-CN" sz="1900" spc="-1" strike="noStrike">
                <a:solidFill>
                  <a:srgbClr val="ff0000"/>
                </a:solidFill>
                <a:latin typeface="Arial"/>
                <a:ea typeface="黑体"/>
              </a:rPr>
              <a:t>映射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  <a:ea typeface="黑体"/>
              </a:rPr>
              <a:t>”</a:t>
            </a:r>
            <a:r>
              <a:rPr b="1" lang="zh-CN" sz="19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19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212" name="组合 26"/>
          <p:cNvGrpSpPr/>
          <p:nvPr/>
        </p:nvGrpSpPr>
        <p:grpSpPr>
          <a:xfrm>
            <a:off x="6685920" y="1628640"/>
            <a:ext cx="2161080" cy="1844640"/>
            <a:chOff x="6685920" y="1628640"/>
            <a:chExt cx="2161080" cy="1844640"/>
          </a:xfrm>
        </p:grpSpPr>
        <p:cxnSp>
          <p:nvCxnSpPr>
            <p:cNvPr id="213" name="直接箭头连接符 18"/>
            <p:cNvCxnSpPr/>
            <p:nvPr/>
          </p:nvCxnSpPr>
          <p:spPr>
            <a:xfrm flipH="1">
              <a:off x="6956280" y="1897920"/>
              <a:ext cx="720720" cy="90360"/>
            </a:xfrm>
            <a:prstGeom prst="straightConnector1">
              <a:avLst/>
            </a:prstGeom>
            <a:ln w="22320">
              <a:solidFill>
                <a:srgbClr val="402000"/>
              </a:solidFill>
              <a:miter/>
              <a:tailEnd len="med" type="arrow" w="med"/>
            </a:ln>
          </p:spPr>
        </p:cxnSp>
        <p:sp>
          <p:nvSpPr>
            <p:cNvPr id="214" name="TextBox 19"/>
            <p:cNvSpPr/>
            <p:nvPr/>
          </p:nvSpPr>
          <p:spPr>
            <a:xfrm>
              <a:off x="7630920" y="1628640"/>
              <a:ext cx="1216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“</a:t>
              </a:r>
              <a:r>
                <a:rPr b="1" lang="zh-CN" sz="19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空洞”对应页面</a:t>
              </a:r>
              <a:endParaRPr b="0" lang="en-US" sz="19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215" name="直接箭头连接符 22"/>
            <p:cNvCxnSpPr/>
            <p:nvPr/>
          </p:nvCxnSpPr>
          <p:spPr>
            <a:xfrm flipH="1">
              <a:off x="6685920" y="2033280"/>
              <a:ext cx="945720" cy="1440360"/>
            </a:xfrm>
            <a:prstGeom prst="straightConnector1">
              <a:avLst/>
            </a:prstGeom>
            <a:ln w="22320">
              <a:solidFill>
                <a:srgbClr val="402000"/>
              </a:solidFill>
              <a:miter/>
              <a:tailEnd len="med" type="arrow" w="med"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4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C10-0A02-46A6-ABD0-0C68CB3A46EB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四章 存储器分层结构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5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pic>
        <p:nvPicPr>
          <p:cNvPr id="218" name="Picture 4" descr="存储层次级别"/>
          <p:cNvPicPr/>
          <p:nvPr/>
        </p:nvPicPr>
        <p:blipFill>
          <a:blip r:embed="rId1"/>
          <a:stretch/>
        </p:blipFill>
        <p:spPr>
          <a:xfrm>
            <a:off x="304920" y="1146240"/>
            <a:ext cx="83595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D6E-98F9-4DAF-99AA-BA4061965FDC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五章 指令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6960" y="1171440"/>
            <a:ext cx="883908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指令系统（指令集体系结构）是软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  <a:ea typeface="黑体"/>
              </a:rPr>
              <a:t>/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硬件的交界面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一条指令必须隐含或明显地包含：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操作码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源操作数地址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结果值地址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下一条指令地址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与指令集设计相关的重要方面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操作码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数据类型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指令格式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寄存器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寻址方式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操作数类型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d3333"/>
                </a:solidFill>
                <a:latin typeface="Arial"/>
                <a:ea typeface="黑体"/>
              </a:rPr>
              <a:t>     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整数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浮点数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十进制数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位串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无符号数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字符串（基本类型）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存储和对齐方式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大端序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小端序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边界对齐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不对齐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寻址方式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d3333"/>
                </a:solidFill>
                <a:latin typeface="Arial"/>
                <a:ea typeface="黑体"/>
              </a:rPr>
              <a:t>     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寄存器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寄存器直接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直接地址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间接地址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立即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堆栈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/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     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偏移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(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相对、变址和基址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98B1-04BC-4CA4-B61F-C85AC786919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五章  指令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1440" y="871560"/>
            <a:ext cx="8463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2000"/>
                </a:solidFill>
                <a:latin typeface="Arial"/>
                <a:ea typeface="黑体"/>
              </a:rPr>
              <a:t>操作类型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传送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算术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逻辑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字符串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输入输出 </a:t>
            </a:r>
            <a:r>
              <a:rPr b="1" lang="en-US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程序流控制 </a:t>
            </a:r>
            <a:r>
              <a:rPr b="1" lang="en-US" sz="21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系统控制 </a:t>
            </a:r>
            <a:r>
              <a:rPr b="1" lang="en-US" sz="2100" spc="-1" strike="noStrike">
                <a:solidFill>
                  <a:srgbClr val="4c57e6"/>
                </a:solidFill>
                <a:latin typeface="Arial"/>
                <a:ea typeface="黑体"/>
              </a:rPr>
              <a:t>/ ……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2000"/>
                </a:solidFill>
                <a:latin typeface="Arial"/>
                <a:ea typeface="黑体"/>
              </a:rPr>
              <a:t>操作码编、指令长度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定长编码：操作码字段长度固定 （定长指令字 、变长指令字）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扩展编码：按不同类型固定操作码长度 （变长指令字）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2000"/>
                </a:solidFill>
                <a:latin typeface="Arial"/>
                <a:ea typeface="黑体"/>
              </a:rPr>
              <a:t>根据设计和实现风格，指令系统分为两类：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c57e6"/>
                </a:solidFill>
                <a:latin typeface="Arial"/>
                <a:ea typeface="黑体"/>
              </a:rPr>
              <a:t>CISC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：复杂指令集计算机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c57e6"/>
                </a:solidFill>
                <a:latin typeface="Arial"/>
                <a:ea typeface="黑体"/>
              </a:rPr>
              <a:t>RISC</a:t>
            </a:r>
            <a:r>
              <a:rPr b="1" lang="zh-CN" sz="2100" spc="-1" strike="noStrike">
                <a:solidFill>
                  <a:srgbClr val="4c57e6"/>
                </a:solidFill>
                <a:latin typeface="Arial"/>
                <a:ea typeface="黑体"/>
              </a:rPr>
              <a:t>：精简指令集计算机</a:t>
            </a:r>
            <a:endParaRPr b="0" lang="en-US" sz="21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指令少、寻址方式简单、指令格式规整、适合流水线控制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只有</a:t>
            </a:r>
            <a:r>
              <a:rPr b="1" lang="en-US" sz="2100" spc="-1" strike="noStrike">
                <a:solidFill>
                  <a:srgbClr val="009900"/>
                </a:solidFill>
                <a:latin typeface="Arial"/>
                <a:ea typeface="黑体"/>
              </a:rPr>
              <a:t>Load/Store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指令才能访存、大量通用寄存器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采用硬连线路控制器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388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  <a:ea typeface="黑体"/>
              </a:rPr>
              <a:t>便于编译器优化代码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F22-F1C5-4C71-803C-264D03DF9C3D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五章  指令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指令格式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-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类型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I-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类型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J-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类型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寄存器</a:t>
            </a: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; 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存储器结构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长度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个数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功能分配 ；按字节编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大端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按字对齐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地址空间结构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操作数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寄存器操作数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存储器操作数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立即数 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指令寻址方式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立即数寻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寄存器寻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相对寻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伪直接寻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偏移寻址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指令类型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算术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逻辑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数据传送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条件分支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无条件转移 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。。。。。。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MIPS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汇编语言形式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操作码的表示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寄存器的表示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存储器数据表示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机器语言的解码（反汇编）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高级语言、汇编语言、机器语言之间的转换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运算表达式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 If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语句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循环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数组访问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过程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堆栈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栈帧 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其他指令系统：</a:t>
            </a: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PowerPC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、</a:t>
            </a: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80x86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CISC vs. RISC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A682-20FF-459C-99B9-51F31D6CE42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六章 中央处理器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014120"/>
            <a:ext cx="8520120" cy="56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的功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执行指令、检测“中断”并响应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的组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控制器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Control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和数据通路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Datapath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            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也可看成由内部总线连接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ALU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控制部件和寄存器等组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寄存器有两类：用户（程序员）可见和系统专用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指令周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取指令、译码、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取数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执行、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结果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中断响应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一条指令的执行归根到底是数据在数据通路中流动的过程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数据通路的设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总线式数据通路（多周期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）：单总线、二总线、三总线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单周期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Datepath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I=1 ( Clock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宽度为最复杂指令周期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多周期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Datepath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I&gt;1 ( Clock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宽度为最复杂子周期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流水线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Datepath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I~1 ( Clock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宽度为最复杂子周期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214E-9FF0-4E11-8C46-632D09445DB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六章 中央处理器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060560"/>
            <a:ext cx="8534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控制器的实现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硬联线路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PLA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实现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、微程序设计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微程序、微指令、微命令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每条指令由一个微程序对应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一个微程序由若干条微指令构成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一个微指令包含若干微命令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操作控制信号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微操作码编码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(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微命令组合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方法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直接控制法、字段直接编码法、字段间接编码法和垂直编码法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下条微地址的确定方法有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计数器法和下址字段法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微程序设计的特点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825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规整、可维性好、 灵活、易修改，但速度慢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FE3-9B0A-4402-A414-A77B993725F1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八章 系统总线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4240" y="947520"/>
            <a:ext cx="89694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的主要功能部件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执行指令并检测和响应中断 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存储器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放数据和程序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系统与外设进行各种信息交换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指令中有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访存指令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读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写内存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-MM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-Cache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MM-Cache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MM-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磁盘间数据交换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指令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发命令、取状态、读写数据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-DV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间数据交换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系统总线：在主要功能部件间互连的一组共享传输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信号线类型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数据线、地址线和控制线；可复用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总线裁决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集中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链式、计数器、独立请求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；分布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自举、冲突检测等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定时方式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同步、异步、半同步、分离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总线事务类型 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储器读、存储器写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读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写、中断响应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402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提高总线带宽：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增加宽度、信号线不复用、突发传送、提高时钟频率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4A8-D8F1-4EE7-B013-28633A7C52DC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880" y="232920"/>
            <a:ext cx="8229600" cy="58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回顾：主要教学内容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6840"/>
            <a:ext cx="8661240" cy="3738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Number Representations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Floating Point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Caches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Virtual Memory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Assembly Programming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Logic Design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CPU Organization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Pipelining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Bus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Disks, I/O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lnSpc>
                <a:spcPct val="100000"/>
              </a:lnSpc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</p:txBody>
      </p:sp>
      <p:grpSp>
        <p:nvGrpSpPr>
          <p:cNvPr id="130" name="Group 29"/>
          <p:cNvGrpSpPr/>
          <p:nvPr/>
        </p:nvGrpSpPr>
        <p:grpSpPr>
          <a:xfrm>
            <a:off x="4886280" y="817560"/>
            <a:ext cx="3099960" cy="2228400"/>
            <a:chOff x="4886280" y="817560"/>
            <a:chExt cx="3099960" cy="2228400"/>
          </a:xfrm>
        </p:grpSpPr>
        <p:sp>
          <p:nvSpPr>
            <p:cNvPr id="131" name="Rectangle 6"/>
            <p:cNvSpPr/>
            <p:nvPr/>
          </p:nvSpPr>
          <p:spPr>
            <a:xfrm>
              <a:off x="4886280" y="817560"/>
              <a:ext cx="30999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C Language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MIPS Assembly Lan.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MIPS Machine Code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MIPS Processor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280560" y="1217520"/>
              <a:ext cx="0" cy="26928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6280560" y="1820520"/>
              <a:ext cx="0" cy="26964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>
              <a:off x="6280560" y="2419200"/>
              <a:ext cx="0" cy="26928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35" name="Group 27"/>
          <p:cNvGrpSpPr/>
          <p:nvPr/>
        </p:nvGrpSpPr>
        <p:grpSpPr>
          <a:xfrm>
            <a:off x="4481640" y="3112920"/>
            <a:ext cx="4192200" cy="1896120"/>
            <a:chOff x="4481640" y="3112920"/>
            <a:chExt cx="4192200" cy="1896120"/>
          </a:xfrm>
        </p:grpSpPr>
        <p:sp>
          <p:nvSpPr>
            <p:cNvPr id="136" name="Line 14"/>
            <p:cNvSpPr/>
            <p:nvPr/>
          </p:nvSpPr>
          <p:spPr>
            <a:xfrm>
              <a:off x="6491520" y="3460680"/>
              <a:ext cx="0" cy="58392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4997880" y="3730320"/>
              <a:ext cx="2986920" cy="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7985160" y="3730320"/>
              <a:ext cx="1800" cy="32400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4997880" y="3713040"/>
              <a:ext cx="1800" cy="323640"/>
            </a:xfrm>
            <a:prstGeom prst="line">
              <a:avLst/>
            </a:prstGeom>
            <a:ln w="28440">
              <a:solidFill>
                <a:srgbClr val="402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4481640" y="3984480"/>
              <a:ext cx="143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ALU</a:t>
              </a: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、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DatapathControl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1" name="Text Box 21"/>
            <p:cNvSpPr/>
            <p:nvPr/>
          </p:nvSpPr>
          <p:spPr>
            <a:xfrm>
              <a:off x="6087960" y="4000320"/>
              <a:ext cx="143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AM</a:t>
              </a: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Cache</a:t>
              </a: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VM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7697520" y="4000320"/>
              <a:ext cx="97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Bus</a:t>
              </a: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、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Disk</a:t>
              </a:r>
              <a:r>
                <a:rPr b="1" lang="zh-CN" sz="2000" spc="-1" strike="noStrike">
                  <a:solidFill>
                    <a:srgbClr val="0066ff"/>
                  </a:solidFill>
                  <a:latin typeface="Arial"/>
                </a:rPr>
                <a:t>、 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/O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3" name="Rectangle 26"/>
            <p:cNvSpPr/>
            <p:nvPr/>
          </p:nvSpPr>
          <p:spPr>
            <a:xfrm>
              <a:off x="5324400" y="3112920"/>
              <a:ext cx="240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Machine Structure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44" name="Rectangle 28"/>
          <p:cNvSpPr/>
          <p:nvPr/>
        </p:nvSpPr>
        <p:spPr>
          <a:xfrm>
            <a:off x="317520" y="5056200"/>
            <a:ext cx="85899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plain how higher level programs are translated into machine language, the general structure of computers, exceptions, interrupts, caches, address translation, CPU design, and related topics. 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189000" y="6087960"/>
            <a:ext cx="772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3300"/>
                </a:solidFill>
                <a:latin typeface="Arial"/>
              </a:rPr>
              <a:t>Focus on: </a:t>
            </a:r>
            <a:r>
              <a:rPr b="1" lang="en-US" sz="2300" spc="-1" strike="noStrike">
                <a:solidFill>
                  <a:srgbClr val="0066ff"/>
                </a:solidFill>
                <a:latin typeface="Arial"/>
              </a:rPr>
              <a:t> a single-processor computer system</a:t>
            </a:r>
            <a:r>
              <a:rPr b="0" lang="en-US" sz="23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2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E465-059A-4B77-BFBC-997FD695B4FE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93D-88CA-4E07-A82D-9ECC5A6E77D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九章  输入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出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95200" y="957240"/>
            <a:ext cx="7950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外部设备的分类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人可读：键盘、显示器、打印机、扫描仪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机器可读：磁盘、磁带、光盘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机机通信：调制解调器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A/D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转换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D/A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转换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外部设备的通用结构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通过电缆与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接口相连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接受从电缆送过来的数据和命令，回送设备的状态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外设和主机的连接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1143000" y="4143240"/>
            <a:ext cx="6581880" cy="743040"/>
            <a:chOff x="1143000" y="4143240"/>
            <a:chExt cx="6581880" cy="743040"/>
          </a:xfrm>
        </p:grpSpPr>
        <p:sp>
          <p:nvSpPr>
            <p:cNvPr id="243" name="Text Box 4"/>
            <p:cNvSpPr/>
            <p:nvPr/>
          </p:nvSpPr>
          <p:spPr>
            <a:xfrm>
              <a:off x="1143000" y="4213080"/>
              <a:ext cx="1500120" cy="66528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180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CPU</a:t>
              </a:r>
              <a:r>
                <a:rPr b="1" lang="zh-CN" sz="2000" spc="-1" strike="noStrike">
                  <a:solidFill>
                    <a:srgbClr val="402000"/>
                  </a:solidFill>
                  <a:latin typeface="Arial"/>
                </a:rPr>
                <a:t>或</a:t>
              </a:r>
              <a:r>
                <a:rPr b="1" lang="en-US" sz="2000" spc="-1" strike="noStrike">
                  <a:solidFill>
                    <a:srgbClr val="402000"/>
                  </a:solidFill>
                  <a:latin typeface="Arial"/>
                </a:rPr>
                <a:t>MM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5735520" y="4273560"/>
              <a:ext cx="1117800" cy="396720"/>
            </a:xfrm>
            <a:custGeom>
              <a:avLst/>
              <a:gdLst>
                <a:gd name="textAreaLeft" fmla="*/ 0 w 1117800"/>
                <a:gd name="textAreaRight" fmla="*/ 1117800 w 1117800"/>
                <a:gd name="textAreaTop" fmla="*/ 51120 h 396720"/>
                <a:gd name="textAreaBottom" fmla="*/ 34560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e9964">
                <a:alpha val="31000"/>
              </a:srgbClr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buClr>
                  <a:srgbClr val="5378d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4094280" y="4217760"/>
              <a:ext cx="1641240" cy="66528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180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2000"/>
                  </a:solidFill>
                  <a:latin typeface="Times New Roman"/>
                  <a:ea typeface="黑体"/>
                </a:rPr>
                <a:t>外设控制器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6853320" y="4143240"/>
              <a:ext cx="871560" cy="66528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180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2000"/>
                  </a:solidFill>
                  <a:latin typeface="Times New Roman"/>
                  <a:ea typeface="黑体"/>
                </a:rPr>
                <a:t>外设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2643120" y="4273560"/>
              <a:ext cx="1451160" cy="612720"/>
            </a:xfrm>
            <a:prstGeom prst="leftRightArrow">
              <a:avLst>
                <a:gd name="adj1" fmla="val 50000"/>
                <a:gd name="adj2" fmla="val 47148"/>
              </a:avLst>
            </a:prstGeom>
            <a:solidFill>
              <a:srgbClr val="ce9964">
                <a:alpha val="41000"/>
              </a:srgbClr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buClr>
                  <a:srgbClr val="5378d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2840040" y="441000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2000"/>
                  </a:solidFill>
                  <a:latin typeface="Times New Roman"/>
                  <a:ea typeface="黑体"/>
                </a:rPr>
                <a:t>系统总线</a:t>
              </a: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5964120" y="42894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2000"/>
                  </a:solidFill>
                  <a:latin typeface="Times New Roman"/>
                  <a:ea typeface="黑体"/>
                </a:rPr>
                <a:t>电缆</a:t>
              </a: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250" name="Group 15"/>
          <p:cNvGrpSpPr/>
          <p:nvPr/>
        </p:nvGrpSpPr>
        <p:grpSpPr>
          <a:xfrm>
            <a:off x="4572000" y="4873680"/>
            <a:ext cx="1392120" cy="924120"/>
            <a:chOff x="4572000" y="4873680"/>
            <a:chExt cx="1392120" cy="924120"/>
          </a:xfrm>
        </p:grpSpPr>
        <p:sp>
          <p:nvSpPr>
            <p:cNvPr id="251" name="Line 13"/>
            <p:cNvSpPr/>
            <p:nvPr/>
          </p:nvSpPr>
          <p:spPr>
            <a:xfrm flipH="1" flipV="1">
              <a:off x="4876920" y="4873680"/>
              <a:ext cx="217440" cy="479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Bef>
                  <a:spcPts val="374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4572000" y="5353200"/>
              <a:ext cx="13921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  <a:ea typeface="黑体"/>
                </a:rPr>
                <a:t>I/O</a:t>
              </a:r>
              <a:r>
                <a:rPr b="1" lang="zh-CN" sz="2000" spc="-1" strike="noStrike">
                  <a:solidFill>
                    <a:srgbClr val="cc3300"/>
                  </a:solidFill>
                  <a:latin typeface="Arial"/>
                  <a:ea typeface="黑体"/>
                </a:rPr>
                <a:t>接口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9833-EE1A-4B15-BEE8-EF9161A119E4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九章  输入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出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1680" y="966600"/>
            <a:ext cx="85489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磁表面记忆原理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两种磁化状态：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N-S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态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S-N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态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写入：线圈中电流方向不同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读出：感应电压的极性不同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记录方式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RZ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NRZ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NRZ-1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PM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FM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，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MFM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磁盘存储器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地址：柱面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磁道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号，盘面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磁头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号，扇区号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性能指标：位密度、道密度、容量，寻道时间，等待时间，平均存取时间，数据传输率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(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内部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外部 </a:t>
            </a:r>
            <a:r>
              <a:rPr b="1" lang="en-US" sz="22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冗余磁盘阵列</a:t>
            </a: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(</a:t>
            </a:r>
            <a:r>
              <a:rPr b="1" lang="en-US" sz="2200" spc="-1" strike="noStrike">
                <a:solidFill>
                  <a:srgbClr val="402000"/>
                </a:solidFill>
                <a:latin typeface="Arial"/>
                <a:ea typeface="黑体"/>
              </a:rPr>
              <a:t>RAID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Arial"/>
                <a:ea typeface="黑体"/>
              </a:rPr>
              <a:t>多个物理磁盘组合成一个逻辑盘，以提高</a:t>
            </a:r>
            <a:r>
              <a:rPr b="1" lang="zh-CN" sz="2200" spc="-1" strike="noStrike">
                <a:solidFill>
                  <a:srgbClr val="cc3300"/>
                </a:solidFill>
                <a:latin typeface="Arial"/>
                <a:ea typeface="黑体"/>
              </a:rPr>
              <a:t>速度、容量和可靠性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Arial"/>
                <a:ea typeface="黑体"/>
              </a:rPr>
              <a:t>光存储器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E3E-4758-4B61-9E28-394BFF60BAB6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九章  输入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出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3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560" y="764640"/>
            <a:ext cx="8829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系统的功能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接口的职能、结构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996633"/>
                </a:solidFill>
                <a:latin typeface="Arial"/>
                <a:ea typeface="黑体"/>
              </a:rPr>
              <a:t>职能：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数据缓冲、状态记录、设备控制、数据格式转换、通信控制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996633"/>
                </a:solidFill>
                <a:latin typeface="Arial"/>
                <a:ea typeface="黑体"/>
              </a:rPr>
              <a:t>结构：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数据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、状态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控制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、译码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控制电路、与设备侧的接口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设备的寻址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6633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996633"/>
                </a:solidFill>
                <a:latin typeface="Arial"/>
                <a:ea typeface="黑体"/>
              </a:rPr>
              <a:t>端口的概念：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接口中的各种寄存器（数据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、状态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/ 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控制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R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996633"/>
                </a:solidFill>
                <a:latin typeface="Arial"/>
                <a:ea typeface="黑体"/>
              </a:rPr>
              <a:t>编址方式 </a:t>
            </a:r>
            <a:r>
              <a:rPr b="1" lang="en-US" sz="1900" spc="-1" strike="noStrike">
                <a:solidFill>
                  <a:srgbClr val="996633"/>
                </a:solidFill>
                <a:latin typeface="Arial"/>
                <a:ea typeface="黑体"/>
              </a:rPr>
              <a:t>: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 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独立编址（与主存空间分别编号）：有专门的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指令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统一编址 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(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与主存空间统一编号，也称存储器映射方式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：没有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指令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 </a:t>
            </a:r>
            <a:r>
              <a:rPr b="1" lang="zh-CN" sz="1900" spc="-1" strike="noStrike">
                <a:solidFill>
                  <a:srgbClr val="402000"/>
                </a:solidFill>
                <a:latin typeface="Arial"/>
                <a:ea typeface="黑体"/>
              </a:rPr>
              <a:t>输入输出方式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程序直接控制方式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中断控制方式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DMA</a:t>
            </a:r>
            <a:r>
              <a:rPr b="1" lang="en-US" sz="1900" spc="-1" strike="noStrike">
                <a:solidFill>
                  <a:srgbClr val="4c57e6"/>
                </a:solidFill>
                <a:latin typeface="Arial"/>
                <a:ea typeface="黑体"/>
              </a:rPr>
              <a:t>（</a:t>
            </a:r>
            <a:r>
              <a:rPr b="1" lang="zh-CN" sz="1900" spc="-1" strike="noStrike">
                <a:solidFill>
                  <a:srgbClr val="4c57e6"/>
                </a:solidFill>
                <a:latin typeface="Arial"/>
                <a:ea typeface="黑体"/>
              </a:rPr>
              <a:t>直接存储器访问方式）</a:t>
            </a:r>
            <a:endParaRPr b="0" lang="en-US" sz="19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22F6-5040-4843-8D05-C8DF525B7B46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九章  输入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出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4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1640" y="931680"/>
            <a:ext cx="858204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程序直接控制方式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软件方式：查询程序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通过程序直接读取外设的状态来控制外设的输入输出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控制方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通过外设主动申请“中断”来调用中断处理程序完成输入输出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的职能之一：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和外设并行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另外：处理外设特殊事件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过程：中断响应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硬件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和 中断处理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软件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响应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2228d"/>
                </a:solidFill>
                <a:latin typeface="Arial"/>
                <a:ea typeface="黑体"/>
              </a:rPr>
              <a:t>条件：开中断、有未被屏蔽中断请求、一条指令执行结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2228d"/>
                </a:solidFill>
                <a:latin typeface="Arial"/>
                <a:ea typeface="黑体"/>
              </a:rPr>
              <a:t>动作：关中断、保护断点和机器状态、查询中断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查询中断源：软件方式和硬件方式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菊花链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/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并行判优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向量中断：由判优线路得到中断类型号，进而得到中断向量的地址，从中取出中断向量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(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服务程序首地址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处理：中断服务程序由准备、处理、恢复三阶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多重中断：中断处理过程中发生新的中断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249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中断优先级：中断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响应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优先级和中断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处理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优先级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152-58FD-4A07-B77F-0BD369DE4F9B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九章  输入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出系统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5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540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  <a:ea typeface="黑体"/>
              </a:rPr>
              <a:t>DMA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  <a:ea typeface="黑体"/>
              </a:rPr>
              <a:t>（</a:t>
            </a:r>
            <a:r>
              <a:rPr b="1" lang="zh-CN" sz="1800" spc="-1" strike="noStrike">
                <a:solidFill>
                  <a:srgbClr val="402000"/>
                </a:solidFill>
                <a:latin typeface="Arial"/>
                <a:ea typeface="黑体"/>
              </a:rPr>
              <a:t>直接存储器访问方式）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通过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控制器在高速设备与主存间直接进行成批数据传送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方式下的</a:t>
            </a: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过程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控制器初始化：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软件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( CPU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执行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I/O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操作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) 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来完成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      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黑体"/>
              </a:rPr>
              <a:t>设置传送参数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黑体"/>
              </a:rPr>
              <a:t>内存地址、数据数、设备地址、方向等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黑体"/>
              </a:rPr>
              <a:t>、发启动命令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数据传送：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由硬件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(DMA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控制器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) 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控制传送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(CPU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执行其他用户程序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后处理：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通过“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传送结束”中断进行相应处理，即由软件（中断服务程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序）来实现数据校验等工作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57e6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传送的三种方式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黑体"/>
              </a:rPr>
              <a:t>CPU</a:t>
            </a: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停止法：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控制器一直占用总线，直到一批数据传送完毕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周期挪用法：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每传送一个数据就申请一次总线，挪用一个存储周期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交替访问法：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每个存储周期分时被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CPU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和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黑体"/>
              </a:rPr>
              <a:t>DMA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黑体"/>
              </a:rPr>
              <a:t>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c57e6"/>
                </a:solidFill>
                <a:latin typeface="Arial"/>
                <a:ea typeface="黑体"/>
              </a:rPr>
              <a:t>与中断方式的区别</a:t>
            </a:r>
            <a:endParaRPr b="0" lang="en-US" sz="1800" spc="-1" strike="noStrike">
              <a:solidFill>
                <a:srgbClr val="4c57e6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数据传送的执行者不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请求的对象不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响应的时间点不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适用的设备不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337"/>
              </a:spcBef>
              <a:buClr>
                <a:srgbClr val="5378d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外设与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黑体"/>
              </a:rPr>
              <a:t>CPU</a:t>
            </a:r>
            <a:r>
              <a:rPr b="1" lang="zh-CN" sz="1800" spc="-1" strike="noStrike">
                <a:solidFill>
                  <a:srgbClr val="996633"/>
                </a:solidFill>
                <a:latin typeface="Arial"/>
                <a:ea typeface="黑体"/>
              </a:rPr>
              <a:t>的并行程度不同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2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2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2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2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F26-2BE8-47CE-9D17-C9378A4528FB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00280" y="228240"/>
            <a:ext cx="818352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d3333"/>
                </a:solidFill>
                <a:latin typeface="Arial"/>
              </a:rPr>
              <a:t>回顾：如何学（复习）好本课程？</a:t>
            </a:r>
            <a:endParaRPr b="0" lang="en-US" sz="36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936720"/>
            <a:ext cx="8686800" cy="542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Times New Roman"/>
                <a:ea typeface="黑体"/>
              </a:rPr>
              <a:t>本课程特点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不利点：抽象、繁琐、面广、与其他课程关联度高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有利点：清澈见底（没有黑箱，只要想明白一定能明白）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marL="203040" indent="-203040">
              <a:spcBef>
                <a:spcPts val="41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2000"/>
                </a:solidFill>
                <a:latin typeface="Times New Roman"/>
                <a:ea typeface="黑体"/>
              </a:rPr>
              <a:t>学习要领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站在系统的高度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   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从程序员视角想问题，由粗到细建立系统整体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运用联系的观点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   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关注软件和硬件的关联、本课程与其他课程的关联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试图去</a:t>
            </a:r>
            <a:r>
              <a:rPr b="1" lang="zh-CN" sz="2200" spc="-1" strike="noStrike">
                <a:solidFill>
                  <a:srgbClr val="b3110d"/>
                </a:solidFill>
                <a:latin typeface="Times New Roman"/>
                <a:ea typeface="黑体"/>
              </a:rPr>
              <a:t>理解</a:t>
            </a: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概念而不是死记硬背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   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前后概念串起来理解，抓主干（细节为主干服务）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多练习和动手实践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   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作业自己独立完成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-190440">
              <a:spcBef>
                <a:spcPts val="414"/>
              </a:spcBef>
              <a:buClr>
                <a:srgbClr val="5378d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c57e6"/>
                </a:solidFill>
                <a:latin typeface="Times New Roman"/>
                <a:ea typeface="黑体"/>
              </a:rPr>
              <a:t>上课听讲非常重要，有问题及时解决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  <a:p>
            <a:pPr lvl="1" marL="6858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   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不来上课而</a:t>
            </a:r>
            <a:r>
              <a:rPr b="1" lang="zh-CN" sz="2200" spc="-1" strike="noStrike">
                <a:solidFill>
                  <a:srgbClr val="008000"/>
                </a:solidFill>
                <a:latin typeface="宋体"/>
                <a:ea typeface="黑体"/>
              </a:rPr>
              <a:t>“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挂科</a:t>
            </a:r>
            <a:r>
              <a:rPr b="1" lang="zh-CN" sz="2200" spc="-1" strike="noStrike">
                <a:solidFill>
                  <a:srgbClr val="008000"/>
                </a:solidFill>
                <a:latin typeface="宋体"/>
                <a:ea typeface="黑体"/>
              </a:rPr>
              <a:t>”</a:t>
            </a:r>
            <a:r>
              <a:rPr b="1" lang="zh-CN" sz="2200" spc="-1" strike="noStrike">
                <a:solidFill>
                  <a:srgbClr val="008000"/>
                </a:solidFill>
                <a:latin typeface="Times New Roman"/>
                <a:ea typeface="黑体"/>
              </a:rPr>
              <a:t>一定是你的责任！</a:t>
            </a:r>
            <a:endParaRPr b="0" lang="en-US" sz="22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8183-2492-4938-8B9E-7962F21F139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31480"/>
            <a:ext cx="8534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预祝大家考试顺利！</a:t>
            </a:r>
            <a:endParaRPr b="0" lang="en-US" sz="50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F0A5-9DC5-42DC-9E87-87868475BCEE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在本课程中学到了哪些？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57240" y="960480"/>
            <a:ext cx="4922640" cy="5821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46240" y="856800"/>
            <a:ext cx="4311720" cy="59245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  <a:ea typeface="黑体"/>
              </a:rPr>
              <a:t>为使计算机能执行类似程序，必须解决哪些问题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1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如何将其转换成机器代码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编译（解释）、链接、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……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2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机器代码如何表示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H5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：指令系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3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机器代码如何存放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H4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：存储器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4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机器代码如何被执行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H6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、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7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：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PU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（数据通路和控制器）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5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数据如何表示和运算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H2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、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3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6. 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信息如何输入</a:t>
            </a:r>
            <a:r>
              <a:rPr b="1" lang="en-US" sz="2200" spc="-1" strike="noStrike">
                <a:solidFill>
                  <a:srgbClr val="3003d7"/>
                </a:solidFill>
                <a:latin typeface="Arial"/>
                <a:ea typeface="黑体"/>
              </a:rPr>
              <a:t>/</a:t>
            </a: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输出？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003d7"/>
                </a:solidFill>
                <a:latin typeface="Arial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CH8</a:t>
            </a:r>
            <a:r>
              <a:rPr b="1" lang="zh-CN" sz="2200" spc="-1" strike="noStrike">
                <a:solidFill>
                  <a:srgbClr val="009900"/>
                </a:solidFill>
                <a:latin typeface="Arial"/>
                <a:ea typeface="黑体"/>
              </a:rPr>
              <a:t>、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  <a:ea typeface="黑体"/>
              </a:rPr>
              <a:t>9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39CF-B064-405A-A699-D3A4EB2F813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9920" y="199800"/>
            <a:ext cx="766116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d3333"/>
                </a:solidFill>
                <a:latin typeface="Arial"/>
              </a:rPr>
              <a:t>该课程的主要学习内容</a:t>
            </a:r>
            <a:endParaRPr b="0" lang="en-US" sz="3600" spc="-1" strike="noStrike">
              <a:solidFill>
                <a:srgbClr val="cd3333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431640" y="1036800"/>
          <a:ext cx="8348760" cy="46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036800"/>
                    <a:ext cx="83487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4"/>
          <p:cNvSpPr/>
          <p:nvPr/>
        </p:nvSpPr>
        <p:spPr>
          <a:xfrm>
            <a:off x="692280" y="5818320"/>
            <a:ext cx="60642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003d7"/>
                </a:solidFill>
                <a:latin typeface="Arial"/>
                <a:ea typeface="黑体"/>
              </a:rPr>
              <a:t>信息（指令和数据）在计算机中如何表示？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003d7"/>
                </a:solidFill>
                <a:latin typeface="Arial"/>
                <a:ea typeface="黑体"/>
              </a:rPr>
              <a:t>指令系统如何设计？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870120" y="900000"/>
            <a:ext cx="3004920" cy="2377800"/>
            <a:chOff x="870120" y="900000"/>
            <a:chExt cx="3004920" cy="2377800"/>
          </a:xfrm>
        </p:grpSpPr>
        <p:sp>
          <p:nvSpPr>
            <p:cNvPr id="156" name="Rectangle 6"/>
            <p:cNvSpPr/>
            <p:nvPr/>
          </p:nvSpPr>
          <p:spPr>
            <a:xfrm>
              <a:off x="885960" y="1319040"/>
              <a:ext cx="2989080" cy="19587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870120" y="900000"/>
              <a:ext cx="2771640" cy="3988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003d7"/>
                  </a:solidFill>
                  <a:latin typeface="Arial"/>
                  <a:ea typeface="黑体"/>
                </a:rPr>
                <a:t>如何设计功能型</a:t>
              </a:r>
              <a:r>
                <a:rPr b="1" lang="en-US" sz="2000" spc="-1" strike="noStrike">
                  <a:solidFill>
                    <a:srgbClr val="3003d7"/>
                  </a:solidFill>
                  <a:latin typeface="Arial"/>
                  <a:ea typeface="黑体"/>
                </a:rPr>
                <a:t>CPU?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58" name="Group 21"/>
          <p:cNvGrpSpPr/>
          <p:nvPr/>
        </p:nvGrpSpPr>
        <p:grpSpPr>
          <a:xfrm>
            <a:off x="6620040" y="1757520"/>
            <a:ext cx="1538280" cy="1473120"/>
            <a:chOff x="6620040" y="1757520"/>
            <a:chExt cx="1538280" cy="1473120"/>
          </a:xfrm>
        </p:grpSpPr>
        <p:sp>
          <p:nvSpPr>
            <p:cNvPr id="159" name="Rectangle 9"/>
            <p:cNvSpPr/>
            <p:nvPr/>
          </p:nvSpPr>
          <p:spPr>
            <a:xfrm>
              <a:off x="6835680" y="2519640"/>
              <a:ext cx="898560" cy="7110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6620040" y="1757520"/>
              <a:ext cx="1538280" cy="70380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003d7"/>
                  </a:solidFill>
                  <a:latin typeface="Arial"/>
                  <a:ea typeface="黑体"/>
                </a:rPr>
                <a:t>如何设计存储器系统？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1146240" y="4292640"/>
            <a:ext cx="5435640" cy="1473480"/>
            <a:chOff x="1146240" y="4292640"/>
            <a:chExt cx="5435640" cy="1473480"/>
          </a:xfrm>
        </p:grpSpPr>
        <p:sp>
          <p:nvSpPr>
            <p:cNvPr id="162" name="Rectangle 12"/>
            <p:cNvSpPr/>
            <p:nvPr/>
          </p:nvSpPr>
          <p:spPr>
            <a:xfrm>
              <a:off x="1376280" y="4292640"/>
              <a:ext cx="1160640" cy="44928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986200" y="4335480"/>
              <a:ext cx="1290600" cy="420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4" name="Rectangle 14"/>
            <p:cNvSpPr/>
            <p:nvPr/>
          </p:nvSpPr>
          <p:spPr>
            <a:xfrm>
              <a:off x="5291280" y="4334040"/>
              <a:ext cx="1290600" cy="42048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3132000" y="5367240"/>
              <a:ext cx="2279880" cy="3988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003d7"/>
                  </a:solidFill>
                  <a:latin typeface="Arial"/>
                  <a:ea typeface="黑体"/>
                </a:rPr>
                <a:t>如何设计</a:t>
              </a:r>
              <a:r>
                <a:rPr b="1" lang="en-US" sz="2000" spc="-1" strike="noStrike">
                  <a:solidFill>
                    <a:srgbClr val="3003d7"/>
                  </a:solidFill>
                  <a:latin typeface="Arial"/>
                  <a:ea typeface="黑体"/>
                </a:rPr>
                <a:t>I/O?</a:t>
              </a: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1146240" y="4890960"/>
              <a:ext cx="826920" cy="333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7" name="Oval 17"/>
            <p:cNvSpPr/>
            <p:nvPr/>
          </p:nvSpPr>
          <p:spPr>
            <a:xfrm>
              <a:off x="1927080" y="4848120"/>
              <a:ext cx="973440" cy="49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8" name="Oval 18"/>
            <p:cNvSpPr/>
            <p:nvPr/>
          </p:nvSpPr>
          <p:spPr>
            <a:xfrm>
              <a:off x="3219480" y="4873680"/>
              <a:ext cx="842760" cy="390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5484960" y="4876920"/>
              <a:ext cx="942840" cy="811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70" name="Text Box 22"/>
          <p:cNvSpPr/>
          <p:nvPr/>
        </p:nvSpPr>
        <p:spPr>
          <a:xfrm>
            <a:off x="3819600" y="16495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003d7"/>
                </a:solidFill>
                <a:latin typeface="Arial"/>
                <a:ea typeface="黑体"/>
              </a:rPr>
              <a:t>如何设计总线</a:t>
            </a:r>
            <a:r>
              <a:rPr b="1" lang="en-US" sz="2000" spc="-1" strike="noStrike">
                <a:solidFill>
                  <a:srgbClr val="3003d7"/>
                </a:solidFill>
                <a:latin typeface="Arial"/>
                <a:ea typeface="黑体"/>
              </a:rPr>
              <a:t>BUS?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1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3E8-1AFA-4D74-8851-4EC928C028E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229600" cy="58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回顾：课程教学目标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4240" y="955440"/>
            <a:ext cx="7791480" cy="5517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基本目标是什么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ISA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设计原理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硬件设计原理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整机概念的建立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要求掌握的重要知识和能力有哪些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利用硬件知识提高调试程序的能力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（如：数据格式转换、大端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小端方式）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从硬件角度出发编制高效程序的能力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（如：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黑体"/>
              </a:rPr>
              <a:t>Cache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的局部性、函数调用）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OS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和硬件如何分工、如何衔接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（如：异常、中断）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如何从硬件角度出发进行编译优化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（如：流水线调度）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-200880">
              <a:lnSpc>
                <a:spcPct val="105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为后续课程打下坚实基础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008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（如：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黑体"/>
              </a:rPr>
              <a:t>OS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、编译原理、体系结构、微机原理、嵌入式技术等）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19040" y="228600"/>
            <a:ext cx="82296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回顾：课程教学目标</a:t>
            </a:r>
            <a:endParaRPr b="0" lang="en-US" sz="35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BBA-C403-40D7-9AF8-1B34FDDAFBCE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一章 计算机系统概述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914400"/>
            <a:ext cx="815328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系统的组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硬件子系统：运算器、控制器、存储器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设备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软件子系统：系统软件和应用软件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系统的分层结构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组织和系统结构的概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发展简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冯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·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诺依曼机器结构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储程序”工作方式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系列机（兼容）概念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摩尔定律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的性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U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CPU(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执行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)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时间、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时钟周期、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CPI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MIPS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FLOPS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储器：数据传输率、存储周期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/O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：响应时间、吞吐量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总线：带宽（最大数据传输率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基准程序（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Benchmark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36EE-B80B-46E7-90B3-DCD859124EF6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二章 数据的机器级表示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9920" y="1060200"/>
            <a:ext cx="86360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计算机内部，数、文字、图画、声音、活动图象等均为二进制编码形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数据的类型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分为数值型数据和非数值型数据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数值数据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三要素：进位计数制、定浮点和编码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定点整数：无符号整数和带（有）符号整数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定点整数用补码表示，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nt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型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16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或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32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和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long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型 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(32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或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64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 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浮点数用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IEEE754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标准，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float (32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：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10</a:t>
            </a:r>
            <a:r>
              <a:rPr b="1" lang="en-US" sz="2000" spc="-1" strike="noStrike" baseline="30000">
                <a:solidFill>
                  <a:srgbClr val="4c57e6"/>
                </a:solidFill>
                <a:latin typeface="Arial"/>
                <a:ea typeface="黑体"/>
              </a:rPr>
              <a:t>38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和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double (64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位：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10</a:t>
            </a:r>
            <a:r>
              <a:rPr b="1" lang="en-US" sz="2000" spc="-1" strike="noStrike" baseline="30000">
                <a:solidFill>
                  <a:srgbClr val="4c57e6"/>
                </a:solidFill>
                <a:latin typeface="Arial"/>
                <a:ea typeface="黑体"/>
              </a:rPr>
              <a:t>308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如何表示特殊值：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+∞/-∞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黑体"/>
              </a:rPr>
              <a:t>NaN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（只有浮点数才能表示！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另一种数值表示法为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BCD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码，常用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8421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码表示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定点数范围小，浮点数范围大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非数值数据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逻辑数、西文字符、汉字字符等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常用的数据校验方：奇偶、海明和循环冗余校验三者的基本概念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60280" y="6183360"/>
            <a:ext cx="6634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Arial"/>
                <a:ea typeface="微软雅黑"/>
              </a:rPr>
              <a:t>本章的关键是在程序中的运用！</a:t>
            </a:r>
            <a:endParaRPr b="0" lang="en-US" sz="2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63C-A5CE-4548-858F-38C5D59D46E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三章 运算方法与部件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914040"/>
            <a:ext cx="85219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补码定点数的加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/ 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减法器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在“无符号加法器”加“溢出检测”和“求负”电路：补码加减法器！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定点数的乘、除法器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用“加法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右移”实现乘法、“加法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左移”实现除法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浮点数运算：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用定点数的加、减、乘、除运算实现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加减运算：对阶、尾数加减、规格化、舍入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为保证精度，浮点运算时要增加“保护位”，并考虑“舍入”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所有运算都在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  <a:ea typeface="黑体"/>
              </a:rPr>
              <a:t>ALU</a:t>
            </a:r>
            <a:r>
              <a:rPr b="1" lang="zh-CN" sz="2000" spc="-1" strike="noStrike">
                <a:solidFill>
                  <a:srgbClr val="402000"/>
                </a:solidFill>
                <a:latin typeface="Arial"/>
                <a:ea typeface="黑体"/>
              </a:rPr>
              <a:t>上运行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ALU: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算术逻辑部件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ALU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的运算由专门的来自控制器对指令译码的操作控制端决定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ALU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的核心是“加法器”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5378d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加法器采用“先行进位”方式：引入进位生成和进位传递函数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12120" indent="0">
              <a:lnSpc>
                <a:spcPct val="11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Times New Roman"/>
              </a:rPr>
              <a:t>说明：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N74181</a:t>
            </a:r>
            <a:r>
              <a:rPr b="1" lang="zh-CN" sz="2200" spc="-1" strike="noStrike">
                <a:solidFill>
                  <a:srgbClr val="cc3300"/>
                </a:solidFill>
                <a:latin typeface="Times New Roman"/>
              </a:rPr>
              <a:t>和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N74182</a:t>
            </a:r>
            <a:r>
              <a:rPr b="1" lang="zh-CN" sz="2200" spc="-1" strike="noStrike">
                <a:solidFill>
                  <a:srgbClr val="cc3300"/>
                </a:solidFill>
                <a:latin typeface="Times New Roman"/>
              </a:rPr>
              <a:t>芯片不需要掌握。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748560" y="231840"/>
            <a:ext cx="2295360" cy="11995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最基本的电路是：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d3333"/>
                </a:solidFill>
                <a:latin typeface="Arial"/>
                <a:ea typeface="黑体"/>
              </a:rPr>
              <a:t>无符号数加法器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d3333"/>
                </a:solidFill>
                <a:latin typeface="Arial"/>
                <a:ea typeface="黑体"/>
              </a:rPr>
              <a:t>移位器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3"/>
          <p:cNvSpPr/>
          <p:nvPr/>
        </p:nvSpPr>
        <p:spPr>
          <a:xfrm>
            <a:off x="68580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14E-ABA2-48F5-B304-28958CEFAECA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第四章 存储器分层结构（</a:t>
            </a:r>
            <a:r>
              <a:rPr b="1" lang="en-US" sz="3500" spc="-1" strike="noStrike">
                <a:solidFill>
                  <a:srgbClr val="cd3333"/>
                </a:solidFill>
                <a:latin typeface="Arial"/>
              </a:rPr>
              <a:t>1</a:t>
            </a:r>
            <a:r>
              <a:rPr b="1" lang="zh-CN" sz="3500" spc="-1" strike="noStrike">
                <a:solidFill>
                  <a:srgbClr val="cd3333"/>
                </a:solidFill>
                <a:latin typeface="Arial"/>
              </a:rPr>
              <a:t>）</a:t>
            </a:r>
            <a:endParaRPr b="0" lang="en-US" sz="3500" spc="-1" strike="noStrike">
              <a:solidFill>
                <a:srgbClr val="cd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5880" y="1060200"/>
            <a:ext cx="8708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  <a:ea typeface="黑体"/>
              </a:rPr>
              <a:t>基本术语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存储单元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MAR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MBR(MDR)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编址单位、地址空间、地址位数、易失性、随机访问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ROM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RAM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存取时间、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存储周期、数据传输率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5378df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  <a:ea typeface="黑体"/>
              </a:rPr>
              <a:t>半导体随机访问存储器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静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RAM(SRAM) </a:t>
            </a:r>
            <a:r>
              <a:rPr b="1" lang="zh-CN" sz="2000" spc="-1" strike="noStrike">
                <a:solidFill>
                  <a:srgbClr val="4c57e6"/>
                </a:solidFill>
                <a:latin typeface="Arial"/>
                <a:ea typeface="黑体"/>
              </a:rPr>
              <a:t>和 动态</a:t>
            </a:r>
            <a:r>
              <a:rPr b="1" lang="en-US" sz="2000" spc="-1" strike="noStrike">
                <a:solidFill>
                  <a:srgbClr val="4c57e6"/>
                </a:solidFill>
                <a:latin typeface="Arial"/>
                <a:ea typeface="黑体"/>
              </a:rPr>
              <a:t>RAM(DRAM)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记忆单元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–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存储芯片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–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存储模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内存条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) –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存储器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字片式与位片式：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DRAM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：再生与刷新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DRAM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用作主存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SRAM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用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黑体"/>
              </a:rPr>
              <a:t>Cache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只读存储器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5378d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多模块交叉存储器</a:t>
            </a:r>
            <a:endParaRPr b="0" lang="en-US" sz="2000" spc="-1" strike="noStrike">
              <a:solidFill>
                <a:srgbClr val="4c57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10:27:11Z</dcterms:created>
  <dc:creator>cfyuan</dc:creator>
  <dc:description/>
  <dc:language>en-US</dc:language>
  <cp:lastModifiedBy>Aimin Feng</cp:lastModifiedBy>
  <cp:lastPrinted>2000-05-25T00:03:54Z</cp:lastPrinted>
  <dcterms:modified xsi:type="dcterms:W3CDTF">2014-06-11T07:12:16Z</dcterms:modified>
  <cp:revision>417</cp:revision>
  <dc:subject/>
  <dc:title>第九章 指令系统：指令结构和操作数</dc:title>
</cp:coreProperties>
</file>